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30B-BD20-4A1F-A76F-B338D598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6A6-643D-4932-9001-C8ECE86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F87-D257-491D-9F4C-04409558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581-1718-4708-B1B9-E4ECC7E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E239-3554-4F61-BEF6-C7B336BA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1DC4-1487-426A-82D8-4E6981B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FE1E-B48C-47D5-B3BC-3B35024D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91AC-0A88-4A88-A07A-D0F6023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96D9-E66B-4B53-AF0E-4047121F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E480-2900-4AC3-8032-C9288D55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B9FC-076E-47E8-A55F-DA9C11E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221-FE6D-4BE3-A875-10CE6393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6F3-167E-4897-AB06-00C12ED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A3D-DA49-4B2A-AD7D-76ACD02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0A9-45D8-48B2-85E3-32724770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474-46F5-4BBD-B204-8F31C97F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CF8F-2AFB-4CB6-A76B-BE536A9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267-275D-4D35-A991-9AEF2C8F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B1D-F736-4B63-A540-2C23D77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F8F-F9B1-40A9-B8E5-A7BDCDD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16E-4113-443B-A810-D1524889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D03-307E-4406-A14D-CC04D4D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50D-1FAE-4F8A-96AD-C06F2C6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8EC-68DC-499A-BC05-02EFBA2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6811-FAB8-4A7B-9DB8-972BED6132E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5EB-8305-4161-B3AD-1313F79F44B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Gulim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925800"/>
            <a:ext cx="1692360" cy="1447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     </a:t>
            </a:r>
            <a:r>
              <a:rPr b="1" lang="en-US" sz="7200" spc="-1" strike="noStrike">
                <a:solidFill>
                  <a:srgbClr val="cc3300"/>
                </a:solidFill>
                <a:latin typeface="좋은 귀염둥이빼로"/>
                <a:ea typeface="좋은 귀염둥이빼로"/>
              </a:rPr>
              <a:t>Test</a:t>
            </a:r>
            <a:endParaRPr b="1" lang="en-US" sz="7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0920" y="4437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좋은 귀염둥이빼로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90120" y="18900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Y얕은샘물M"/>
                <a:ea typeface="HY얕은샘물M"/>
              </a:rPr>
              <a:t>温馨的</a:t>
            </a:r>
            <a:r>
              <a:rPr b="0" lang="zh-CN" sz="4000" spc="-1" strike="noStrike">
                <a:solidFill>
                  <a:srgbClr val="000000"/>
                </a:solidFill>
                <a:latin typeface="HY얕은샘물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HY얕은샘물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좋은 귀염둥이빼로"/>
                <a:ea typeface="좋은 귀염둥이빼로"/>
              </a:rPr>
              <a:t>111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92000" y="3715920"/>
            <a:ext cx="4464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좋은 귀염둥이빼로"/>
                <a:ea typeface="좋은 귀염둥이빼로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170028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좋은 귀염둥이빼로"/>
                <a:ea typeface="좋은 귀염둥이빼로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120" y="3472560"/>
            <a:ext cx="1825920" cy="1843200"/>
            <a:chOff x="1212120" y="3472560"/>
            <a:chExt cx="1825920" cy="1843200"/>
          </a:xfrm>
        </p:grpSpPr>
        <p:sp>
          <p:nvSpPr>
            <p:cNvPr id="148" name=""/>
            <p:cNvSpPr/>
            <p:nvPr/>
          </p:nvSpPr>
          <p:spPr>
            <a:xfrm rot="3418800">
              <a:off x="1447200" y="3745440"/>
              <a:ext cx="1355400" cy="12967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a5175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77353" dir="56247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11520" y="3932640"/>
              <a:ext cx="5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A</a:t>
              </a:r>
              <a:r>
                <a:rPr b="1" lang="en-US" sz="2400" spc="-1" strike="noStrike">
                  <a:solidFill>
                    <a:srgbClr val="ffff99"/>
                  </a:solidFill>
                  <a:latin typeface="좋은 귀염둥이빼로"/>
                  <a:ea typeface="좋은 귀염둥이빼로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18480600">
            <a:off x="1331640" y="3685680"/>
            <a:ext cx="3571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620720" y="2139840"/>
            <a:ext cx="5913000" cy="2308320"/>
            <a:chOff x="1620720" y="2139840"/>
            <a:chExt cx="5913000" cy="2308320"/>
          </a:xfrm>
        </p:grpSpPr>
        <p:sp>
          <p:nvSpPr>
            <p:cNvPr id="152" name=""/>
            <p:cNvSpPr/>
            <p:nvPr/>
          </p:nvSpPr>
          <p:spPr>
            <a:xfrm>
              <a:off x="162072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36360" y="2219040"/>
              <a:ext cx="2097000" cy="221148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6000" y="2139840"/>
              <a:ext cx="625320" cy="230832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0360" y="1125360"/>
            <a:ext cx="4266720" cy="1093320"/>
            <a:chOff x="2430360" y="1125360"/>
            <a:chExt cx="4266720" cy="1093320"/>
          </a:xfrm>
        </p:grpSpPr>
        <p:grpSp>
          <p:nvGrpSpPr>
            <p:cNvPr id="156" name=""/>
            <p:cNvGrpSpPr/>
            <p:nvPr/>
          </p:nvGrpSpPr>
          <p:grpSpPr>
            <a:xfrm>
              <a:off x="2430360" y="1125360"/>
              <a:ext cx="4266720" cy="1093320"/>
              <a:chOff x="2430360" y="1125360"/>
              <a:chExt cx="4266720" cy="1093320"/>
            </a:xfrm>
          </p:grpSpPr>
          <p:sp>
            <p:nvSpPr>
              <p:cNvPr id="157" name=""/>
              <p:cNvSpPr/>
              <p:nvPr/>
            </p:nvSpPr>
            <p:spPr>
              <a:xfrm>
                <a:off x="2430360" y="1125360"/>
                <a:ext cx="4266720" cy="109332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93000" y="1218240"/>
                <a:ext cx="4132440" cy="9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2400"/>
                  </a:gs>
                  <a:gs pos="50000">
                    <a:srgbClr val="cc3300">
                      <a:alpha val="90196"/>
                    </a:srgbClr>
                  </a:gs>
                  <a:gs pos="100000">
                    <a:srgbClr val="932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782800" y="1470960"/>
              <a:ext cx="3557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56120" y="5632920"/>
            <a:ext cx="1321200" cy="531720"/>
            <a:chOff x="1356120" y="5632920"/>
            <a:chExt cx="1321200" cy="531720"/>
          </a:xfrm>
        </p:grpSpPr>
        <p:grpSp>
          <p:nvGrpSpPr>
            <p:cNvPr id="161" name=""/>
            <p:cNvGrpSpPr/>
            <p:nvPr/>
          </p:nvGrpSpPr>
          <p:grpSpPr>
            <a:xfrm>
              <a:off x="1590480" y="5636160"/>
              <a:ext cx="1086840" cy="508320"/>
              <a:chOff x="1590480" y="5636160"/>
              <a:chExt cx="1086840" cy="508320"/>
            </a:xfrm>
          </p:grpSpPr>
          <p:sp>
            <p:nvSpPr>
              <p:cNvPr id="162" name=""/>
              <p:cNvSpPr/>
              <p:nvPr/>
            </p:nvSpPr>
            <p:spPr>
              <a:xfrm flipH="1" flipV="1" rot="3964800">
                <a:off x="2172240" y="549756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 rot="4780200">
                <a:off x="2049840" y="554544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 rot="5076000">
                <a:off x="1975320" y="5553720"/>
                <a:ext cx="20808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 rot="5608200">
                <a:off x="1884600" y="5560200"/>
                <a:ext cx="208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356120" y="5632920"/>
              <a:ext cx="1083600" cy="531720"/>
              <a:chOff x="1356120" y="5632920"/>
              <a:chExt cx="1083600" cy="531720"/>
            </a:xfrm>
          </p:grpSpPr>
          <p:sp>
            <p:nvSpPr>
              <p:cNvPr id="167" name=""/>
              <p:cNvSpPr/>
              <p:nvPr/>
            </p:nvSpPr>
            <p:spPr>
              <a:xfrm flipH="1" flipV="1" rot="5317800">
                <a:off x="1939680" y="555768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 rot="6133800">
                <a:off x="1809000" y="5556240"/>
                <a:ext cx="2088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 rot="6429000">
                <a:off x="1735920" y="55350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 rot="6961200">
                <a:off x="1649880" y="5506200"/>
                <a:ext cx="2088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 rot="5400000">
            <a:off x="586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324240"/>
            <a:ext cx="2448000" cy="55404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332136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324240"/>
            <a:ext cx="2448000" cy="47628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6058080" y="3399480"/>
            <a:ext cx="2787840" cy="259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440" y="3324240"/>
            <a:ext cx="2448000" cy="4762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328464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좋은 귀염둥이빼로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97080" y="241632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0080" y="293040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00360" y="3645000"/>
            <a:ext cx="244620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2276640"/>
            <a:ext cx="2303280" cy="1152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11280" y="3933720"/>
            <a:ext cx="2841840" cy="1224000"/>
          </a:xfrm>
          <a:prstGeom prst="line">
            <a:avLst/>
          </a:prstGeom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1680" y="4016520"/>
            <a:ext cx="2055960" cy="7808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11680" y="2492280"/>
            <a:ext cx="1768680" cy="106704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8360" y="332100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021040" y="1484280"/>
            <a:ext cx="1167120" cy="1175400"/>
            <a:chOff x="2021040" y="1484280"/>
            <a:chExt cx="1167120" cy="1175400"/>
          </a:xfrm>
        </p:grpSpPr>
        <p:sp>
          <p:nvSpPr>
            <p:cNvPr id="190" name=""/>
            <p:cNvSpPr/>
            <p:nvPr/>
          </p:nvSpPr>
          <p:spPr>
            <a:xfrm>
              <a:off x="2021040" y="1484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055600" y="1520640"/>
              <a:ext cx="1118520" cy="1139040"/>
              <a:chOff x="2055600" y="1520640"/>
              <a:chExt cx="1118520" cy="113904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5600" y="152064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055600" y="1520640"/>
                <a:ext cx="107928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066040" y="156564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5" name=""/>
              <p:cNvGrpSpPr/>
              <p:nvPr/>
            </p:nvGrpSpPr>
            <p:grpSpPr>
              <a:xfrm>
                <a:off x="2405880" y="1958040"/>
                <a:ext cx="768240" cy="701640"/>
                <a:chOff x="2405880" y="1958040"/>
                <a:chExt cx="768240" cy="701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2582640" y="1958040"/>
                  <a:ext cx="591480" cy="694440"/>
                  <a:chOff x="2582640" y="1958040"/>
                  <a:chExt cx="591480" cy="6944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flipV="1" rot="1528800">
                    <a:off x="2912760" y="19598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 rot="2344200">
                    <a:off x="2867040" y="2044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 rot="2640000">
                    <a:off x="2829960" y="2086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 rot="3172200">
                    <a:off x="2784240" y="21337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2405880" y="2149920"/>
                  <a:ext cx="743760" cy="509760"/>
                  <a:chOff x="2405880" y="2149920"/>
                  <a:chExt cx="743760" cy="5097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flipV="1" rot="2881800">
                    <a:off x="2817360" y="21060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3697200">
                    <a:off x="2743200" y="21664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3993000">
                    <a:off x="2692800" y="2191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flipV="1" rot="4525200">
                    <a:off x="2632680" y="2217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"/>
            <p:cNvGrpSpPr/>
            <p:nvPr/>
          </p:nvGrpSpPr>
          <p:grpSpPr>
            <a:xfrm>
              <a:off x="2511000" y="1985760"/>
              <a:ext cx="677160" cy="617760"/>
              <a:chOff x="2511000" y="1985760"/>
              <a:chExt cx="677160" cy="617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666880" y="1985760"/>
                <a:ext cx="521280" cy="611640"/>
                <a:chOff x="2666880" y="1985760"/>
                <a:chExt cx="521280" cy="611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1528800">
                  <a:off x="2956320" y="198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2344200">
                  <a:off x="2917800" y="206208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2640000">
                  <a:off x="2885400" y="2098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3172200">
                  <a:off x="2844720" y="21402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511000" y="2154240"/>
                <a:ext cx="654120" cy="449280"/>
                <a:chOff x="2511000" y="2154240"/>
                <a:chExt cx="654120" cy="449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 flipV="1" rot="2881800">
                  <a:off x="2872080" y="211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3697200">
                  <a:off x="2807280" y="217044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3993000">
                  <a:off x="2763360" y="21909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 rot="4525200">
                  <a:off x="2710080" y="221508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2522160" y="17604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835280" y="3068640"/>
            <a:ext cx="1167120" cy="1175400"/>
            <a:chOff x="1835280" y="3068640"/>
            <a:chExt cx="1167120" cy="1175400"/>
          </a:xfrm>
        </p:grpSpPr>
        <p:sp>
          <p:nvSpPr>
            <p:cNvPr id="219" name=""/>
            <p:cNvSpPr/>
            <p:nvPr/>
          </p:nvSpPr>
          <p:spPr>
            <a:xfrm>
              <a:off x="1835280" y="3068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869840" y="3105000"/>
              <a:ext cx="1118520" cy="1139040"/>
              <a:chOff x="1869840" y="3105000"/>
              <a:chExt cx="1118520" cy="1139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9840" y="310500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1869840" y="3105000"/>
                <a:ext cx="107928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80280" y="315000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4" name=""/>
              <p:cNvGrpSpPr/>
              <p:nvPr/>
            </p:nvGrpSpPr>
            <p:grpSpPr>
              <a:xfrm>
                <a:off x="2220120" y="3542400"/>
                <a:ext cx="768240" cy="701640"/>
                <a:chOff x="2220120" y="3542400"/>
                <a:chExt cx="768240" cy="70164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2396880" y="3542400"/>
                  <a:ext cx="591480" cy="694440"/>
                  <a:chOff x="2396880" y="3542400"/>
                  <a:chExt cx="591480" cy="6944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flipH="1" flipV="1" rot="1528800">
                    <a:off x="2727000" y="3544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 rot="2344200">
                    <a:off x="2681280" y="3628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flipV="1" rot="2640000">
                    <a:off x="2644200" y="3670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flipV="1" rot="3172200">
                    <a:off x="2598480" y="3718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220120" y="3734280"/>
                  <a:ext cx="743760" cy="509760"/>
                  <a:chOff x="2220120" y="3734280"/>
                  <a:chExt cx="743760" cy="509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flipV="1" rot="2881800">
                    <a:off x="2631600" y="3690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3697200">
                    <a:off x="2557440" y="3750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flipV="1" rot="3993000">
                    <a:off x="2507040" y="3775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flipV="1" rot="4525200">
                    <a:off x="2446920" y="3802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5" name=""/>
            <p:cNvGrpSpPr/>
            <p:nvPr/>
          </p:nvGrpSpPr>
          <p:grpSpPr>
            <a:xfrm>
              <a:off x="2325240" y="3570120"/>
              <a:ext cx="677160" cy="617760"/>
              <a:chOff x="2325240" y="3570120"/>
              <a:chExt cx="677160" cy="61776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481120" y="3570120"/>
                <a:ext cx="521280" cy="611640"/>
                <a:chOff x="2481120" y="3570120"/>
                <a:chExt cx="521280" cy="61164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1528800">
                  <a:off x="2770560" y="3571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2344200">
                  <a:off x="2732040" y="364644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2640000">
                  <a:off x="2699640" y="3682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3172200">
                  <a:off x="2658960" y="3724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325240" y="3738600"/>
                <a:ext cx="654120" cy="449280"/>
                <a:chOff x="2325240" y="3738600"/>
                <a:chExt cx="654120" cy="449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2881800">
                  <a:off x="2686320" y="3700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3697200">
                  <a:off x="2621520" y="375480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3993000">
                  <a:off x="2577600" y="37753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4525200">
                  <a:off x="2524320" y="379944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2325600" y="33940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021040" y="4653000"/>
            <a:ext cx="1167120" cy="1175400"/>
            <a:chOff x="2021040" y="4653000"/>
            <a:chExt cx="1167120" cy="1175400"/>
          </a:xfrm>
        </p:grpSpPr>
        <p:sp>
          <p:nvSpPr>
            <p:cNvPr id="248" name=""/>
            <p:cNvSpPr/>
            <p:nvPr/>
          </p:nvSpPr>
          <p:spPr>
            <a:xfrm>
              <a:off x="2021040" y="4653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055600" y="4689360"/>
              <a:ext cx="1118520" cy="1139040"/>
              <a:chOff x="2055600" y="4689360"/>
              <a:chExt cx="1118520" cy="1139040"/>
            </a:xfrm>
          </p:grpSpPr>
          <p:pic>
            <p:nvPicPr>
              <p:cNvPr id="2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689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055600" y="4689360"/>
                <a:ext cx="1079280" cy="1085760"/>
              </a:xfrm>
              <a:prstGeom prst="ellipse">
                <a:avLst/>
              </a:prstGeom>
              <a:solidFill>
                <a:srgbClr val="ff61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066040" y="4734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"/>
              <p:cNvGrpSpPr/>
              <p:nvPr/>
            </p:nvGrpSpPr>
            <p:grpSpPr>
              <a:xfrm>
                <a:off x="2405880" y="5126760"/>
                <a:ext cx="768240" cy="701640"/>
                <a:chOff x="2405880" y="5126760"/>
                <a:chExt cx="768240" cy="7016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2582640" y="5126760"/>
                  <a:ext cx="591480" cy="694440"/>
                  <a:chOff x="2582640" y="5126760"/>
                  <a:chExt cx="591480" cy="694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 flipV="1" rot="1528800">
                    <a:off x="2912760" y="5128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 flipV="1" rot="2344200">
                    <a:off x="2867040" y="5213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flipV="1" rot="2640000">
                    <a:off x="2829960" y="5254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 rot="3172200">
                    <a:off x="2784240" y="5302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405880" y="5318640"/>
                  <a:ext cx="743760" cy="509760"/>
                  <a:chOff x="2405880" y="5318640"/>
                  <a:chExt cx="743760" cy="5097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flipV="1" rot="2881800">
                    <a:off x="2817360" y="5274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3697200">
                    <a:off x="2743200" y="5335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 rot="3993000">
                    <a:off x="2692800" y="5360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 rot="4525200">
                    <a:off x="2632680" y="5386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" name=""/>
            <p:cNvGrpSpPr/>
            <p:nvPr/>
          </p:nvGrpSpPr>
          <p:grpSpPr>
            <a:xfrm>
              <a:off x="2511000" y="5154480"/>
              <a:ext cx="677160" cy="617760"/>
              <a:chOff x="2511000" y="5154480"/>
              <a:chExt cx="677160" cy="6177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2666880" y="5154480"/>
                <a:ext cx="521280" cy="611640"/>
                <a:chOff x="2666880" y="5154480"/>
                <a:chExt cx="521280" cy="611640"/>
              </a:xfrm>
            </p:grpSpPr>
            <p:sp>
              <p:nvSpPr>
                <p:cNvPr id="266" name=""/>
                <p:cNvSpPr/>
                <p:nvPr/>
              </p:nvSpPr>
              <p:spPr>
                <a:xfrm flipH="1" flipV="1" rot="1528800">
                  <a:off x="2956320" y="5156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2344200">
                  <a:off x="2917800" y="5230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 rot="2640000">
                  <a:off x="2885400" y="5267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3172200">
                  <a:off x="2844720" y="5308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511000" y="5322960"/>
                <a:ext cx="654120" cy="449280"/>
                <a:chOff x="2511000" y="5322960"/>
                <a:chExt cx="654120" cy="44928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flipV="1" rot="2881800">
                  <a:off x="2872080" y="5284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3697200">
                  <a:off x="2807280" y="5339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3993000">
                  <a:off x="2763360" y="5359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4525200">
                  <a:off x="2710080" y="5383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2533320" y="4903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596360" y="4221000"/>
            <a:ext cx="1167120" cy="1175400"/>
            <a:chOff x="7596360" y="4221000"/>
            <a:chExt cx="1167120" cy="1175400"/>
          </a:xfrm>
        </p:grpSpPr>
        <p:sp>
          <p:nvSpPr>
            <p:cNvPr id="277" name=""/>
            <p:cNvSpPr/>
            <p:nvPr/>
          </p:nvSpPr>
          <p:spPr>
            <a:xfrm>
              <a:off x="7596360" y="42210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630920" y="4257360"/>
              <a:ext cx="1118520" cy="1139040"/>
              <a:chOff x="7630920" y="4257360"/>
              <a:chExt cx="1118520" cy="1139040"/>
            </a:xfrm>
          </p:grpSpPr>
          <p:pic>
            <p:nvPicPr>
              <p:cNvPr id="2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0920" y="42573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630920" y="4257360"/>
                <a:ext cx="107928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7641360" y="43023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2" name=""/>
              <p:cNvGrpSpPr/>
              <p:nvPr/>
            </p:nvGrpSpPr>
            <p:grpSpPr>
              <a:xfrm>
                <a:off x="7981200" y="4694760"/>
                <a:ext cx="768240" cy="701640"/>
                <a:chOff x="7981200" y="4694760"/>
                <a:chExt cx="768240" cy="70164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157960" y="4694760"/>
                  <a:ext cx="591480" cy="694440"/>
                  <a:chOff x="8157960" y="4694760"/>
                  <a:chExt cx="591480" cy="6944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flipV="1" rot="1528800">
                    <a:off x="8488080" y="4696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 rot="2344200">
                    <a:off x="8442360" y="4781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 rot="2640000">
                    <a:off x="8405280" y="482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 rot="3172200">
                    <a:off x="8359560" y="4870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981200" y="4886640"/>
                  <a:ext cx="743760" cy="509760"/>
                  <a:chOff x="7981200" y="4886640"/>
                  <a:chExt cx="743760" cy="5097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flipV="1" rot="2881800">
                    <a:off x="8392680" y="4842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3697200">
                    <a:off x="8318520" y="49032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3993000">
                    <a:off x="8268120" y="49280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 rot="4525200">
                    <a:off x="8208000" y="4954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3" name=""/>
            <p:cNvGrpSpPr/>
            <p:nvPr/>
          </p:nvGrpSpPr>
          <p:grpSpPr>
            <a:xfrm>
              <a:off x="8086320" y="4722480"/>
              <a:ext cx="677160" cy="617760"/>
              <a:chOff x="8086320" y="4722480"/>
              <a:chExt cx="677160" cy="6177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8242200" y="4722480"/>
                <a:ext cx="521280" cy="611640"/>
                <a:chOff x="8242200" y="4722480"/>
                <a:chExt cx="521280" cy="6116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 flipV="1" rot="1528800">
                  <a:off x="8531640" y="4724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2344200">
                  <a:off x="8493120" y="4798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2640000">
                  <a:off x="8460720" y="48351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 rot="3172200">
                  <a:off x="8420040" y="4876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8086320" y="4890960"/>
                <a:ext cx="654120" cy="449280"/>
                <a:chOff x="8086320" y="4890960"/>
                <a:chExt cx="654120" cy="44928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2881800">
                  <a:off x="8447400" y="4852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3697200">
                  <a:off x="8382600" y="490716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3993000">
                  <a:off x="8338680" y="49276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4525200">
                  <a:off x="8285400" y="495180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7948440" y="4394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093080" y="1773360"/>
            <a:ext cx="1167120" cy="1175400"/>
            <a:chOff x="7093080" y="1773360"/>
            <a:chExt cx="1167120" cy="1175400"/>
          </a:xfrm>
        </p:grpSpPr>
        <p:sp>
          <p:nvSpPr>
            <p:cNvPr id="306" name=""/>
            <p:cNvSpPr/>
            <p:nvPr/>
          </p:nvSpPr>
          <p:spPr>
            <a:xfrm>
              <a:off x="7093080" y="1773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127640" y="1809720"/>
              <a:ext cx="1118520" cy="1139040"/>
              <a:chOff x="7127640" y="1809720"/>
              <a:chExt cx="1118520" cy="1139040"/>
            </a:xfrm>
          </p:grpSpPr>
          <p:pic>
            <p:nvPicPr>
              <p:cNvPr id="3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7640" y="180972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7127640" y="180972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0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7138080" y="185472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1" name=""/>
              <p:cNvGrpSpPr/>
              <p:nvPr/>
            </p:nvGrpSpPr>
            <p:grpSpPr>
              <a:xfrm>
                <a:off x="7477920" y="2247120"/>
                <a:ext cx="768240" cy="701640"/>
                <a:chOff x="7477920" y="2247120"/>
                <a:chExt cx="768240" cy="70164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7654680" y="2247120"/>
                  <a:ext cx="591480" cy="694440"/>
                  <a:chOff x="7654680" y="2247120"/>
                  <a:chExt cx="591480" cy="6944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 flipV="1" rot="1528800">
                    <a:off x="7984800" y="2248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flipV="1" rot="2344200">
                    <a:off x="7939080" y="2333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flipV="1" rot="2640000">
                    <a:off x="7902000" y="2375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 rot="3172200">
                    <a:off x="7856280" y="2422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477920" y="2439000"/>
                  <a:ext cx="743760" cy="509760"/>
                  <a:chOff x="7477920" y="2439000"/>
                  <a:chExt cx="743760" cy="509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flipV="1" rot="2881800">
                    <a:off x="7889400" y="2395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flipV="1" rot="3697200">
                    <a:off x="7815240" y="2455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 rot="3993000">
                    <a:off x="7764840" y="2480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flipV="1" rot="4525200">
                    <a:off x="7704720" y="2507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2" name=""/>
            <p:cNvGrpSpPr/>
            <p:nvPr/>
          </p:nvGrpSpPr>
          <p:grpSpPr>
            <a:xfrm>
              <a:off x="7583040" y="2274840"/>
              <a:ext cx="677160" cy="617760"/>
              <a:chOff x="7583040" y="2274840"/>
              <a:chExt cx="677160" cy="61776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7738920" y="2274840"/>
                <a:ext cx="521280" cy="611640"/>
                <a:chOff x="7738920" y="2274840"/>
                <a:chExt cx="521280" cy="611640"/>
              </a:xfrm>
            </p:grpSpPr>
            <p:sp>
              <p:nvSpPr>
                <p:cNvPr id="324" name=""/>
                <p:cNvSpPr/>
                <p:nvPr/>
              </p:nvSpPr>
              <p:spPr>
                <a:xfrm flipH="1" flipV="1" rot="1528800">
                  <a:off x="8028360" y="22766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2344200">
                  <a:off x="7989840" y="235116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2640000">
                  <a:off x="7957440" y="23875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 rot="3172200">
                  <a:off x="7916760" y="242928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583040" y="2443320"/>
                <a:ext cx="654120" cy="449280"/>
                <a:chOff x="7583040" y="2443320"/>
                <a:chExt cx="654120" cy="449280"/>
              </a:xfrm>
            </p:grpSpPr>
            <p:sp>
              <p:nvSpPr>
                <p:cNvPr id="329" name=""/>
                <p:cNvSpPr/>
                <p:nvPr/>
              </p:nvSpPr>
              <p:spPr>
                <a:xfrm flipH="1" flipV="1" rot="2881800">
                  <a:off x="7944120" y="2404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3697200">
                  <a:off x="7879320" y="2459520"/>
                  <a:ext cx="12420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3993000">
                  <a:off x="7835400" y="24800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flipV="1" rot="4525200">
                  <a:off x="7782120" y="250416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/>
            <p:nvPr/>
          </p:nvSpPr>
          <p:spPr>
            <a:xfrm>
              <a:off x="7445160" y="19465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Gulim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988160" y="3397320"/>
            <a:ext cx="829080" cy="845280"/>
            <a:chOff x="4988160" y="3397320"/>
            <a:chExt cx="829080" cy="845280"/>
          </a:xfrm>
        </p:grpSpPr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5112000" y="352980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4977000">
              <a:off x="5113080" y="352800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091120" y="3590280"/>
              <a:ext cx="226440" cy="501120"/>
              <a:chOff x="5091120" y="3590280"/>
              <a:chExt cx="226440" cy="5011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097600" y="3683160"/>
                <a:ext cx="219960" cy="408240"/>
                <a:chOff x="5097600" y="3683160"/>
                <a:chExt cx="219960" cy="408240"/>
              </a:xfrm>
            </p:grpSpPr>
            <p:sp>
              <p:nvSpPr>
                <p:cNvPr id="339" name=""/>
                <p:cNvSpPr/>
                <p:nvPr/>
              </p:nvSpPr>
              <p:spPr>
                <a:xfrm flipH="1" flipV="1" rot="8941800">
                  <a:off x="5169600" y="37908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9757200">
                  <a:off x="5145120" y="37472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10053000">
                  <a:off x="5138640" y="371880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10585200">
                  <a:off x="5130720" y="368460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91120" y="3590280"/>
                <a:ext cx="169560" cy="423000"/>
                <a:chOff x="5091120" y="3590280"/>
                <a:chExt cx="169560" cy="4230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 flipV="1" rot="10294800">
                  <a:off x="5132880" y="37065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 rot="11110200">
                  <a:off x="5127840" y="36568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 rot="11406000">
                  <a:off x="5133240" y="3628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11938200">
                  <a:off x="5137920" y="3593880"/>
                  <a:ext cx="7488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 flipH="1" rot="1129200">
              <a:off x="5078880" y="3483360"/>
              <a:ext cx="64656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5268240" y="356040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450720"/>
            <a:ext cx="378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00"/>
              </a:solidFill>
              <a:latin typeface="Arial"/>
              <a:ea typeface="좋은 귀염둥이빼로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68360" y="1916280"/>
            <a:ext cx="647640" cy="648720"/>
            <a:chOff x="468360" y="1916280"/>
            <a:chExt cx="647640" cy="648720"/>
          </a:xfrm>
        </p:grpSpPr>
        <p:sp>
          <p:nvSpPr>
            <p:cNvPr id="352" name=""/>
            <p:cNvSpPr/>
            <p:nvPr/>
          </p:nvSpPr>
          <p:spPr>
            <a:xfrm>
              <a:off x="506520" y="2289960"/>
              <a:ext cx="571320" cy="2750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8360" y="1916280"/>
              <a:ext cx="647640" cy="569160"/>
            </a:xfrm>
            <a:prstGeom prst="rect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fe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8360" y="3017880"/>
            <a:ext cx="647640" cy="626760"/>
            <a:chOff x="468360" y="3017880"/>
            <a:chExt cx="647640" cy="626760"/>
          </a:xfrm>
        </p:grpSpPr>
        <p:sp>
          <p:nvSpPr>
            <p:cNvPr id="355" name=""/>
            <p:cNvSpPr/>
            <p:nvPr/>
          </p:nvSpPr>
          <p:spPr>
            <a:xfrm>
              <a:off x="506520" y="3378960"/>
              <a:ext cx="571320" cy="2656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8360" y="3017880"/>
              <a:ext cx="647640" cy="549720"/>
            </a:xfrm>
            <a:prstGeom prst="rect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dee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" name=""/>
          <p:cNvCxnSpPr>
            <a:stCxn id="352" idx="0"/>
            <a:endCxn id="356" idx="0"/>
          </p:cNvCxnSpPr>
          <p:nvPr/>
        </p:nvCxnSpPr>
        <p:spPr>
          <a:xfrm>
            <a:off x="790560" y="2490840"/>
            <a:ext cx="2160" cy="527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358" name=""/>
          <p:cNvCxnSpPr>
            <a:stCxn id="355" idx="0"/>
            <a:endCxn id="359" idx="0"/>
          </p:cNvCxnSpPr>
          <p:nvPr/>
        </p:nvCxnSpPr>
        <p:spPr>
          <a:xfrm>
            <a:off x="790560" y="3573000"/>
            <a:ext cx="2160" cy="5756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900000" y="2637000"/>
            <a:ext cx="77043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8360" y="4148280"/>
            <a:ext cx="647640" cy="575640"/>
            <a:chOff x="468360" y="4148280"/>
            <a:chExt cx="647640" cy="575640"/>
          </a:xfrm>
        </p:grpSpPr>
        <p:sp>
          <p:nvSpPr>
            <p:cNvPr id="362" name=""/>
            <p:cNvSpPr/>
            <p:nvPr/>
          </p:nvSpPr>
          <p:spPr>
            <a:xfrm>
              <a:off x="506520" y="4479840"/>
              <a:ext cx="571320" cy="2440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8360" y="4148280"/>
              <a:ext cx="647640" cy="505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00" y="3214800"/>
            <a:ext cx="7704000" cy="579240"/>
            <a:chOff x="900000" y="3214800"/>
            <a:chExt cx="7704000" cy="579240"/>
          </a:xfrm>
        </p:grpSpPr>
        <p:sp>
          <p:nvSpPr>
            <p:cNvPr id="364" name=""/>
            <p:cNvSpPr/>
            <p:nvPr/>
          </p:nvSpPr>
          <p:spPr>
            <a:xfrm>
              <a:off x="900000" y="374148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73160" y="32148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900000" y="4294080"/>
            <a:ext cx="7704000" cy="579600"/>
            <a:chOff x="900000" y="4294080"/>
            <a:chExt cx="7704000" cy="579600"/>
          </a:xfrm>
        </p:grpSpPr>
        <p:sp>
          <p:nvSpPr>
            <p:cNvPr id="367" name=""/>
            <p:cNvSpPr/>
            <p:nvPr/>
          </p:nvSpPr>
          <p:spPr>
            <a:xfrm>
              <a:off x="900000" y="4821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73160" y="42940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9" name=""/>
          <p:cNvCxnSpPr>
            <a:endCxn id="370" idx="0"/>
          </p:cNvCxnSpPr>
          <p:nvPr/>
        </p:nvCxnSpPr>
        <p:spPr>
          <a:xfrm flipH="1">
            <a:off x="791640" y="4654440"/>
            <a:ext cx="5760" cy="5040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468360" y="5157720"/>
            <a:ext cx="647640" cy="576360"/>
            <a:chOff x="468360" y="5157720"/>
            <a:chExt cx="647640" cy="576360"/>
          </a:xfrm>
        </p:grpSpPr>
        <p:sp>
          <p:nvSpPr>
            <p:cNvPr id="372" name=""/>
            <p:cNvSpPr/>
            <p:nvPr/>
          </p:nvSpPr>
          <p:spPr>
            <a:xfrm>
              <a:off x="506520" y="5489640"/>
              <a:ext cx="571320" cy="2444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8360" y="5157720"/>
              <a:ext cx="647640" cy="505440"/>
            </a:xfrm>
            <a:prstGeom prst="rect">
              <a:avLst/>
            </a:prstGeom>
            <a:solidFill>
              <a:srgbClr val="81f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28720" y="5297400"/>
            <a:ext cx="7704000" cy="581400"/>
            <a:chOff x="828720" y="5297400"/>
            <a:chExt cx="7704000" cy="581400"/>
          </a:xfrm>
        </p:grpSpPr>
        <p:sp>
          <p:nvSpPr>
            <p:cNvPr id="374" name=""/>
            <p:cNvSpPr/>
            <p:nvPr/>
          </p:nvSpPr>
          <p:spPr>
            <a:xfrm>
              <a:off x="828720" y="5829120"/>
              <a:ext cx="7704000" cy="0"/>
            </a:xfrm>
            <a:prstGeom prst="line">
              <a:avLst/>
            </a:prstGeom>
            <a:ln cap="rnd" w="3816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3320" y="52974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Arial"/>
                  <a:ea typeface="좋은 귀염둥이빼로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3300"/>
              </a:solidFill>
              <a:latin typeface="Arial"/>
              <a:ea typeface="좋은 귀염둥이빼로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044720" y="2781360"/>
            <a:ext cx="7414560" cy="3456000"/>
            <a:chOff x="1044720" y="2781360"/>
            <a:chExt cx="7414560" cy="3456000"/>
          </a:xfrm>
        </p:grpSpPr>
        <p:sp>
          <p:nvSpPr>
            <p:cNvPr id="380" name=""/>
            <p:cNvSpPr/>
            <p:nvPr/>
          </p:nvSpPr>
          <p:spPr>
            <a:xfrm>
              <a:off x="388440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5072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3070440"/>
              <a:ext cx="331128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14343"/>
                </a:gs>
                <a:gs pos="50000">
                  <a:srgbClr val="ff6161"/>
                </a:gs>
                <a:gs pos="100000">
                  <a:srgbClr val="b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81280" y="2781360"/>
              <a:ext cx="1537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78680" y="2781360"/>
              <a:ext cx="151920" cy="3456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ccccc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4920" y="3070440"/>
              <a:ext cx="3384360" cy="28796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4901d"/>
                </a:gs>
                <a:gs pos="50000">
                  <a:srgbClr val="a8d02a"/>
                </a:gs>
                <a:gs pos="100000">
                  <a:srgbClr val="7490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1044720" y="197244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4240" y="2133720"/>
            <a:ext cx="14097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076720" y="1988280"/>
            <a:ext cx="79236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88000" y="2133720"/>
            <a:ext cx="13348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30360"/>
            <a:ext cx="820872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564000" y="1988280"/>
            <a:ext cx="792000" cy="86364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67640" y="1988280"/>
            <a:ext cx="792000" cy="87948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711-9AC4-47EB-A6FE-AFABFCE61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6491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cc"/>
              </a:solidFill>
              <a:latin typeface="좋은 귀염둥이빼로"/>
              <a:ea typeface="좋은 귀염둥이빼로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4149720"/>
            <a:ext cx="651816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725480" y="5256360"/>
            <a:ext cx="651852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692360" y="2852640"/>
            <a:ext cx="6551640" cy="446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11080" y="1989000"/>
            <a:ext cx="1744560" cy="4103280"/>
            <a:chOff x="811080" y="1989000"/>
            <a:chExt cx="1744560" cy="4103280"/>
          </a:xfrm>
        </p:grpSpPr>
        <p:cxnSp>
          <p:nvCxnSpPr>
            <p:cNvPr id="401" name=""/>
            <p:cNvCxnSpPr>
              <a:stCxn id="402" idx="0"/>
              <a:endCxn id="403" idx="0"/>
            </p:cNvCxnSpPr>
            <p:nvPr/>
          </p:nvCxnSpPr>
          <p:spPr>
            <a:xfrm>
              <a:off x="1665000" y="3732120"/>
              <a:ext cx="5760" cy="5752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4" name=""/>
            <p:cNvCxnSpPr>
              <a:stCxn id="405" idx="0"/>
              <a:endCxn id="406" idx="0"/>
            </p:cNvCxnSpPr>
            <p:nvPr/>
          </p:nvCxnSpPr>
          <p:spPr>
            <a:xfrm>
              <a:off x="1665000" y="4876560"/>
              <a:ext cx="5760" cy="581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>
              <a:off x="1691640" y="2491920"/>
              <a:ext cx="2520" cy="662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grpSp>
          <p:nvGrpSpPr>
            <p:cNvPr id="408" name=""/>
            <p:cNvGrpSpPr/>
            <p:nvPr/>
          </p:nvGrpSpPr>
          <p:grpSpPr>
            <a:xfrm>
              <a:off x="811080" y="3154320"/>
              <a:ext cx="1717560" cy="2937960"/>
              <a:chOff x="811080" y="3154320"/>
              <a:chExt cx="1717560" cy="29379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811080" y="4306680"/>
                <a:ext cx="1717560" cy="642600"/>
                <a:chOff x="811080" y="4306680"/>
                <a:chExt cx="1717560" cy="6426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912240" y="4676760"/>
                  <a:ext cx="1514520" cy="2725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811080" y="4306680"/>
                  <a:ext cx="1717560" cy="563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deec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811080" y="5457960"/>
                <a:ext cx="1717560" cy="634320"/>
                <a:chOff x="811080" y="5457960"/>
                <a:chExt cx="1717560" cy="634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912240" y="5823360"/>
                  <a:ext cx="1514520" cy="26892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1080" y="5457960"/>
                  <a:ext cx="1717560" cy="55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d6ebf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11080" y="3154320"/>
                <a:ext cx="1717560" cy="651960"/>
                <a:chOff x="811080" y="3154320"/>
                <a:chExt cx="1717560" cy="651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912240" y="3529800"/>
                  <a:ext cx="1514520" cy="276480"/>
                </a:xfrm>
                <a:custGeom>
                  <a:avLst/>
                  <a:gdLst/>
                  <a:ahLst/>
                  <a:rect l="l" t="t" r="r" b="b"/>
                  <a:pathLst>
                    <a:path w="1120" h="252">
                      <a:moveTo>
                        <a:pt x="1120" y="252"/>
                      </a:moveTo>
                      <a:lnTo>
                        <a:pt x="1116" y="250"/>
                      </a:lnTo>
                      <a:lnTo>
                        <a:pt x="1100" y="246"/>
                      </a:lnTo>
                      <a:lnTo>
                        <a:pt x="1074" y="240"/>
                      </a:lnTo>
                      <a:lnTo>
                        <a:pt x="1038" y="232"/>
                      </a:lnTo>
                      <a:lnTo>
                        <a:pt x="992" y="222"/>
                      </a:lnTo>
                      <a:lnTo>
                        <a:pt x="938" y="212"/>
                      </a:lnTo>
                      <a:lnTo>
                        <a:pt x="876" y="204"/>
                      </a:lnTo>
                      <a:lnTo>
                        <a:pt x="806" y="196"/>
                      </a:lnTo>
                      <a:lnTo>
                        <a:pt x="730" y="190"/>
                      </a:lnTo>
                      <a:lnTo>
                        <a:pt x="646" y="184"/>
                      </a:lnTo>
                      <a:lnTo>
                        <a:pt x="556" y="184"/>
                      </a:lnTo>
                      <a:lnTo>
                        <a:pt x="466" y="184"/>
                      </a:lnTo>
                      <a:lnTo>
                        <a:pt x="384" y="190"/>
                      </a:lnTo>
                      <a:lnTo>
                        <a:pt x="308" y="196"/>
                      </a:lnTo>
                      <a:lnTo>
                        <a:pt x="238" y="204"/>
                      </a:lnTo>
                      <a:lnTo>
                        <a:pt x="178" y="212"/>
                      </a:lnTo>
                      <a:lnTo>
                        <a:pt x="126" y="222"/>
                      </a:lnTo>
                      <a:lnTo>
                        <a:pt x="82" y="232"/>
                      </a:lnTo>
                      <a:lnTo>
                        <a:pt x="46" y="240"/>
                      </a:lnTo>
                      <a:lnTo>
                        <a:pt x="20" y="246"/>
                      </a:lnTo>
                      <a:lnTo>
                        <a:pt x="6" y="250"/>
                      </a:lnTo>
                      <a:lnTo>
                        <a:pt x="0" y="252"/>
                      </a:lnTo>
                      <a:lnTo>
                        <a:pt x="0" y="62"/>
                      </a:lnTo>
                      <a:lnTo>
                        <a:pt x="560" y="0"/>
                      </a:lnTo>
                      <a:lnTo>
                        <a:pt x="1120" y="62"/>
                      </a:lnTo>
                      <a:lnTo>
                        <a:pt x="1120" y="252"/>
                      </a:lnTo>
                      <a:lnTo>
                        <a:pt x="1120" y="25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1080" y="3154320"/>
                  <a:ext cx="1717560" cy="57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319"/>
                    </a:gs>
                    <a:gs pos="100000">
                      <a:srgbClr val="fedf8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" name=""/>
            <p:cNvGrpSpPr/>
            <p:nvPr/>
          </p:nvGrpSpPr>
          <p:grpSpPr>
            <a:xfrm>
              <a:off x="838080" y="1989000"/>
              <a:ext cx="1717560" cy="651960"/>
              <a:chOff x="838080" y="1989000"/>
              <a:chExt cx="1717560" cy="651960"/>
            </a:xfrm>
          </p:grpSpPr>
          <p:sp>
            <p:nvSpPr>
              <p:cNvPr id="415" name=""/>
              <p:cNvSpPr/>
              <p:nvPr/>
            </p:nvSpPr>
            <p:spPr>
              <a:xfrm>
                <a:off x="939240" y="2364480"/>
                <a:ext cx="1514520" cy="276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8080" y="1989000"/>
                <a:ext cx="1717560" cy="572040"/>
              </a:xfrm>
              <a:prstGeom prst="rect">
                <a:avLst/>
              </a:pr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 flipH="1">
            <a:off x="7380000" y="1125360"/>
            <a:ext cx="576360" cy="0"/>
          </a:xfrm>
          <a:prstGeom prst="line">
            <a:avLst/>
          </a:prstGeom>
          <a:ln w="1015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admin</dc:creator>
  <dc:description/>
  <dc:language>en-US</dc:language>
  <cp:lastModifiedBy>news</cp:lastModifiedBy>
  <dcterms:modified xsi:type="dcterms:W3CDTF">2015-07-20T09:39:39Z</dcterms:modified>
  <cp:revision>70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