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280-A0F0-4CEE-ACFA-7C1C8AF4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489-0254-48B5-BBE9-F8806B6A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69816-8D28-44A4-B938-6C9B00FA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0D0F3-0076-4C83-B3BC-4F14D1AD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3F473-BE66-42EF-AF46-8850259A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34EF7-3825-4BE8-87A5-A102382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2E12E-38C6-4C97-B1F5-86AE08A8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C767BD-3AC6-4C6E-AD11-D2D26E21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C1C58-3923-49AA-A68D-14F4CA1D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7621D-10EB-43D6-8A21-2AB8656E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3704C-EAA3-40D9-8D6A-0FB20CD31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23CCF-BC1E-4BBA-A52D-DABC0074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73E-2452-4ECC-90A0-DAA97B36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AA544-1A2D-4FCB-ACF7-CAD07EFA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95374-ADFB-4A7F-92A3-7FED50A3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D4D81-1262-4717-B536-9F800FD2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AF352-9FE6-4DEF-9285-0BF1A388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148E0-A086-4653-9F51-22F348BD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AB2AF-9D9E-455D-81B5-FAB44AC7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418EA-EA6D-41E0-99A6-FFE7F5AA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C2882-332D-4DC7-94C3-3D7E7AD8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42BF7-2797-49F5-9FC9-1994E9E3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A8C272-F072-489B-AC20-C7CA556CA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FC8-AFC0-4E04-981D-FED76BADF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579FE-192C-4797-9184-13EA8061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E9B33-DC26-4FEE-9EE3-072521B50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CC7EB-CBD4-4200-8DDC-6B29493B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9B685-4E7E-45C7-8C59-7FB45C13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4BFFC-AC95-4CD3-8C6E-4D5FE0D3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8841C-B6CF-45AF-9184-4EE3DDA1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8C380-0D7A-4F17-AAE3-C964CDD0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A4F8D-07BC-4CEF-B6B0-9E63542B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C29D1-9C67-402E-80A7-52F0494D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F239E-A54B-411A-BC8C-BBB03BA1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F9EA-C1A8-4830-9033-E9F5BB09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616AA-3BF7-43EE-BEE8-EB4D14ED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A37A4D-2C54-4DF1-A697-4656D564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5DAB0-3FE6-4A18-B296-D85E50AA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31313-39E2-4928-9C45-6B5DDDBC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5CC1A-508F-465F-BED2-F822FAEA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C07F2-5CC9-4C78-9846-58B0C7A1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6A5CB-80CB-45AD-9714-BAB7531A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3842B-8154-4F2E-8194-A28E6A0E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3CBB4-5229-4F61-A027-230C6251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7545A-E398-4284-A61A-92098EE0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453F-94B1-4A06-8C5C-B65A4128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D111E-84F6-4711-BD7D-739518A3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C100C-36DC-4570-B1C1-A8ED5F75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8D87A-C898-4B12-B970-CE87EDC4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D62FF-8648-433B-B5BF-9E883B16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2F7DC-20DA-49BD-AF54-3F29FC52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A50FC-CA8C-41B7-809C-F8916327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3D995C-7AE6-4970-90C8-16FFE6A1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C5495-5A85-4BAE-A257-412E9CBB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3464F-19FA-4EBA-9CF5-786FEC86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97767-DB74-491F-B248-ED06FB82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8D94-3052-4B51-8A5A-E680EA1D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E98EC-B4F7-4B91-8EE8-1D52E5F5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D7821-7C62-42C2-A91E-42F8AF9A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4150F4-E477-4164-BB3F-9DD56EAB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46F81-DF9C-4713-AA35-07227808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59D32-1D44-4B26-96D7-78D1956B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BF7945-1A77-4A38-99B2-74B71BA3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DC0C77-254E-4193-A85A-D3C9FF68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A290-A9E5-466E-BA47-5BCE6F82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D8B5-4CE0-4356-853E-0BBEF154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B6D6-8B89-4FBE-96A6-9D1F326D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16F7-6158-4F4A-89F8-CC7077FE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519-6E40-43F9-A17F-11AEF15E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9717-3D99-4F53-92CA-63D1E062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1E5B-0698-4EFA-9F78-C1898403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49A8-1BA5-4DE8-8CF9-5E3981EA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7360-57B5-4DE9-AB52-21BF3D100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C584-F132-445F-97B8-68C22A7B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51FB-482C-46FE-BD2A-18D968C4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36FE9-5082-465D-8394-CF9BFB4D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28A9-1E1B-4E99-9CA4-F00F539B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2557A-8F06-4DB9-B4AC-53B66B57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BFAA1-B13A-4D88-B5E1-9EF2427E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687-9CC2-48B2-881C-5FEE4D30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CFAA-2EB2-40FB-8262-4FD9BC08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C07B-68C5-404E-A040-E22A4C48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1668D-CE68-4FE8-A284-B9065441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40EA1-52E9-4AEE-91BE-B35FC09F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60FE0-546C-4C05-9C20-1DB1C6F4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71161-9A37-429C-A651-521E8354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8551F-5872-4C82-9799-CE4E8957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161F1-8985-4762-B1F3-17E5B7D6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4CF6C-F60A-4046-A269-3F794627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F31CA-D83A-47F1-BA44-5CF813FA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972-E6F2-49BF-A933-FC50FED2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66613-792E-45AF-B491-517DC747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95E45-43F2-49D2-B7A9-5B414F65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74B28-B63E-4919-8341-D84BD824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605C-FF7D-47DC-A5C4-4A4448DF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9F72-AB55-49B4-B508-69CECEF3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A0212-78CB-41F9-9A18-1BBBCBD2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94626-65C0-4261-AD5D-3CA6E03F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A0517-EBDF-47A6-871C-D6F08D92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42EFB-7DB9-429A-B8B0-476659A6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7ED0B-72CA-486F-AEEA-AA472980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C75-1652-41CB-AD48-EFCADA03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63994-64F6-4352-A00B-3D5F975C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F91D0-DF24-4024-839C-3F091462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E927C-22F7-40FB-ADD3-AB05966D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182E8-EFCE-4106-BD2C-6AD57683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FDB33-BE71-42E4-A64C-5929C532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0CA26-9BCC-4169-B64F-6B411434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F968-9732-4DC2-A643-8E936E8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42A6A-319A-48D8-85F7-B7931F4D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4F3E6-CC0B-450A-B0BF-47AEA5F5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B4929-D626-4B72-BA49-2F4F6BE1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79F-B7CC-42CE-ABDD-B1EA4269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E3BA8-31AA-4B98-AAFD-ED0445FC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B818-CA20-46F1-8210-C1418823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5FC1B-B400-4D5E-844C-CD7CB8A8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6E39F-E186-4D98-BC84-3F809529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23F7A-EC0E-4B64-8F04-8AD57E386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6F0B1-A394-49D9-8844-E96E47AF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F35FA-0E57-4FCD-B17D-284DF1A4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77CD5-DD21-4136-9B6A-F2347634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F12A0-DE77-47AB-BF52-AAE443A1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761EC-CC74-49A8-9177-812A5AD3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E26-2E0B-448D-AC78-E7D42B77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B15EB-A3AA-4215-83BC-81DBF631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FF551-1449-455C-8A51-9A59C95B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689EE-FF16-4FC5-B103-F17783A3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F8FC4-A52C-4056-A341-4720B5AB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23BFE-D002-4B7D-A93E-9F7CF339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888C6-C13D-4E26-8C1D-A0FACB7C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DD1E9-5C37-44CC-932D-46B15089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95873-B562-4055-AEBE-34805F82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61E7C-4E82-4AD0-B1EF-D3536729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E2C62-FE7B-442E-91B6-1A505CE3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20AB-9E0B-436D-89C1-3E464967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19E23-AC37-44B0-B875-52294B45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1224D-E590-4648-B128-8D93A9D9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8A483-9094-47EA-B1A8-2219AF4D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0FB07-058E-46A9-80C8-3BC95824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C20A1-B882-4DD4-B87E-31FF9380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162F0-E02C-4978-880D-38FDE585B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C319C-1D7D-4054-AEF0-A13812F9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CE1AE-7BD4-4D50-BA43-700BA7A3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AE230-1F68-4767-B0F5-ED1CAF2C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73C6B-BE04-4A1E-85A3-B152C6A3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0D2-3E56-472A-A1EE-BBED07F2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A5AFD-2088-4AE6-A56F-32636A98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25C52-B149-4378-BF2E-07EE28EF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60E77-F53E-4289-99F6-FA201ABE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0128A-322A-4517-B06C-922FDE01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E23BB-2412-4E7B-B132-19F5B721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24E72-5ABA-44FE-9F0A-170F823E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F85C0-6366-4B75-9B25-6F6FF381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A3F9D-FD03-43BE-9460-FF26F7C2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16008-44D2-47F5-8DB1-0D026992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92C8C-1F6B-4DDA-97C2-A65DC249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7E50-E482-4FC3-828D-CD5C2E652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80E5-B1E8-419E-B30F-EF72F94739E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F1B9-FB86-428A-A688-73CF334F80F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8164-CF63-4A65-BD9F-AD67EF10C3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5689-FE13-42D8-84A1-C1F1F04342C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DC3E-33AE-493F-8C69-315319C12C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03E1-A651-4D39-957D-13C821FA19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3D48-E6D1-459C-BE41-1F55051B3F7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A5E6-E22C-46C4-83EF-9F4473F20F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AD92-5A27-49E1-BA3E-731E4CB8995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93CB-AFE9-4110-B2F3-58EFFAEF2D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E341-06E8-4C87-8196-7F769F8BE4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7D3B-9D78-4D8E-BA78-036BBE1036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bj"/>
          <p:cNvPicPr/>
          <p:nvPr/>
        </p:nvPicPr>
        <p:blipFill>
          <a:blip r:embed="rId1"/>
          <a:stretch/>
        </p:blipFill>
        <p:spPr>
          <a:xfrm>
            <a:off x="-334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壁虎１"/>
          <p:cNvPicPr/>
          <p:nvPr/>
        </p:nvPicPr>
        <p:blipFill>
          <a:blip r:embed="rId2"/>
          <a:stretch/>
        </p:blipFill>
        <p:spPr>
          <a:xfrm>
            <a:off x="2567160" y="776160"/>
            <a:ext cx="4308480" cy="5761080"/>
          </a:xfrm>
          <a:prstGeom prst="rect">
            <a:avLst/>
          </a:prstGeom>
          <a:ln w="0">
            <a:noFill/>
          </a:ln>
        </p:spPr>
      </p:pic>
      <p:sp>
        <p:nvSpPr>
          <p:cNvPr id="535" name="矩形 1"/>
          <p:cNvSpPr/>
          <p:nvPr/>
        </p:nvSpPr>
        <p:spPr>
          <a:xfrm>
            <a:off x="2774520" y="23652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壁虎借尾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矩形 6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pic_253127"/>
          <p:cNvPicPr/>
          <p:nvPr/>
        </p:nvPicPr>
        <p:blipFill>
          <a:blip r:embed="rId1"/>
          <a:stretch/>
        </p:blipFill>
        <p:spPr>
          <a:xfrm>
            <a:off x="179280" y="0"/>
            <a:ext cx="4392720" cy="336060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yz"/>
          <p:cNvPicPr/>
          <p:nvPr/>
        </p:nvPicPr>
        <p:blipFill>
          <a:blip r:embed="rId2"/>
          <a:stretch/>
        </p:blipFill>
        <p:spPr>
          <a:xfrm>
            <a:off x="4572000" y="3276720"/>
            <a:ext cx="434340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WordArt 6"/>
          <p:cNvSpPr txBox="1"/>
          <p:nvPr/>
        </p:nvSpPr>
        <p:spPr>
          <a:xfrm>
            <a:off x="826920" y="260280"/>
            <a:ext cx="2160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自学要求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95280" y="2349360"/>
            <a:ext cx="74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１、读一读第４、５自然段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出小壁虎和老牛、燕子的对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２、同桌小伙伴合作读一读小壁虎和老牛、燕子的对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pic_253127"/>
          <p:cNvPicPr/>
          <p:nvPr/>
        </p:nvPicPr>
        <p:blipFill>
          <a:blip r:embed="rId1"/>
          <a:stretch/>
        </p:blipFill>
        <p:spPr>
          <a:xfrm>
            <a:off x="179280" y="0"/>
            <a:ext cx="4240440" cy="3244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yz"/>
          <p:cNvPicPr/>
          <p:nvPr/>
        </p:nvPicPr>
        <p:blipFill>
          <a:blip r:embed="rId2"/>
          <a:stretch/>
        </p:blipFill>
        <p:spPr>
          <a:xfrm flipH="1">
            <a:off x="4952520" y="3530520"/>
            <a:ext cx="3962520" cy="308952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4"/>
          <p:cNvSpPr/>
          <p:nvPr/>
        </p:nvSpPr>
        <p:spPr>
          <a:xfrm>
            <a:off x="4572000" y="307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壁虎爬呀爬，爬到大树上。他看见老牛甩着尾巴，在树下吃草。小壁虎说：“牛伯伯，您把尾巴借给我行吗？”老牛说：“不行啊，我要用尾巴赶蝇子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52280" y="3657600"/>
            <a:ext cx="40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壁虎爬呀爬，爬到房檐下。他看见燕子摆着尾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空中飞来飞去。小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：“燕子阿姨，您把尾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借给我行吗？”燕子说：“不行啊，我要用尾巴掌握方向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4" descr="pic_253127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AutoShape 5"/>
          <p:cNvSpPr/>
          <p:nvPr/>
        </p:nvSpPr>
        <p:spPr>
          <a:xfrm>
            <a:off x="2627280" y="620640"/>
            <a:ext cx="4176720" cy="2232000"/>
          </a:xfrm>
          <a:prstGeom prst="cloudCallout">
            <a:avLst>
              <a:gd name="adj1" fmla="val -44717"/>
              <a:gd name="adj2" fmla="val 6102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牛伯伯，您把尾巴借给我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6"/>
          <p:cNvSpPr/>
          <p:nvPr/>
        </p:nvSpPr>
        <p:spPr>
          <a:xfrm>
            <a:off x="0" y="4365720"/>
            <a:ext cx="3635280" cy="2232000"/>
          </a:xfrm>
          <a:prstGeom prst="cloudCallout">
            <a:avLst>
              <a:gd name="adj1" fmla="val 76027"/>
              <a:gd name="adj2" fmla="val -1607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行啊，我要用尾巴赶蝇子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2666880" y="12952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3" descr="yz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5"/>
          <p:cNvSpPr/>
          <p:nvPr/>
        </p:nvSpPr>
        <p:spPr>
          <a:xfrm flipV="1">
            <a:off x="4932360" y="2780280"/>
            <a:ext cx="3168720" cy="1584360"/>
          </a:xfrm>
          <a:prstGeom prst="wedgeRoundRectCallout">
            <a:avLst>
              <a:gd name="adj1" fmla="val -44291"/>
              <a:gd name="adj2" fmla="val 7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6"/>
          <p:cNvSpPr/>
          <p:nvPr/>
        </p:nvSpPr>
        <p:spPr>
          <a:xfrm>
            <a:off x="468360" y="549360"/>
            <a:ext cx="3527280" cy="1366920"/>
          </a:xfrm>
          <a:prstGeom prst="wedgeRoundRectCallout">
            <a:avLst>
              <a:gd name="adj1" fmla="val 35328"/>
              <a:gd name="adj2" fmla="val 7322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468360" y="836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行啊，我要用尾巴掌握方向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5076720" y="2997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燕子阿姨，您把尾巴借给我行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8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4" descr="BAS00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WordArt 5"/>
          <p:cNvSpPr txBox="1"/>
          <p:nvPr/>
        </p:nvSpPr>
        <p:spPr>
          <a:xfrm>
            <a:off x="539640" y="907920"/>
            <a:ext cx="83059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-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动物的尾巴不同，用处也不同。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2" descr="nkongq1"/>
          <p:cNvPicPr/>
          <p:nvPr/>
        </p:nvPicPr>
        <p:blipFill>
          <a:blip r:embed="rId2"/>
          <a:stretch/>
        </p:blipFill>
        <p:spPr>
          <a:xfrm>
            <a:off x="2514600" y="1828800"/>
            <a:ext cx="563868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laohu3"/>
          <p:cNvPicPr/>
          <p:nvPr/>
        </p:nvPicPr>
        <p:blipFill>
          <a:blip r:embed="rId2"/>
          <a:stretch/>
        </p:blipFill>
        <p:spPr>
          <a:xfrm>
            <a:off x="2590920" y="1752480"/>
            <a:ext cx="5410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BRL00039"/>
          <p:cNvPicPr/>
          <p:nvPr/>
        </p:nvPicPr>
        <p:blipFill>
          <a:blip r:embed="rId2"/>
          <a:stretch/>
        </p:blipFill>
        <p:spPr>
          <a:xfrm>
            <a:off x="2971800" y="1828800"/>
            <a:ext cx="4572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" descr="48"/>
          <p:cNvPicPr/>
          <p:nvPr/>
        </p:nvPicPr>
        <p:blipFill>
          <a:blip r:embed="rId2"/>
          <a:stretch/>
        </p:blipFill>
        <p:spPr>
          <a:xfrm>
            <a:off x="2514600" y="2133720"/>
            <a:ext cx="5791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4"/>
          <p:cNvSpPr/>
          <p:nvPr/>
        </p:nvSpPr>
        <p:spPr>
          <a:xfrm>
            <a:off x="853200" y="1557360"/>
            <a:ext cx="71773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ǎo  bì   hǔ            jiè  wěi 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壁 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 尾 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ì  tiáo shé             xīn wěi 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 条 蛇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 尾 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ō shuǐ    zhǎng wò     táo zǒu        nán gu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拨 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 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逃 走    难 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én  zi        jiě jie        shuǎi zhe      yíng z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蚊 子   姐 姐    甩 着    蝇 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7"/>
          <p:cNvSpPr/>
          <p:nvPr/>
        </p:nvSpPr>
        <p:spPr>
          <a:xfrm>
            <a:off x="6156360" y="333360"/>
            <a:ext cx="2160720" cy="936720"/>
          </a:xfrm>
          <a:prstGeom prst="cloudCallout">
            <a:avLst>
              <a:gd name="adj1" fmla="val -43754"/>
              <a:gd name="adj2" fmla="val 10067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WordArt 8"/>
          <p:cNvSpPr txBox="1"/>
          <p:nvPr/>
        </p:nvSpPr>
        <p:spPr>
          <a:xfrm>
            <a:off x="6516720" y="5493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我会读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3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2" descr="daxian3"/>
          <p:cNvPicPr/>
          <p:nvPr/>
        </p:nvPicPr>
        <p:blipFill>
          <a:blip r:embed="rId2"/>
          <a:stretch/>
        </p:blipFill>
        <p:spPr>
          <a:xfrm>
            <a:off x="2666880" y="1752480"/>
            <a:ext cx="5715000" cy="468792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Picture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17" name="WordArt 3"/>
          <p:cNvSpPr txBox="1"/>
          <p:nvPr/>
        </p:nvSpPr>
        <p:spPr>
          <a:xfrm>
            <a:off x="762120" y="762120"/>
            <a:ext cx="2514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填一填：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18" name="Rectangle 5"/>
          <p:cNvSpPr/>
          <p:nvPr/>
        </p:nvSpPr>
        <p:spPr>
          <a:xfrm>
            <a:off x="838080" y="1828800"/>
            <a:ext cx="7543800" cy="4495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WordArt 6"/>
          <p:cNvSpPr txBox="1"/>
          <p:nvPr/>
        </p:nvSpPr>
        <p:spPr>
          <a:xfrm>
            <a:off x="1143000" y="2133720"/>
            <a:ext cx="4648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壁虎爬呀爬，爬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617220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WordArt 10"/>
          <p:cNvSpPr txBox="1"/>
          <p:nvPr/>
        </p:nvSpPr>
        <p:spPr>
          <a:xfrm>
            <a:off x="8001000" y="266688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2" name="WordArt 11"/>
          <p:cNvSpPr txBox="1"/>
          <p:nvPr/>
        </p:nvSpPr>
        <p:spPr>
          <a:xfrm>
            <a:off x="1219320" y="32004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他看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3" name="Line 12"/>
          <p:cNvSpPr/>
          <p:nvPr/>
        </p:nvSpPr>
        <p:spPr>
          <a:xfrm>
            <a:off x="28195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WordArt 13"/>
          <p:cNvSpPr txBox="1"/>
          <p:nvPr/>
        </p:nvSpPr>
        <p:spPr>
          <a:xfrm>
            <a:off x="41911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5" name="Line 14"/>
          <p:cNvSpPr/>
          <p:nvPr/>
        </p:nvSpPr>
        <p:spPr>
          <a:xfrm>
            <a:off x="4876920" y="3809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WordArt 15"/>
          <p:cNvSpPr txBox="1"/>
          <p:nvPr/>
        </p:nvSpPr>
        <p:spPr>
          <a:xfrm>
            <a:off x="7924680" y="3657600"/>
            <a:ext cx="228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7" name="WordArt 16"/>
          <p:cNvSpPr txBox="1"/>
          <p:nvPr/>
        </p:nvSpPr>
        <p:spPr>
          <a:xfrm>
            <a:off x="1295280" y="4267080"/>
            <a:ext cx="6934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壁虎说：“         ？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28" name="Line 17"/>
          <p:cNvSpPr/>
          <p:nvPr/>
        </p:nvSpPr>
        <p:spPr>
          <a:xfrm>
            <a:off x="4572000" y="48006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18"/>
          <p:cNvSpPr/>
          <p:nvPr/>
        </p:nvSpPr>
        <p:spPr>
          <a:xfrm>
            <a:off x="1143000" y="5943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WordArt 19"/>
          <p:cNvSpPr txBox="1"/>
          <p:nvPr/>
        </p:nvSpPr>
        <p:spPr>
          <a:xfrm>
            <a:off x="2590920" y="5181480"/>
            <a:ext cx="5257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7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说：“                。”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31" name="Line 20"/>
          <p:cNvSpPr/>
          <p:nvPr/>
        </p:nvSpPr>
        <p:spPr>
          <a:xfrm>
            <a:off x="6934320" y="3809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21"/>
          <p:cNvSpPr/>
          <p:nvPr/>
        </p:nvSpPr>
        <p:spPr>
          <a:xfrm>
            <a:off x="3886200" y="586728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3" name="Picture 22" descr="袋鼠"/>
          <p:cNvPicPr/>
          <p:nvPr/>
        </p:nvPicPr>
        <p:blipFill>
          <a:blip r:embed="rId2"/>
          <a:stretch/>
        </p:blipFill>
        <p:spPr>
          <a:xfrm>
            <a:off x="3492360" y="189000"/>
            <a:ext cx="1656000" cy="1700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23" descr="松鼠"/>
          <p:cNvPicPr/>
          <p:nvPr/>
        </p:nvPicPr>
        <p:blipFill>
          <a:blip r:embed="rId3"/>
          <a:stretch/>
        </p:blipFill>
        <p:spPr>
          <a:xfrm>
            <a:off x="5292720" y="18900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4" descr="啄木鸟"/>
          <p:cNvPicPr/>
          <p:nvPr/>
        </p:nvPicPr>
        <p:blipFill>
          <a:blip r:embed="rId4"/>
          <a:stretch/>
        </p:blipFill>
        <p:spPr>
          <a:xfrm>
            <a:off x="7308720" y="189000"/>
            <a:ext cx="1440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11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8"/>
          <p:cNvSpPr/>
          <p:nvPr/>
        </p:nvSpPr>
        <p:spPr>
          <a:xfrm>
            <a:off x="2124000" y="134136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小壁虎借不到尾巴，心里很难过。他爬呀爬，爬回家里找妈妈。小壁虎把借尾巴的事告诉了妈妈。妈妈笑着说：“傻孩子，你转过身子看看。”小壁虎转身一看，高兴地叫起来：“我长出了一条新尾巴啦！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7"/>
          <p:cNvSpPr/>
          <p:nvPr/>
        </p:nvSpPr>
        <p:spPr>
          <a:xfrm>
            <a:off x="2124000" y="1844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壁虎在墙角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2124000" y="2637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小鱼在河里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2087640" y="3429000"/>
            <a:ext cx="70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老黄牛在树下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2158920" y="422100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燕子在空中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它用尾巴</a:t>
            </a:r>
            <a:r>
              <a:rPr b="0" lang="zh-CN" sz="32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10875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矩形 7"/>
          <p:cNvSpPr/>
          <p:nvPr/>
        </p:nvSpPr>
        <p:spPr>
          <a:xfrm>
            <a:off x="250920" y="166536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7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4"/>
          <p:cNvSpPr/>
          <p:nvPr/>
        </p:nvSpPr>
        <p:spPr>
          <a:xfrm>
            <a:off x="1765440" y="1125360"/>
            <a:ext cx="6209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bì    hǔ   jiè  wén  shé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</a:rPr>
              <a:t>壁   虎   借   蚊    蛇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6"/>
          <p:cNvSpPr/>
          <p:nvPr/>
        </p:nvSpPr>
        <p:spPr>
          <a:xfrm>
            <a:off x="1692360" y="3887640"/>
            <a:ext cx="6408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táo   nán     jiě    xī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Times New Roman"/>
              </a:rPr>
              <a:t>逃     难      姐     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40" descr="bj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2"/>
          <p:cNvSpPr/>
          <p:nvPr/>
        </p:nvSpPr>
        <p:spPr>
          <a:xfrm>
            <a:off x="990720" y="106668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2346480" y="497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 flipV="1">
            <a:off x="1219320" y="36576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9"/>
          <p:cNvSpPr/>
          <p:nvPr/>
        </p:nvSpPr>
        <p:spPr>
          <a:xfrm>
            <a:off x="7543800" y="457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4"/>
          <p:cNvSpPr/>
          <p:nvPr/>
        </p:nvSpPr>
        <p:spPr>
          <a:xfrm>
            <a:off x="1512720" y="4135320"/>
            <a:ext cx="59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Times New Roman"/>
              </a:rPr>
              <a:t>逃   难   姐   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25"/>
          <p:cNvSpPr/>
          <p:nvPr/>
        </p:nvSpPr>
        <p:spPr>
          <a:xfrm>
            <a:off x="900000" y="2492280"/>
            <a:ext cx="72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Times New Roman"/>
              </a:rPr>
              <a:t>壁   虎    借   蛇   蚊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26"/>
          <p:cNvSpPr/>
          <p:nvPr/>
        </p:nvSpPr>
        <p:spPr>
          <a:xfrm>
            <a:off x="3348000" y="20667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29"/>
          <p:cNvSpPr/>
          <p:nvPr/>
        </p:nvSpPr>
        <p:spPr>
          <a:xfrm>
            <a:off x="5508720" y="20667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0"/>
          <p:cNvSpPr/>
          <p:nvPr/>
        </p:nvSpPr>
        <p:spPr>
          <a:xfrm>
            <a:off x="6804000" y="2060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1"/>
          <p:cNvSpPr/>
          <p:nvPr/>
        </p:nvSpPr>
        <p:spPr>
          <a:xfrm>
            <a:off x="2268360" y="37958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41"/>
          <p:cNvSpPr/>
          <p:nvPr/>
        </p:nvSpPr>
        <p:spPr>
          <a:xfrm flipH="1">
            <a:off x="538920" y="404640"/>
            <a:ext cx="2305080" cy="936720"/>
          </a:xfrm>
          <a:prstGeom prst="cloudCallout">
            <a:avLst>
              <a:gd name="adj1" fmla="val -55856"/>
              <a:gd name="adj2" fmla="val 100675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WordArt 42"/>
          <p:cNvSpPr txBox="1"/>
          <p:nvPr/>
        </p:nvSpPr>
        <p:spPr>
          <a:xfrm>
            <a:off x="971640" y="620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新魏"/>
              </a:rPr>
              <a:t>我会读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pic_253126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5702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5"/>
          <p:cNvSpPr/>
          <p:nvPr/>
        </p:nvSpPr>
        <p:spPr>
          <a:xfrm>
            <a:off x="6226920" y="1557360"/>
            <a:ext cx="20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壁虎爬呀爬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爬到小河边。他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鱼摇着尾巴，在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游来游去。小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：“小鱼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姐，您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尾巴借给我行吗？”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说：“不行啊，我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尾巴拨水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4" descr="pic_253126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5"/>
          <p:cNvSpPr/>
          <p:nvPr/>
        </p:nvSpPr>
        <p:spPr>
          <a:xfrm>
            <a:off x="2050920" y="260280"/>
            <a:ext cx="3384720" cy="2087640"/>
          </a:xfrm>
          <a:prstGeom prst="wedgeEllipseCallout">
            <a:avLst>
              <a:gd name="adj1" fmla="val -30393"/>
              <a:gd name="adj2" fmla="val 6231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鱼姐姐，您把尾巴借给我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6"/>
          <p:cNvSpPr/>
          <p:nvPr/>
        </p:nvSpPr>
        <p:spPr>
          <a:xfrm>
            <a:off x="1187280" y="4076640"/>
            <a:ext cx="3600720" cy="1800360"/>
          </a:xfrm>
          <a:prstGeom prst="wedgeEllipseCallout">
            <a:avLst>
              <a:gd name="adj1" fmla="val 31657"/>
              <a:gd name="adj2" fmla="val -62171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行啊，我要用尾巴拨水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395280" y="3141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所以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5334120" y="15238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WordArt 5"/>
          <p:cNvSpPr txBox="1"/>
          <p:nvPr/>
        </p:nvSpPr>
        <p:spPr>
          <a:xfrm>
            <a:off x="1187280" y="1052640"/>
            <a:ext cx="252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会说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Picture 4" descr="pic_253126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573" name="AutoShape 5"/>
          <p:cNvSpPr/>
          <p:nvPr/>
        </p:nvSpPr>
        <p:spPr>
          <a:xfrm>
            <a:off x="2050920" y="260280"/>
            <a:ext cx="3384720" cy="2087640"/>
          </a:xfrm>
          <a:prstGeom prst="wedgeEllipseCallout">
            <a:avLst>
              <a:gd name="adj1" fmla="val -30393"/>
              <a:gd name="adj2" fmla="val 62319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小鱼姐姐，您把尾巴借给我行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6"/>
          <p:cNvSpPr/>
          <p:nvPr/>
        </p:nvSpPr>
        <p:spPr>
          <a:xfrm>
            <a:off x="1187280" y="4076640"/>
            <a:ext cx="3600720" cy="1800360"/>
          </a:xfrm>
          <a:prstGeom prst="wedgeEllipseCallout">
            <a:avLst>
              <a:gd name="adj1" fmla="val 31657"/>
              <a:gd name="adj2" fmla="val -62171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不行啊，我要用尾巴拨水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pic_253126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5702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6226920" y="1557360"/>
            <a:ext cx="20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壁虎爬呀爬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爬到小河边。他看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鱼摇着尾巴，在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游来游去。小壁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：“小鱼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姐，您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尾巴借给我行吗？”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说：“不行啊，我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尾巴拨水呢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14:41:03Z</dcterms:created>
  <dc:creator/>
  <dc:description/>
  <cp:keywords>幻灯片之家 http:/www.eeppt.com</cp:keywords>
  <dc:language>en-US</dc:language>
  <cp:lastModifiedBy/>
  <dcterms:modified xsi:type="dcterms:W3CDTF">2015-07-20T04:13:1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