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F86-F9E8-4B8F-9048-6929953A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20D-C368-496B-BFD5-867C6754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8916-1510-406B-9C99-A35F878A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F26-122D-4E3D-B815-08341B08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A4F-A8B9-46F4-BB62-69019875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59E2-B117-404D-897F-217E81FB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EE7-00D4-4407-8D36-08367C05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438-F6F1-4506-921D-43BC04EF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C04-18F9-4CE6-A7AA-14839434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EE8-2E5E-4789-91AA-79CE2316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62B-E2DF-43CE-9113-7C0C6162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AAF-47A2-4480-A1E8-B132CD9A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0DDF-7EBB-4E1C-BAA8-F9A1FFC2C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otoyes.net/bbs/viewthread.php?tid=2918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ina.yangchun.gov.cn/photo/index1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xys.com/gb/ss8.htm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j3.netsh.com/bbs/94063/103/31271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88so.com/Ecard/Pic/55/55_79.html" TargetMode="Externa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zhengzhou.news.sohu.com/news/20050101/n223749392.s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ews.sina.com.cn/c/2005-05-07/12506573486.s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zjol.com.cn/gb/node2/node138665/node139992/node143067/userobject15ai1877656.html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xici.net/House/Service/b365041/d32424719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du.tom.com/1267/2004213-5338.htm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hinamm.tom.com/1306/1362/200462-81886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ilitary.china.com/zh_cn/history2/06/11027560/20050720/12499864_2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inawestnews.net/gb/westnews/xwzx/xbxw/sxgc/userobject1ai335865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tech.ca/zzjoy/swtp/yeluotuo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dgjy.com.cn/kjpeixun/frontpage/keshang/&#22823;&#28207;&#23454;&#39564;&#23567;&#23398;%20&#36213;&#22999;&#22999;/&#32593;&#39029;/index.htm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gjy.com.cn/kjpeixun/frontpage/keshang/&#22823;&#28207;&#23454;&#39564;&#23567;&#23398;%20&#36213;&#22999;&#22999;/&#32593;&#39029;/index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hwh.net/html/b2-2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2004513181012289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1125360"/>
            <a:ext cx="81345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方正超粗黑简体"/>
                <a:ea typeface="方正超粗黑简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68120" y="105264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想别人没想到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_1066790623_kd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784836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sscg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0"/>
            <a:ext cx="7238880" cy="7153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68360" y="90972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又一个画家，画了一个和尚，奔走于深山丛林道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faz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700280"/>
            <a:ext cx="29908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只有一个画家，画了一座山，山腰中有一个老和尚挑着一付水桶，到山间的激流中去担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2485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989000"/>
            <a:ext cx="4535640" cy="4535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谁画得最好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gczt"/>
          <p:cNvPicPr/>
          <p:nvPr/>
        </p:nvPicPr>
        <p:blipFill>
          <a:blip r:embed="rId1"/>
          <a:stretch/>
        </p:blipFill>
        <p:spPr>
          <a:xfrm>
            <a:off x="1979640" y="1484280"/>
            <a:ext cx="51847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了揭榜那天，第三幅画却被列为佳品，大家围着欣赏，并且同声称赞不绝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画面中露出寺庙一角，便不是深山所藏了，藏应该是看不见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和尚在奔走，也可以解释是云游或在赶路，不能说明山中有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此画列为上品，因为深得题意，“藏”字，通过到山间去挑水的老和尚，清楚的点出；深山有古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试一试，在一张白纸上怎样画出最多的人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31" descr="Img2237493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484280"/>
            <a:ext cx="72741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一比，哪幅画的人最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U47P1T1D6573486F21DT200505071250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773360"/>
            <a:ext cx="66978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一比，那幅画的人最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00099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700280"/>
            <a:ext cx="6769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85C-9D4D-4FA6-91A8-183E50CCEB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9"/>
          <p:cNvSpPr/>
          <p:nvPr/>
        </p:nvSpPr>
        <p:spPr>
          <a:xfrm>
            <a:off x="3851280" y="3357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画比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，如果要让你们在一张纸上画尽可能多的骆驼，你会怎样画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20059281425317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98680" y="2708280"/>
            <a:ext cx="57610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一比，那幅画的人最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040213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1916280"/>
            <a:ext cx="6191280" cy="4643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6381720"/>
            <a:ext cx="33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要肯动脑筋，大胆创新，就会有很多新发现，就会有意想不到的收获。所以，在今后的学习、生活中，我们也要多动脑筋，做一个有创新精神的孩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40602wujunr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2276640"/>
            <a:ext cx="3888000" cy="2916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初读课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自由读课文，读准字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画出生字词，同桌合作，识记字形，理解词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课文讲了一件什么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不理解的地方作上记号，与同桌讨论解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hào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uò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uo)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án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起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ú)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uò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隐若现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i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2499864_20050720174540912977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349360"/>
            <a:ext cx="439272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组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三个徒弟的画分别是什么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你觉得谁画得最棒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从三个徒弟的画中，你体会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000446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3500280"/>
            <a:ext cx="453528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齐读课题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徒弟：用细笔画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徒弟：画许多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徒弟：只画山、一头骆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画师满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zg5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700280"/>
            <a:ext cx="2857680" cy="396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image0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933720"/>
            <a:ext cx="40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什么这幅画最好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image0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2349360"/>
            <a:ext cx="6696000" cy="4033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试一试：怎样画深山藏古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几百年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个皇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非常喜欢作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还设立了一个御画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中了国内顶级画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一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想试一试画家们高下优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就出了一个题目叫“深山藏古寺”，要他们分头作画，来表达这个意思。画家们饺尽脑汁，争锋斗雄，寻求最理想的角度，以表示这个主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，如果你是画家，你会怎样画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隐隐约约的落出一个寺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画家，画了重重叠叠的山峦，高矗入云的参天大树，林荫深处，隐隐约约的落出一个寺角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lxt68465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19760" y="333360"/>
            <a:ext cx="42242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8:14:38Z</dcterms:created>
  <dc:creator/>
  <dc:description/>
  <cp:keywords>幻灯片之家 http:/www.eeppt.com</cp:keywords>
  <dc:language>en-US</dc:language>
  <cp:lastModifiedBy/>
  <dcterms:modified xsi:type="dcterms:W3CDTF">2015-07-17T14:57:16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9</vt:r8>
  </property>
</Properties>
</file>