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4ED0-6D36-4B90-ABD1-CDECF6EC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586-6F90-4FFE-8C2C-3EC39CDC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1AC9-DD00-49F1-A91A-B0FDAD4C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6DA-1FA4-40AC-9FAC-316BE3662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B021-A75A-40BA-AD06-40A933451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775E-8B89-40E4-83F6-A7F10B64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BBAC-496F-4C61-BD51-AAF1B987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04405-CF70-4F1D-8BC8-A898B430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AC31-0D93-4175-AB9B-1AB42647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6BF6A-074C-446E-9261-BF811C226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BCEF-47C7-4627-81B8-639C1A0E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D6D-2797-4B4D-B2F4-A6B1D1A7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8CB1E-AEA6-449F-9005-D9B1EA6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437E-713C-45EB-A772-7F89F2EF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842E-3BA1-41E1-8868-48005B5B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7DCC-10BC-4E9B-A6F8-EA5D4C115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29E92-905C-4A1A-AA1E-E42898A4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B6D-2C57-437F-8064-8B779DBD8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C4F4-AFC3-4DA1-A76F-D9A81669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5D28-4D35-4B73-AFD3-7D2A92F3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3CE-2E26-43EB-838D-C2F1E37A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262C-EDE0-48B7-A48E-6097A10A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DA6-8A22-4EAE-A27D-5A4AFA45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B2A-CDFD-4A23-AA2B-8EB99F01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D117-D776-47B5-A5F2-A1C345EB08A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FE8D-9F7E-4C9C-BF0A-656C474878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99FB-20FD-45EB-9C22-FD78B19D0DF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9F3C-AF8D-4D98-B3A7-7AD7AD3600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6600" y="0"/>
            <a:ext cx="905508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6600" y="649296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46080" y="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63DC-6637-418D-AAA0-714111DFE5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dc:language>en-US</dc:language>
  <cp:lastModifiedBy>bianxiaoxiang</cp:lastModifiedBy>
  <dcterms:modified xsi:type="dcterms:W3CDTF">2015-07-21T02:51:0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