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DB6-9614-41A2-891D-A6FCD775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09E4-168D-4767-B406-1B45EDBD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AE0-9FEA-4AA7-ABFB-FACF6E3D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63B-9DE8-4965-8F62-B41C5948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5FB-94E1-4129-9AA5-BEACE8F0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6AC6-269E-4317-97B1-EC1A336F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4DB-B0A7-4520-9EF7-1D3A6396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F36-F62D-4E5E-8579-9EB1332D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D13-A7F7-4A5C-8B49-23378C0E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77CF-1B32-49C0-A71D-68F375B2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40D-37E5-4923-97B3-DA00A8D3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CC79-22C3-48EB-AD11-BD5E9A02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D9D8-CC47-4ACA-947F-09D435C1CE8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8E2D-ACD8-40C4-BA73-83A632A8C4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280" y="363600"/>
            <a:ext cx="9090360" cy="6060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00600" y="612720"/>
            <a:ext cx="34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香奈儿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36D-F764-420A-AEE1-539BCFC5C5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6520" y="450720"/>
            <a:ext cx="8129520" cy="59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