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B3C4-E899-4B52-9C94-B8AFC334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DE22-0941-4F54-BC3E-C4D27C96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B61-2E49-4C8D-842E-4E9A9B76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9713-7A41-4DAB-A323-CF5198845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4A62-4B9F-46A7-B399-347F5572F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BBD5-90A0-41B4-AD79-A74F1B13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2D18-4BE1-4D9F-A099-31233460A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E4C6-E63D-4AC7-87AA-8DB71379E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1E16-C25C-42CF-B0BF-32B18DD8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0652-B229-4AAC-84A8-417DB12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90CE-C33D-44A0-82BE-7E1E2AC8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5A7F-A793-4D0D-932E-C1127F7B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http://www.lspjy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1D327-4075-43D4-BA33-20A74EC6C48E}" type="slidenum">
              <a:rPr b="0" lang="en-US" sz="1400" spc="-1" strike="noStrike">
                <a:solidFill>
                  <a:srgbClr val="002ec2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xsdxdbj_zongjie.avi" TargetMode="External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2"/>
          <a:stretch/>
        </p:blipFill>
        <p:spPr>
          <a:xfrm>
            <a:off x="666720" y="987480"/>
            <a:ext cx="1771560" cy="5364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1567800" y="1523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大小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grpSp>
        <p:nvGrpSpPr>
          <p:cNvPr id="44" name="Group 8"/>
          <p:cNvGrpSpPr/>
          <p:nvPr/>
        </p:nvGrpSpPr>
        <p:grpSpPr>
          <a:xfrm>
            <a:off x="1759320" y="2057400"/>
            <a:ext cx="5682240" cy="534960"/>
            <a:chOff x="1759320" y="2057400"/>
            <a:chExt cx="5682240" cy="534960"/>
          </a:xfrm>
        </p:grpSpPr>
        <p:sp>
          <p:nvSpPr>
            <p:cNvPr id="45" name="Text Box 5"/>
            <p:cNvSpPr/>
            <p:nvPr/>
          </p:nvSpPr>
          <p:spPr>
            <a:xfrm>
              <a:off x="1759320" y="2071800"/>
              <a:ext cx="5682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ec2"/>
                  </a:solidFill>
                  <a:latin typeface="Times New Roman"/>
                </a:rPr>
                <a:t>832        799                   6124       6214</a:t>
              </a: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6" name="Oval 6"/>
            <p:cNvSpPr/>
            <p:nvPr/>
          </p:nvSpPr>
          <p:spPr>
            <a:xfrm>
              <a:off x="251460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6095880" y="2057400"/>
              <a:ext cx="457200" cy="45720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2ec2"/>
                </a:solidFill>
                <a:latin typeface="Times New Roman"/>
              </a:endParaRPr>
            </a:p>
          </p:txBody>
        </p:sp>
      </p:grpSp>
      <p:sp>
        <p:nvSpPr>
          <p:cNvPr id="48" name="Text Box 9"/>
          <p:cNvSpPr/>
          <p:nvPr/>
        </p:nvSpPr>
        <p:spPr>
          <a:xfrm>
            <a:off x="609768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557800" y="198108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144160" y="27115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说说怎样比较整数的大小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922040" y="3505320"/>
            <a:ext cx="432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当整数位数不同时，位数多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的那个数就大；当整数位数相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时，从高位开始比较，按数位顺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序一位一位地比，哪一位的数大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那个数就大，就不再比下一位了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52" name="Picture 13" descr="a7"/>
          <p:cNvPicPr/>
          <p:nvPr/>
        </p:nvPicPr>
        <p:blipFill>
          <a:blip r:embed="rId3"/>
          <a:stretch/>
        </p:blipFill>
        <p:spPr>
          <a:xfrm>
            <a:off x="6865920" y="3352680"/>
            <a:ext cx="1287360" cy="2408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1128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3300"/>
                </a:solidFill>
                <a:uFillTx/>
                <a:latin typeface="Times New Roman"/>
                <a:hlinkClick r:id="rId4"/>
              </a:rPr>
              <a:t>ppt课件模板</a:t>
            </a:r>
            <a:r>
              <a:rPr b="1" lang="en-US" sz="1800" spc="-1" strike="noStrike">
                <a:solidFill>
                  <a:srgbClr val="002ec2"/>
                </a:solidFill>
                <a:latin typeface="Times New Roman"/>
              </a:rPr>
              <a:t>http://www.eeppt.com/moban/kejian/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2ec2"/>
                </a:solidFill>
                <a:latin typeface="Times New Roman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FA74-F35C-4F43-93EC-33D0FE93F0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203560" y="181944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.0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2392920" y="2743200"/>
            <a:ext cx="272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：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865240" y="3505320"/>
            <a:ext cx="309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.2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 4.0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61" name="Picture 7" descr="a6"/>
          <p:cNvPicPr/>
          <p:nvPr/>
        </p:nvPicPr>
        <p:blipFill>
          <a:blip r:embed="rId3"/>
          <a:stretch/>
        </p:blipFill>
        <p:spPr>
          <a:xfrm>
            <a:off x="1450800" y="3962520"/>
            <a:ext cx="1140120" cy="2286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3314880" y="4267080"/>
            <a:ext cx="36795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两个小数的大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小，先看它们的整数部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分，整数部分大的那个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数就大。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95360" y="1523880"/>
            <a:ext cx="27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4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44240" y="2224080"/>
            <a:ext cx="198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都是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2250360" y="2819520"/>
            <a:ext cx="348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各是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和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25760" y="38862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十分位上的数哪个大？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98800" y="3908520"/>
            <a:ext cx="16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（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大 ）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014000" y="3352680"/>
            <a:ext cx="279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各是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 和 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角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3402000" y="4586400"/>
            <a:ext cx="27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2.35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lt; 2.41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元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1" name="Picture 11" descr="a6"/>
          <p:cNvPicPr/>
          <p:nvPr/>
        </p:nvPicPr>
        <p:blipFill>
          <a:blip r:embed="rId3"/>
          <a:stretch/>
        </p:blipFill>
        <p:spPr>
          <a:xfrm>
            <a:off x="7191360" y="3657600"/>
            <a:ext cx="1190520" cy="23893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2"/>
          <p:cNvSpPr/>
          <p:nvPr/>
        </p:nvSpPr>
        <p:spPr>
          <a:xfrm>
            <a:off x="2743200" y="5302080"/>
            <a:ext cx="41911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　　当整数部分相同时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比较十分位上的数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ec2"/>
                </a:solidFill>
                <a:latin typeface="BankGothic Lt BT"/>
              </a:rPr>
              <a:t>www.eeppt.com</a:t>
            </a:r>
            <a:endParaRPr b="1" lang="en-US" sz="18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ds新知学习"/>
          <p:cNvPicPr/>
          <p:nvPr/>
        </p:nvPicPr>
        <p:blipFill>
          <a:blip r:embed="rId2"/>
          <a:stretch/>
        </p:blipFill>
        <p:spPr>
          <a:xfrm>
            <a:off x="746280" y="998640"/>
            <a:ext cx="1692000" cy="5252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1696320" y="1600200"/>
            <a:ext cx="38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比较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和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59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的大小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440080" y="2757600"/>
            <a:ext cx="5173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整数部分和十分位上的数都相同，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就要看百分位，百分位上的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，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与表示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个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1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。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377880" y="4281480"/>
            <a:ext cx="327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0.07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r>
              <a:rPr b="1" lang="en-US" sz="2800" spc="-1" strike="noStrike">
                <a:solidFill>
                  <a:srgbClr val="002ec2"/>
                </a:solidFill>
                <a:latin typeface="Times New Roman"/>
              </a:rPr>
              <a:t>&gt;  0.059 </a:t>
            </a: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米 </a:t>
            </a:r>
            <a:endParaRPr b="1" lang="en-US" sz="2800" spc="-1" strike="noStrike">
              <a:solidFill>
                <a:srgbClr val="002ec2"/>
              </a:solidFill>
              <a:latin typeface="Times New Roman"/>
            </a:endParaRPr>
          </a:p>
        </p:txBody>
      </p:sp>
      <p:pic>
        <p:nvPicPr>
          <p:cNvPr id="78" name="Picture 6" descr="a8"/>
          <p:cNvPicPr/>
          <p:nvPr/>
        </p:nvPicPr>
        <p:blipFill>
          <a:blip r:embed="rId3"/>
          <a:stretch/>
        </p:blipFill>
        <p:spPr>
          <a:xfrm>
            <a:off x="1371600" y="4191120"/>
            <a:ext cx="1409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1676520"/>
            <a:ext cx="6095880" cy="4284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80" name="Picture 8" descr="ds知识应用"/>
          <p:cNvPicPr/>
          <p:nvPr/>
        </p:nvPicPr>
        <p:blipFill>
          <a:blip r:embed="rId4"/>
          <a:stretch/>
        </p:blipFill>
        <p:spPr>
          <a:xfrm>
            <a:off x="712800" y="103176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3300"/>
                </a:solidFill>
                <a:uFillTx/>
                <a:latin typeface="Verdana"/>
                <a:hlinkClick r:id="rId5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1" lang="en-US" sz="1400" spc="-1" strike="noStrike">
              <a:solidFill>
                <a:srgbClr val="002ec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02:49:41Z</dcterms:created>
  <dc:creator/>
  <dc:description/>
  <cp:keywords>幻灯片之家 http:/www.eeppt.com</cp:keywords>
  <dc:language>en-US</dc:language>
  <cp:lastModifiedBy/>
  <dcterms:modified xsi:type="dcterms:W3CDTF">2015-07-03T12:07:03Z</dcterms:modified>
  <cp:revision>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