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8837-6789-4C6B-8B7B-D6531A57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0A6-E2AB-4581-A572-F59C9FAF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9CC6-A8E0-4D2A-9034-E42F22C8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C09-9A89-40BF-91BC-92AC0916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F8E4-FFA1-4618-B93B-8F3060F5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B28-45E2-4002-8C19-8E8541F9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AACA-928C-4ABD-B9A6-5C369A8A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0059-E12F-4A2A-98FB-170BF937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03160" y="25524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81C8-CB7B-4BAE-BABD-D6517CBD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1CA3-476F-472F-B3C8-B8B16C86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FEF1-3A0D-4281-A99D-9B0C3F09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BAE-3F9D-4F15-8A3D-E3133B70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8DB4-29AA-4006-8539-E43C1BF728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圆角矩形 7"/>
          <p:cNvSpPr/>
          <p:nvPr/>
        </p:nvSpPr>
        <p:spPr>
          <a:xfrm>
            <a:off x="395280" y="692280"/>
            <a:ext cx="289080" cy="72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圆角矩形 10"/>
          <p:cNvSpPr/>
          <p:nvPr/>
        </p:nvSpPr>
        <p:spPr>
          <a:xfrm>
            <a:off x="395280" y="488880"/>
            <a:ext cx="289080" cy="73080"/>
          </a:xfrm>
          <a:prstGeom prst="roundRect">
            <a:avLst>
              <a:gd name="adj" fmla="val 50000"/>
            </a:avLst>
          </a:prstGeom>
          <a:solidFill>
            <a:srgbClr val="d9e8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圆角矩形 11"/>
          <p:cNvSpPr/>
          <p:nvPr/>
        </p:nvSpPr>
        <p:spPr>
          <a:xfrm>
            <a:off x="395280" y="590400"/>
            <a:ext cx="360360" cy="73080"/>
          </a:xfrm>
          <a:prstGeom prst="roundRect">
            <a:avLst>
              <a:gd name="adj" fmla="val 50000"/>
            </a:avLst>
          </a:prstGeom>
          <a:solidFill>
            <a:srgbClr val="b487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360" y="2491920"/>
            <a:ext cx="662472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线条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图片素材免费下载</a:t>
            </a: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80960" y="3573360"/>
            <a:ext cx="6400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98989"/>
                </a:solidFill>
                <a:latin typeface="微软雅黑"/>
                <a:ea typeface="微软雅黑"/>
              </a:rPr>
              <a:t>不因简单而失去乐趣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圆角矩形 9"/>
          <p:cNvSpPr/>
          <p:nvPr/>
        </p:nvSpPr>
        <p:spPr>
          <a:xfrm>
            <a:off x="3741840" y="6445080"/>
            <a:ext cx="1677960" cy="212760"/>
          </a:xfrm>
          <a:prstGeom prst="roundRect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BREAD PPT WORK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0"/>
          <p:cNvSpPr/>
          <p:nvPr/>
        </p:nvSpPr>
        <p:spPr>
          <a:xfrm>
            <a:off x="3696480" y="6245280"/>
            <a:ext cx="1768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ake your PPT design more intersecti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2026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</a:rPr>
              <a:t>产品组合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grpSp>
        <p:nvGrpSpPr>
          <p:cNvPr id="50" name="组合 9"/>
          <p:cNvGrpSpPr/>
          <p:nvPr/>
        </p:nvGrpSpPr>
        <p:grpSpPr>
          <a:xfrm>
            <a:off x="1193760" y="4567320"/>
            <a:ext cx="6769080" cy="1152360"/>
            <a:chOff x="1193760" y="4567320"/>
            <a:chExt cx="6769080" cy="1152360"/>
          </a:xfrm>
        </p:grpSpPr>
        <p:sp>
          <p:nvSpPr>
            <p:cNvPr id="51" name="圆角矩形 5"/>
            <p:cNvSpPr/>
            <p:nvPr/>
          </p:nvSpPr>
          <p:spPr>
            <a:xfrm>
              <a:off x="1193760" y="4567320"/>
              <a:ext cx="6769080" cy="1152360"/>
            </a:xfrm>
            <a:prstGeom prst="roundRect">
              <a:avLst>
                <a:gd name="adj" fmla="val 50000"/>
              </a:avLst>
            </a:prstGeom>
            <a:noFill/>
            <a:ln w="25560">
              <a:solidFill>
                <a:srgbClr val="b487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椭圆 6"/>
            <p:cNvSpPr/>
            <p:nvPr/>
          </p:nvSpPr>
          <p:spPr>
            <a:xfrm>
              <a:off x="1247040" y="4603320"/>
              <a:ext cx="1080000" cy="1080360"/>
            </a:xfrm>
            <a:prstGeom prst="ellipse">
              <a:avLst/>
            </a:prstGeom>
            <a:solidFill>
              <a:srgbClr val="b48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组合 10"/>
          <p:cNvGrpSpPr/>
          <p:nvPr/>
        </p:nvGrpSpPr>
        <p:grpSpPr>
          <a:xfrm>
            <a:off x="1193760" y="3284640"/>
            <a:ext cx="6769080" cy="1152360"/>
            <a:chOff x="1193760" y="3284640"/>
            <a:chExt cx="6769080" cy="1152360"/>
          </a:xfrm>
        </p:grpSpPr>
        <p:sp>
          <p:nvSpPr>
            <p:cNvPr id="54" name="圆角矩形 4"/>
            <p:cNvSpPr/>
            <p:nvPr/>
          </p:nvSpPr>
          <p:spPr>
            <a:xfrm>
              <a:off x="1193760" y="3284640"/>
              <a:ext cx="6769080" cy="1152360"/>
            </a:xfrm>
            <a:prstGeom prst="roundRect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椭圆 7"/>
            <p:cNvSpPr/>
            <p:nvPr/>
          </p:nvSpPr>
          <p:spPr>
            <a:xfrm>
              <a:off x="1247040" y="3320640"/>
              <a:ext cx="1080000" cy="1080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组合 11"/>
          <p:cNvGrpSpPr/>
          <p:nvPr/>
        </p:nvGrpSpPr>
        <p:grpSpPr>
          <a:xfrm>
            <a:off x="1193760" y="1989000"/>
            <a:ext cx="6769080" cy="1152720"/>
            <a:chOff x="1193760" y="1989000"/>
            <a:chExt cx="6769080" cy="1152720"/>
          </a:xfrm>
        </p:grpSpPr>
        <p:sp>
          <p:nvSpPr>
            <p:cNvPr id="57" name="圆角矩形 3"/>
            <p:cNvSpPr/>
            <p:nvPr/>
          </p:nvSpPr>
          <p:spPr>
            <a:xfrm>
              <a:off x="1193760" y="1989000"/>
              <a:ext cx="6769080" cy="1152720"/>
            </a:xfrm>
            <a:prstGeom prst="roundRect">
              <a:avLst>
                <a:gd name="adj" fmla="val 50000"/>
              </a:avLst>
            </a:prstGeom>
            <a:noFill/>
            <a:ln w="25560">
              <a:solidFill>
                <a:srgbClr val="d9e8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椭圆 8"/>
            <p:cNvSpPr/>
            <p:nvPr/>
          </p:nvSpPr>
          <p:spPr>
            <a:xfrm>
              <a:off x="1247040" y="2025000"/>
              <a:ext cx="1080000" cy="1080720"/>
            </a:xfrm>
            <a:prstGeom prst="ellipse">
              <a:avLst/>
            </a:prstGeom>
            <a:solidFill>
              <a:srgbClr val="d9e8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TextBox 12"/>
          <p:cNvSpPr/>
          <p:nvPr/>
        </p:nvSpPr>
        <p:spPr>
          <a:xfrm>
            <a:off x="1301760" y="191628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aettenschweiler"/>
              </a:rPr>
              <a:t>1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1335240" y="323532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Haettenschweiler"/>
              </a:rPr>
              <a:t>2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1338480" y="450684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aettenschweiler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1573560" y="27208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1573560" y="40305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  <a:ea typeface="Arial"/>
              </a:rPr>
              <a:t>E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1573560" y="51786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19"/>
          <p:cNvSpPr/>
          <p:nvPr/>
        </p:nvSpPr>
        <p:spPr>
          <a:xfrm>
            <a:off x="3990960" y="2025720"/>
            <a:ext cx="0" cy="1042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20"/>
          <p:cNvSpPr/>
          <p:nvPr/>
        </p:nvSpPr>
        <p:spPr>
          <a:xfrm>
            <a:off x="5867280" y="2025720"/>
            <a:ext cx="0" cy="1042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21"/>
          <p:cNvSpPr/>
          <p:nvPr/>
        </p:nvSpPr>
        <p:spPr>
          <a:xfrm>
            <a:off x="3990960" y="3321000"/>
            <a:ext cx="0" cy="1044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接连接符 22"/>
          <p:cNvSpPr/>
          <p:nvPr/>
        </p:nvSpPr>
        <p:spPr>
          <a:xfrm>
            <a:off x="5867280" y="3321000"/>
            <a:ext cx="0" cy="1044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接连接符 23"/>
          <p:cNvSpPr/>
          <p:nvPr/>
        </p:nvSpPr>
        <p:spPr>
          <a:xfrm>
            <a:off x="3990960" y="4638600"/>
            <a:ext cx="0" cy="1044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24"/>
          <p:cNvSpPr/>
          <p:nvPr/>
        </p:nvSpPr>
        <p:spPr>
          <a:xfrm>
            <a:off x="5867280" y="4638600"/>
            <a:ext cx="0" cy="1044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5"/>
          <p:cNvSpPr/>
          <p:nvPr/>
        </p:nvSpPr>
        <p:spPr>
          <a:xfrm>
            <a:off x="2628000" y="1547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O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7"/>
          <p:cNvSpPr/>
          <p:nvPr/>
        </p:nvSpPr>
        <p:spPr>
          <a:xfrm>
            <a:off x="4578480" y="15476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26"/>
          <p:cNvSpPr/>
          <p:nvPr/>
        </p:nvSpPr>
        <p:spPr>
          <a:xfrm>
            <a:off x="6594840" y="15476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2411280" y="2147760"/>
            <a:ext cx="157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600mins f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Share with mob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8"/>
          <p:cNvSpPr/>
          <p:nvPr/>
        </p:nvSpPr>
        <p:spPr>
          <a:xfrm>
            <a:off x="2417760" y="3357720"/>
            <a:ext cx="157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1200mins f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Share with mob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9"/>
          <p:cNvSpPr/>
          <p:nvPr/>
        </p:nvSpPr>
        <p:spPr>
          <a:xfrm>
            <a:off x="2411280" y="4676760"/>
            <a:ext cx="157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2400mins f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Share with mob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0"/>
          <p:cNvSpPr/>
          <p:nvPr/>
        </p:nvSpPr>
        <p:spPr>
          <a:xfrm>
            <a:off x="4187880" y="2135160"/>
            <a:ext cx="154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WIFI 10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1GB WAP/CD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1"/>
          <p:cNvSpPr/>
          <p:nvPr/>
        </p:nvSpPr>
        <p:spPr>
          <a:xfrm>
            <a:off x="4187880" y="3398760"/>
            <a:ext cx="154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WIFI 20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1GB WAP/CD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2"/>
          <p:cNvSpPr/>
          <p:nvPr/>
        </p:nvSpPr>
        <p:spPr>
          <a:xfrm>
            <a:off x="4187880" y="4676760"/>
            <a:ext cx="154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WIFI 50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1GB WAP/CD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3"/>
          <p:cNvSpPr/>
          <p:nvPr/>
        </p:nvSpPr>
        <p:spPr>
          <a:xfrm>
            <a:off x="5974560" y="2103480"/>
            <a:ext cx="13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HUWWEI 9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MOTO XT3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4"/>
          <p:cNvSpPr/>
          <p:nvPr/>
        </p:nvSpPr>
        <p:spPr>
          <a:xfrm>
            <a:off x="5973840" y="3398760"/>
            <a:ext cx="13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HTC 9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MOTO XT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5"/>
          <p:cNvSpPr/>
          <p:nvPr/>
        </p:nvSpPr>
        <p:spPr>
          <a:xfrm>
            <a:off x="5968440" y="4716360"/>
            <a:ext cx="134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MOTO ME8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IPHONE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圆角矩形 18"/>
          <p:cNvSpPr/>
          <p:nvPr/>
        </p:nvSpPr>
        <p:spPr>
          <a:xfrm>
            <a:off x="7020000" y="6486480"/>
            <a:ext cx="1679400" cy="212760"/>
          </a:xfrm>
          <a:prstGeom prst="roundRect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BREAD PPT WORK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38"/>
          <p:cNvSpPr/>
          <p:nvPr/>
        </p:nvSpPr>
        <p:spPr>
          <a:xfrm>
            <a:off x="6975360" y="6286680"/>
            <a:ext cx="1768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ake your PPT design more intersecti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8218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</a:rPr>
              <a:t>在此录入标题内容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椭圆 4"/>
          <p:cNvSpPr/>
          <p:nvPr/>
        </p:nvSpPr>
        <p:spPr>
          <a:xfrm>
            <a:off x="4060800" y="3500280"/>
            <a:ext cx="798480" cy="79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圆角矩形 5"/>
          <p:cNvSpPr/>
          <p:nvPr/>
        </p:nvSpPr>
        <p:spPr>
          <a:xfrm>
            <a:off x="4000680" y="3409920"/>
            <a:ext cx="936360" cy="2773440"/>
          </a:xfrm>
          <a:custGeom>
            <a:avLst/>
            <a:gdLst>
              <a:gd name="textAreaLeft" fmla="*/ 137160 w 936360"/>
              <a:gd name="textAreaRight" fmla="*/ 799200 w 936360"/>
              <a:gd name="textAreaTop" fmla="*/ 137160 h 2773440"/>
              <a:gd name="textAreaBottom" fmla="*/ 2636280 h 2773440"/>
            </a:gdLst>
            <a:ahLst/>
            <a:rect l="textAreaLeft" t="textAreaTop" r="textAreaRight" b="textAreaBottom"/>
            <a:pathLst>
              <a:path w="21600" h="63962">
                <a:moveTo>
                  <a:pt x="10800" y="0"/>
                </a:moveTo>
                <a:arcTo wR="10800" hR="10800" stAng="16200000" swAng="-5400000"/>
                <a:lnTo>
                  <a:pt x="0" y="53162"/>
                </a:lnTo>
                <a:arcTo wR="10800" hR="10800" stAng="10800000" swAng="-5400000"/>
                <a:lnTo>
                  <a:pt x="10800" y="6396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285840" indent="-285840" algn="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圆角矩形 6"/>
          <p:cNvSpPr/>
          <p:nvPr/>
        </p:nvSpPr>
        <p:spPr>
          <a:xfrm rot="14344800">
            <a:off x="4764960" y="2049840"/>
            <a:ext cx="936720" cy="2773440"/>
          </a:xfrm>
          <a:custGeom>
            <a:avLst/>
            <a:gdLst>
              <a:gd name="textAreaLeft" fmla="*/ 137160 w 936720"/>
              <a:gd name="textAreaRight" fmla="*/ 799560 w 936720"/>
              <a:gd name="textAreaTop" fmla="*/ 137160 h 2773440"/>
              <a:gd name="textAreaBottom" fmla="*/ 2636280 h 2773440"/>
            </a:gdLst>
            <a:ahLst/>
            <a:rect l="textAreaLeft" t="textAreaTop" r="textAreaRight" b="textAreaBottom"/>
            <a:pathLst>
              <a:path w="21600" h="63937">
                <a:moveTo>
                  <a:pt x="10800" y="0"/>
                </a:moveTo>
                <a:arcTo wR="10800" hR="10800" stAng="16200000" swAng="-5400000"/>
                <a:lnTo>
                  <a:pt x="0" y="53137"/>
                </a:lnTo>
                <a:arcTo wR="10800" hR="10800" stAng="10800000" swAng="-5400000"/>
                <a:lnTo>
                  <a:pt x="10800" y="639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5560">
            <a:solidFill>
              <a:srgbClr val="b487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285840" indent="-285840" algn="r">
              <a:lnSpc>
                <a:spcPct val="100000"/>
              </a:lnSpc>
              <a:buClr>
                <a:srgbClr val="b48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487b6"/>
                </a:solidFill>
                <a:latin typeface="微软雅黑"/>
                <a:ea typeface="微软雅黑"/>
              </a:rPr>
              <a:t>在此录入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圆角矩形 8"/>
          <p:cNvSpPr/>
          <p:nvPr/>
        </p:nvSpPr>
        <p:spPr>
          <a:xfrm rot="18202800">
            <a:off x="3265920" y="2019960"/>
            <a:ext cx="935280" cy="2771640"/>
          </a:xfrm>
          <a:custGeom>
            <a:avLst/>
            <a:gdLst>
              <a:gd name="textAreaLeft" fmla="*/ 136800 w 935280"/>
              <a:gd name="textAreaRight" fmla="*/ 798480 w 935280"/>
              <a:gd name="textAreaTop" fmla="*/ 136800 h 2771640"/>
              <a:gd name="textAreaBottom" fmla="*/ 2634840 h 2771640"/>
            </a:gdLst>
            <a:ahLst/>
            <a:rect l="textAreaLeft" t="textAreaTop" r="textAreaRight" b="textAreaBottom"/>
            <a:pathLst>
              <a:path w="21600" h="63994">
                <a:moveTo>
                  <a:pt x="10800" y="0"/>
                </a:moveTo>
                <a:arcTo wR="10800" hR="10800" stAng="16200000" swAng="-5400000"/>
                <a:lnTo>
                  <a:pt x="0" y="53194"/>
                </a:lnTo>
                <a:arcTo wR="10800" hR="10800" stAng="10800000" swAng="-5400000"/>
                <a:lnTo>
                  <a:pt x="10800" y="6399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5560">
            <a:solidFill>
              <a:srgbClr val="d9e8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285840" indent="-285840">
              <a:lnSpc>
                <a:spcPct val="100000"/>
              </a:lnSpc>
              <a:buClr>
                <a:srgbClr val="d9e8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9e883"/>
                </a:solidFill>
                <a:latin typeface="微软雅黑"/>
                <a:ea typeface="微软雅黑"/>
              </a:rPr>
              <a:t>在此录入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1776600" y="395928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d9e8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9e883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d9e8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9e883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d9e8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9e883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d9e8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9e883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6090120" y="410220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986640" y="148428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b48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487b6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b48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487b6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b48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487b6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b48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487b6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圆角矩形 15"/>
          <p:cNvSpPr/>
          <p:nvPr/>
        </p:nvSpPr>
        <p:spPr>
          <a:xfrm>
            <a:off x="7020000" y="6486480"/>
            <a:ext cx="1679400" cy="212760"/>
          </a:xfrm>
          <a:prstGeom prst="roundRect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BREAD PPT WORK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6"/>
          <p:cNvSpPr/>
          <p:nvPr/>
        </p:nvSpPr>
        <p:spPr>
          <a:xfrm>
            <a:off x="6975360" y="6286680"/>
            <a:ext cx="1768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ake your PPT design more intersecti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2108160" y="6308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</a:rPr>
              <a:t>在此录入标题内容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7" name="椭圆 2"/>
          <p:cNvSpPr/>
          <p:nvPr/>
        </p:nvSpPr>
        <p:spPr>
          <a:xfrm>
            <a:off x="3376440" y="2671920"/>
            <a:ext cx="798840" cy="798480"/>
          </a:xfrm>
          <a:prstGeom prst="ellipse">
            <a:avLst/>
          </a:prstGeom>
          <a:solidFill>
            <a:srgbClr val="b487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圆角矩形 3"/>
          <p:cNvSpPr/>
          <p:nvPr/>
        </p:nvSpPr>
        <p:spPr>
          <a:xfrm rot="2685600">
            <a:off x="4692240" y="2388960"/>
            <a:ext cx="934920" cy="2268360"/>
          </a:xfrm>
          <a:custGeom>
            <a:avLst/>
            <a:gdLst>
              <a:gd name="textAreaLeft" fmla="*/ 136800 w 934920"/>
              <a:gd name="textAreaRight" fmla="*/ 798120 w 934920"/>
              <a:gd name="textAreaTop" fmla="*/ 136800 h 2268360"/>
              <a:gd name="textAreaBottom" fmla="*/ 2131560 h 2268360"/>
            </a:gdLst>
            <a:ahLst/>
            <a:rect l="textAreaLeft" t="textAreaTop" r="textAreaRight" b="textAreaBottom"/>
            <a:pathLst>
              <a:path w="21600" h="52395">
                <a:moveTo>
                  <a:pt x="10800" y="0"/>
                </a:moveTo>
                <a:arcTo wR="10800" hR="10800" stAng="16200000" swAng="-5400000"/>
                <a:lnTo>
                  <a:pt x="0" y="41595"/>
                </a:lnTo>
                <a:arcTo wR="10800" hR="10800" stAng="10800000" swAng="-5400000"/>
                <a:lnTo>
                  <a:pt x="10800" y="5239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5560">
            <a:solidFill>
              <a:srgbClr val="d9e8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285840" indent="-285840" algn="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圆角矩形 4"/>
          <p:cNvSpPr/>
          <p:nvPr/>
        </p:nvSpPr>
        <p:spPr>
          <a:xfrm rot="13485600">
            <a:off x="3743280" y="3323880"/>
            <a:ext cx="936720" cy="2268360"/>
          </a:xfrm>
          <a:custGeom>
            <a:avLst/>
            <a:gdLst>
              <a:gd name="textAreaLeft" fmla="*/ 137160 w 936720"/>
              <a:gd name="textAreaRight" fmla="*/ 799560 w 936720"/>
              <a:gd name="textAreaTop" fmla="*/ 137160 h 2268360"/>
              <a:gd name="textAreaBottom" fmla="*/ 2131200 h 2268360"/>
            </a:gdLst>
            <a:ahLst/>
            <a:rect l="textAreaLeft" t="textAreaTop" r="textAreaRight" b="textAreaBottom"/>
            <a:pathLst>
              <a:path w="21600" h="52295">
                <a:moveTo>
                  <a:pt x="10800" y="0"/>
                </a:moveTo>
                <a:arcTo wR="10800" hR="10800" stAng="16200000" swAng="-5400000"/>
                <a:lnTo>
                  <a:pt x="0" y="41495"/>
                </a:lnTo>
                <a:arcTo wR="10800" hR="10800" stAng="10800000" swAng="-5400000"/>
                <a:lnTo>
                  <a:pt x="10800" y="5229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5560">
            <a:solidFill>
              <a:srgbClr val="d9e8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285840" indent="-285840" algn="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圆角矩形 5"/>
          <p:cNvSpPr/>
          <p:nvPr/>
        </p:nvSpPr>
        <p:spPr>
          <a:xfrm rot="18885600">
            <a:off x="3747240" y="2384640"/>
            <a:ext cx="936720" cy="2268720"/>
          </a:xfrm>
          <a:custGeom>
            <a:avLst/>
            <a:gdLst>
              <a:gd name="textAreaLeft" fmla="*/ 137160 w 936720"/>
              <a:gd name="textAreaRight" fmla="*/ 799560 w 936720"/>
              <a:gd name="textAreaTop" fmla="*/ 137160 h 2268720"/>
              <a:gd name="textAreaBottom" fmla="*/ 2131560 h 2268720"/>
            </a:gdLst>
            <a:ahLst/>
            <a:rect l="textAreaLeft" t="textAreaTop" r="textAreaRight" b="textAreaBottom"/>
            <a:pathLst>
              <a:path w="21600" h="52303">
                <a:moveTo>
                  <a:pt x="10800" y="0"/>
                </a:moveTo>
                <a:arcTo wR="10800" hR="10800" stAng="16200000" swAng="-5400000"/>
                <a:lnTo>
                  <a:pt x="0" y="41503"/>
                </a:lnTo>
                <a:arcTo wR="10800" hR="10800" stAng="10800000" swAng="-5400000"/>
                <a:lnTo>
                  <a:pt x="10800" y="5230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5560">
            <a:solidFill>
              <a:srgbClr val="b487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圆角矩形 6"/>
          <p:cNvSpPr/>
          <p:nvPr/>
        </p:nvSpPr>
        <p:spPr>
          <a:xfrm rot="18885600">
            <a:off x="4699800" y="3326040"/>
            <a:ext cx="936720" cy="2268720"/>
          </a:xfrm>
          <a:custGeom>
            <a:avLst/>
            <a:gdLst>
              <a:gd name="textAreaLeft" fmla="*/ 137160 w 936720"/>
              <a:gd name="textAreaRight" fmla="*/ 799560 w 936720"/>
              <a:gd name="textAreaTop" fmla="*/ 137160 h 2268720"/>
              <a:gd name="textAreaBottom" fmla="*/ 2131560 h 2268720"/>
            </a:gdLst>
            <a:ahLst/>
            <a:rect l="textAreaLeft" t="textAreaTop" r="textAreaRight" b="textAreaBottom"/>
            <a:pathLst>
              <a:path w="21600" h="52303">
                <a:moveTo>
                  <a:pt x="10800" y="0"/>
                </a:moveTo>
                <a:arcTo wR="10800" hR="10800" stAng="16200000" swAng="-5400000"/>
                <a:lnTo>
                  <a:pt x="0" y="41503"/>
                </a:lnTo>
                <a:arcTo wR="10800" hR="10800" stAng="10800000" swAng="-5400000"/>
                <a:lnTo>
                  <a:pt x="10800" y="5230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5560">
            <a:solidFill>
              <a:srgbClr val="b487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651320" y="234144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6691680" y="436392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6691680" y="238932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1580040" y="446076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椭圆 12"/>
          <p:cNvSpPr/>
          <p:nvPr/>
        </p:nvSpPr>
        <p:spPr>
          <a:xfrm>
            <a:off x="5241960" y="2671920"/>
            <a:ext cx="798480" cy="798480"/>
          </a:xfrm>
          <a:prstGeom prst="ellipse">
            <a:avLst/>
          </a:prstGeom>
          <a:solidFill>
            <a:srgbClr val="d9e8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椭圆 13"/>
          <p:cNvSpPr/>
          <p:nvPr/>
        </p:nvSpPr>
        <p:spPr>
          <a:xfrm>
            <a:off x="5241960" y="4519440"/>
            <a:ext cx="798480" cy="798840"/>
          </a:xfrm>
          <a:prstGeom prst="ellipse">
            <a:avLst/>
          </a:prstGeom>
          <a:solidFill>
            <a:srgbClr val="b487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椭圆 14"/>
          <p:cNvSpPr/>
          <p:nvPr/>
        </p:nvSpPr>
        <p:spPr>
          <a:xfrm>
            <a:off x="3376440" y="4519440"/>
            <a:ext cx="798840" cy="798840"/>
          </a:xfrm>
          <a:prstGeom prst="ellipse">
            <a:avLst/>
          </a:prstGeom>
          <a:solidFill>
            <a:srgbClr val="d9e8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圆角矩形 16"/>
          <p:cNvSpPr/>
          <p:nvPr/>
        </p:nvSpPr>
        <p:spPr>
          <a:xfrm>
            <a:off x="7020000" y="6486480"/>
            <a:ext cx="1679400" cy="212760"/>
          </a:xfrm>
          <a:prstGeom prst="roundRect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BREAD PPT WORK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7"/>
          <p:cNvSpPr/>
          <p:nvPr/>
        </p:nvSpPr>
        <p:spPr>
          <a:xfrm>
            <a:off x="6975360" y="6286680"/>
            <a:ext cx="1768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ake your PPT design more intersecti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grpSp>
        <p:nvGrpSpPr>
          <p:cNvPr id="112" name="组合 15"/>
          <p:cNvGrpSpPr/>
          <p:nvPr/>
        </p:nvGrpSpPr>
        <p:grpSpPr>
          <a:xfrm>
            <a:off x="2700360" y="1891800"/>
            <a:ext cx="3600360" cy="3570120"/>
            <a:chOff x="2700360" y="1891800"/>
            <a:chExt cx="3600360" cy="3570120"/>
          </a:xfrm>
        </p:grpSpPr>
        <p:sp>
          <p:nvSpPr>
            <p:cNvPr id="113" name="圆角矩形 2"/>
            <p:cNvSpPr/>
            <p:nvPr/>
          </p:nvSpPr>
          <p:spPr>
            <a:xfrm flipV="1" rot="5400000">
              <a:off x="4032360" y="1875960"/>
              <a:ext cx="936360" cy="3600360"/>
            </a:xfrm>
            <a:custGeom>
              <a:avLst/>
              <a:gdLst>
                <a:gd name="textAreaLeft" fmla="*/ 137160 w 936360"/>
                <a:gd name="textAreaRight" fmla="*/ 799200 w 936360"/>
                <a:gd name="textAreaTop" fmla="*/ 137160 h 3600360"/>
                <a:gd name="textAreaBottom" fmla="*/ 3463200 h 3600360"/>
              </a:gdLst>
              <a:ahLst/>
              <a:rect l="textAreaLeft" t="textAreaTop" r="textAreaRight" b="textAreaBottom"/>
              <a:pathLst>
                <a:path w="21600" h="83030">
                  <a:moveTo>
                    <a:pt x="10800" y="0"/>
                  </a:moveTo>
                  <a:arcTo wR="10800" hR="10800" stAng="16200000" swAng="-5400000"/>
                  <a:lnTo>
                    <a:pt x="0" y="72230"/>
                  </a:lnTo>
                  <a:arcTo wR="10800" hR="10800" stAng="10800000" swAng="-5400000"/>
                  <a:lnTo>
                    <a:pt x="10800" y="8303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marL="285840" indent="-285840" algn="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圆角矩形 3"/>
            <p:cNvSpPr/>
            <p:nvPr/>
          </p:nvSpPr>
          <p:spPr>
            <a:xfrm flipV="1" rot="12655200">
              <a:off x="4032360" y="1875960"/>
              <a:ext cx="936000" cy="3600720"/>
            </a:xfrm>
            <a:custGeom>
              <a:avLst/>
              <a:gdLst>
                <a:gd name="textAreaLeft" fmla="*/ 136800 w 936000"/>
                <a:gd name="textAreaRight" fmla="*/ 799200 w 936000"/>
                <a:gd name="textAreaTop" fmla="*/ 136800 h 3600720"/>
                <a:gd name="textAreaBottom" fmla="*/ 3463920 h 3600720"/>
              </a:gdLst>
              <a:ahLst/>
              <a:rect l="textAreaLeft" t="textAreaTop" r="textAreaRight" b="textAreaBottom"/>
              <a:pathLst>
                <a:path w="21600" h="83070">
                  <a:moveTo>
                    <a:pt x="10800" y="0"/>
                  </a:moveTo>
                  <a:arcTo wR="10800" hR="10800" stAng="16200000" swAng="-5400000"/>
                  <a:lnTo>
                    <a:pt x="0" y="72270"/>
                  </a:lnTo>
                  <a:arcTo wR="10800" hR="10800" stAng="10800000" swAng="-5400000"/>
                  <a:lnTo>
                    <a:pt x="10800" y="8307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25560">
              <a:solidFill>
                <a:srgbClr val="b487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marL="285840" indent="-285840" algn="r">
                <a:lnSpc>
                  <a:spcPct val="100000"/>
                </a:lnSpc>
                <a:buClr>
                  <a:srgbClr val="b487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圆角矩形 4"/>
            <p:cNvSpPr/>
            <p:nvPr/>
          </p:nvSpPr>
          <p:spPr>
            <a:xfrm flipV="1" rot="8797200">
              <a:off x="4032000" y="1876320"/>
              <a:ext cx="936000" cy="3601080"/>
            </a:xfrm>
            <a:custGeom>
              <a:avLst/>
              <a:gdLst>
                <a:gd name="textAreaLeft" fmla="*/ 136800 w 936000"/>
                <a:gd name="textAreaRight" fmla="*/ 799200 w 936000"/>
                <a:gd name="textAreaTop" fmla="*/ 136800 h 3601080"/>
                <a:gd name="textAreaBottom" fmla="*/ 3464280 h 3601080"/>
              </a:gdLst>
              <a:ahLst/>
              <a:rect l="textAreaLeft" t="textAreaTop" r="textAreaRight" b="textAreaBottom"/>
              <a:pathLst>
                <a:path w="21600" h="83078">
                  <a:moveTo>
                    <a:pt x="10800" y="0"/>
                  </a:moveTo>
                  <a:arcTo wR="10800" hR="10800" stAng="16200000" swAng="-5400000"/>
                  <a:lnTo>
                    <a:pt x="0" y="72278"/>
                  </a:lnTo>
                  <a:arcTo wR="10800" hR="10800" stAng="10800000" swAng="-5400000"/>
                  <a:lnTo>
                    <a:pt x="10800" y="8307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25560">
              <a:solidFill>
                <a:srgbClr val="d9e8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marL="285840" indent="-285840">
                <a:lnSpc>
                  <a:spcPct val="100000"/>
                </a:lnSpc>
                <a:buClr>
                  <a:srgbClr val="d9e88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椭圆 5"/>
            <p:cNvSpPr/>
            <p:nvPr/>
          </p:nvSpPr>
          <p:spPr>
            <a:xfrm flipV="1" rot="5400000">
              <a:off x="4808160" y="2211480"/>
              <a:ext cx="720000" cy="720000"/>
            </a:xfrm>
            <a:prstGeom prst="ellipse">
              <a:avLst/>
            </a:prstGeom>
            <a:solidFill>
              <a:srgbClr val="b48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椭圆 6"/>
            <p:cNvSpPr/>
            <p:nvPr/>
          </p:nvSpPr>
          <p:spPr>
            <a:xfrm flipV="1" rot="5400000">
              <a:off x="3473640" y="4399560"/>
              <a:ext cx="720000" cy="720000"/>
            </a:xfrm>
            <a:prstGeom prst="ellipse">
              <a:avLst/>
            </a:prstGeom>
            <a:solidFill>
              <a:srgbClr val="b48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椭圆 7"/>
            <p:cNvSpPr/>
            <p:nvPr/>
          </p:nvSpPr>
          <p:spPr>
            <a:xfrm flipV="1" rot="5400000">
              <a:off x="4846320" y="4399560"/>
              <a:ext cx="720000" cy="720000"/>
            </a:xfrm>
            <a:prstGeom prst="ellipse">
              <a:avLst/>
            </a:prstGeom>
            <a:solidFill>
              <a:srgbClr val="d9e8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椭圆 8"/>
            <p:cNvSpPr/>
            <p:nvPr/>
          </p:nvSpPr>
          <p:spPr>
            <a:xfrm flipV="1" rot="5400000">
              <a:off x="3435480" y="2211480"/>
              <a:ext cx="720000" cy="720000"/>
            </a:xfrm>
            <a:prstGeom prst="ellipse">
              <a:avLst/>
            </a:prstGeom>
            <a:solidFill>
              <a:srgbClr val="d9e8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椭圆 9"/>
            <p:cNvSpPr/>
            <p:nvPr/>
          </p:nvSpPr>
          <p:spPr>
            <a:xfrm flipV="1" rot="5400000">
              <a:off x="2840400" y="3315600"/>
              <a:ext cx="720000" cy="720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椭圆 10"/>
            <p:cNvSpPr/>
            <p:nvPr/>
          </p:nvSpPr>
          <p:spPr>
            <a:xfrm flipV="1" rot="5400000">
              <a:off x="5384160" y="3315600"/>
              <a:ext cx="720000" cy="720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TextBox 12"/>
          <p:cNvSpPr/>
          <p:nvPr/>
        </p:nvSpPr>
        <p:spPr>
          <a:xfrm>
            <a:off x="6913800" y="304308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3"/>
          <p:cNvSpPr/>
          <p:nvPr/>
        </p:nvSpPr>
        <p:spPr>
          <a:xfrm>
            <a:off x="6078960" y="165888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6078960" y="486108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1728360" y="162864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1728360" y="483084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0"/>
          <p:cNvSpPr/>
          <p:nvPr/>
        </p:nvSpPr>
        <p:spPr>
          <a:xfrm>
            <a:off x="936000" y="307656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圆角矩形 21"/>
          <p:cNvSpPr/>
          <p:nvPr/>
        </p:nvSpPr>
        <p:spPr>
          <a:xfrm>
            <a:off x="7020000" y="6486480"/>
            <a:ext cx="1679400" cy="212760"/>
          </a:xfrm>
          <a:prstGeom prst="roundRect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BREAD PPT WORK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22"/>
          <p:cNvSpPr/>
          <p:nvPr/>
        </p:nvSpPr>
        <p:spPr>
          <a:xfrm>
            <a:off x="6975360" y="6286680"/>
            <a:ext cx="1768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ake your PPT design more intersecti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1" name="圆角矩形 3"/>
          <p:cNvSpPr/>
          <p:nvPr/>
        </p:nvSpPr>
        <p:spPr>
          <a:xfrm>
            <a:off x="7020000" y="6486480"/>
            <a:ext cx="1679400" cy="212760"/>
          </a:xfrm>
          <a:prstGeom prst="roundRect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BREAD PPT WORK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6975360" y="6286680"/>
            <a:ext cx="1768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ake your PPT design more intersecti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圆角矩形 2"/>
          <p:cNvSpPr/>
          <p:nvPr/>
        </p:nvSpPr>
        <p:spPr>
          <a:xfrm flipV="1">
            <a:off x="612720" y="3671640"/>
            <a:ext cx="7704360" cy="108000"/>
          </a:xfrm>
          <a:prstGeom prst="roundRect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图表 5" descr=""/>
          <p:cNvPicPr/>
          <p:nvPr/>
        </p:nvPicPr>
        <p:blipFill>
          <a:blip r:embed="rId1"/>
          <a:stretch/>
        </p:blipFill>
        <p:spPr>
          <a:xfrm>
            <a:off x="5380200" y="1444680"/>
            <a:ext cx="2895480" cy="2128680"/>
          </a:xfrm>
          <a:prstGeom prst="rect">
            <a:avLst/>
          </a:prstGeom>
          <a:ln w="0">
            <a:noFill/>
          </a:ln>
        </p:spPr>
      </p:pic>
      <p:pic>
        <p:nvPicPr>
          <p:cNvPr id="135" name="图表 9" descr=""/>
          <p:cNvPicPr/>
          <p:nvPr/>
        </p:nvPicPr>
        <p:blipFill>
          <a:blip r:embed="rId2"/>
          <a:stretch/>
        </p:blipFill>
        <p:spPr>
          <a:xfrm>
            <a:off x="754200" y="4076640"/>
            <a:ext cx="3241440" cy="2309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650040" y="187632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4546800" y="4149720"/>
            <a:ext cx="1083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4546800" y="5197320"/>
            <a:ext cx="1083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14"/>
          <p:cNvSpPr/>
          <p:nvPr/>
        </p:nvSpPr>
        <p:spPr>
          <a:xfrm>
            <a:off x="3265560" y="4438800"/>
            <a:ext cx="998640" cy="250560"/>
          </a:xfrm>
          <a:custGeom>
            <a:avLst/>
            <a:gdLst/>
            <a:ahLst/>
            <a:rect l="l" t="t" r="r" b="b"/>
            <a:pathLst>
              <a:path w="997528" h="249382">
                <a:moveTo>
                  <a:pt x="0" y="249382"/>
                </a:moveTo>
                <a:lnTo>
                  <a:pt x="142504" y="0"/>
                </a:lnTo>
                <a:lnTo>
                  <a:pt x="997528" y="0"/>
                </a:lnTo>
              </a:path>
            </a:pathLst>
          </a:custGeom>
          <a:noFill/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18"/>
          <p:cNvSpPr/>
          <p:nvPr/>
        </p:nvSpPr>
        <p:spPr>
          <a:xfrm flipV="1">
            <a:off x="2766960" y="5091840"/>
            <a:ext cx="1447920" cy="427320"/>
          </a:xfrm>
          <a:custGeom>
            <a:avLst/>
            <a:gdLst/>
            <a:ahLst/>
            <a:rect l="l" t="t" r="r" b="b"/>
            <a:pathLst>
              <a:path w="997528" h="249382">
                <a:moveTo>
                  <a:pt x="0" y="249382"/>
                </a:moveTo>
                <a:lnTo>
                  <a:pt x="142504" y="0"/>
                </a:lnTo>
                <a:lnTo>
                  <a:pt x="997528" y="0"/>
                </a:lnTo>
              </a:path>
            </a:pathLst>
          </a:custGeom>
          <a:noFill/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图表 19" descr=""/>
          <p:cNvPicPr/>
          <p:nvPr/>
        </p:nvPicPr>
        <p:blipFill>
          <a:blip r:embed="rId3"/>
          <a:stretch/>
        </p:blipFill>
        <p:spPr>
          <a:xfrm>
            <a:off x="468360" y="1413000"/>
            <a:ext cx="2894040" cy="2128680"/>
          </a:xfrm>
          <a:prstGeom prst="rect">
            <a:avLst/>
          </a:prstGeom>
          <a:ln w="0">
            <a:noFill/>
          </a:ln>
        </p:spPr>
      </p:pic>
      <p:pic>
        <p:nvPicPr>
          <p:cNvPr id="142" name="图表 20" descr=""/>
          <p:cNvPicPr/>
          <p:nvPr/>
        </p:nvPicPr>
        <p:blipFill>
          <a:blip r:embed="rId4"/>
          <a:stretch/>
        </p:blipFill>
        <p:spPr>
          <a:xfrm>
            <a:off x="5583240" y="4132440"/>
            <a:ext cx="28954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260A-D423-4CF1-91FE-CFE667359C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圆角矩形 4"/>
          <p:cNvSpPr/>
          <p:nvPr/>
        </p:nvSpPr>
        <p:spPr>
          <a:xfrm flipV="1" rot="5400000">
            <a:off x="3852000" y="1503000"/>
            <a:ext cx="1297080" cy="3600360"/>
          </a:xfrm>
          <a:custGeom>
            <a:avLst/>
            <a:gdLst>
              <a:gd name="textAreaLeft" fmla="*/ 189720 w 1297080"/>
              <a:gd name="textAreaRight" fmla="*/ 1107360 w 1297080"/>
              <a:gd name="textAreaTop" fmla="*/ 189720 h 3600360"/>
              <a:gd name="textAreaBottom" fmla="*/ 3410640 h 3600360"/>
            </a:gdLst>
            <a:ahLst/>
            <a:rect l="textAreaLeft" t="textAreaTop" r="textAreaRight" b="textAreaBottom"/>
            <a:pathLst>
              <a:path w="21600" h="59945">
                <a:moveTo>
                  <a:pt x="10800" y="0"/>
                </a:moveTo>
                <a:arcTo wR="10800" hR="10800" stAng="16200000" swAng="-5400000"/>
                <a:lnTo>
                  <a:pt x="0" y="49145"/>
                </a:lnTo>
                <a:arcTo wR="10800" hR="10800" stAng="10800000" swAng="-5400000"/>
                <a:lnTo>
                  <a:pt x="10800" y="5994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285840" indent="-285840" algn="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2643120" y="275436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e883"/>
                </a:solidFill>
                <a:latin typeface="Haettenschweiler"/>
              </a:rPr>
              <a:t>BREAD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同侧圆角矩形 10"/>
          <p:cNvSpPr/>
          <p:nvPr/>
        </p:nvSpPr>
        <p:spPr>
          <a:xfrm>
            <a:off x="4861080" y="2906640"/>
            <a:ext cx="811080" cy="406440"/>
          </a:xfrm>
          <a:custGeom>
            <a:avLst/>
            <a:gdLst/>
            <a:ahLst/>
            <a:rect l="l" t="t" r="r" b="b"/>
            <a:pathLst>
              <a:path w="1008112" h="504056">
                <a:moveTo>
                  <a:pt x="297916" y="0"/>
                </a:moveTo>
                <a:lnTo>
                  <a:pt x="413473" y="0"/>
                </a:lnTo>
                <a:cubicBezTo>
                  <a:pt x="395124" y="19992"/>
                  <a:pt x="380823" y="47352"/>
                  <a:pt x="371503" y="78619"/>
                </a:cubicBezTo>
                <a:cubicBezTo>
                  <a:pt x="346705" y="161807"/>
                  <a:pt x="366554" y="241155"/>
                  <a:pt x="415835" y="255845"/>
                </a:cubicBezTo>
                <a:cubicBezTo>
                  <a:pt x="398348" y="211914"/>
                  <a:pt x="398453" y="151182"/>
                  <a:pt x="416119" y="91918"/>
                </a:cubicBezTo>
                <a:cubicBezTo>
                  <a:pt x="426458" y="57231"/>
                  <a:pt x="442107" y="25417"/>
                  <a:pt x="461688" y="0"/>
                </a:cubicBezTo>
                <a:lnTo>
                  <a:pt x="551488" y="0"/>
                </a:lnTo>
                <a:cubicBezTo>
                  <a:pt x="533139" y="19992"/>
                  <a:pt x="518838" y="47352"/>
                  <a:pt x="509518" y="78619"/>
                </a:cubicBezTo>
                <a:cubicBezTo>
                  <a:pt x="484720" y="161807"/>
                  <a:pt x="504569" y="241155"/>
                  <a:pt x="553850" y="255845"/>
                </a:cubicBezTo>
                <a:cubicBezTo>
                  <a:pt x="536363" y="211914"/>
                  <a:pt x="536468" y="151182"/>
                  <a:pt x="554134" y="91918"/>
                </a:cubicBezTo>
                <a:cubicBezTo>
                  <a:pt x="564473" y="57231"/>
                  <a:pt x="580122" y="25417"/>
                  <a:pt x="599703" y="0"/>
                </a:cubicBezTo>
                <a:lnTo>
                  <a:pt x="671045" y="0"/>
                </a:lnTo>
                <a:cubicBezTo>
                  <a:pt x="656870" y="18370"/>
                  <a:pt x="645856" y="41413"/>
                  <a:pt x="638202" y="67092"/>
                </a:cubicBezTo>
                <a:cubicBezTo>
                  <a:pt x="613404" y="150280"/>
                  <a:pt x="633253" y="229628"/>
                  <a:pt x="682534" y="244318"/>
                </a:cubicBezTo>
                <a:cubicBezTo>
                  <a:pt x="665047" y="200387"/>
                  <a:pt x="665152" y="139655"/>
                  <a:pt x="682818" y="80391"/>
                </a:cubicBezTo>
                <a:cubicBezTo>
                  <a:pt x="691616" y="50875"/>
                  <a:pt x="704259" y="23438"/>
                  <a:pt x="719555" y="0"/>
                </a:cubicBezTo>
                <a:lnTo>
                  <a:pt x="756084" y="0"/>
                </a:lnTo>
                <a:cubicBezTo>
                  <a:pt x="780542" y="0"/>
                  <a:pt x="804185" y="3484"/>
                  <a:pt x="826214" y="11123"/>
                </a:cubicBezTo>
                <a:lnTo>
                  <a:pt x="801973" y="67092"/>
                </a:lnTo>
                <a:cubicBezTo>
                  <a:pt x="777175" y="150280"/>
                  <a:pt x="797024" y="229628"/>
                  <a:pt x="846305" y="244318"/>
                </a:cubicBezTo>
                <a:cubicBezTo>
                  <a:pt x="828818" y="200387"/>
                  <a:pt x="828923" y="139655"/>
                  <a:pt x="846589" y="80391"/>
                </a:cubicBezTo>
                <a:cubicBezTo>
                  <a:pt x="852169" y="61669"/>
                  <a:pt x="859297" y="43784"/>
                  <a:pt x="870282" y="28543"/>
                </a:cubicBezTo>
                <a:cubicBezTo>
                  <a:pt x="952313" y="69297"/>
                  <a:pt x="1008112" y="154146"/>
                  <a:pt x="1008112" y="252028"/>
                </a:cubicBezTo>
                <a:lnTo>
                  <a:pt x="1008112" y="504056"/>
                </a:lnTo>
                <a:lnTo>
                  <a:pt x="0" y="504056"/>
                </a:lnTo>
                <a:lnTo>
                  <a:pt x="0" y="252028"/>
                </a:lnTo>
                <a:cubicBezTo>
                  <a:pt x="0" y="113682"/>
                  <a:pt x="111472" y="1371"/>
                  <a:pt x="249499" y="255"/>
                </a:cubicBezTo>
                <a:cubicBezTo>
                  <a:pt x="231237" y="20213"/>
                  <a:pt x="217014" y="47478"/>
                  <a:pt x="207731" y="78619"/>
                </a:cubicBezTo>
                <a:cubicBezTo>
                  <a:pt x="182934" y="161807"/>
                  <a:pt x="202782" y="241155"/>
                  <a:pt x="252063" y="255845"/>
                </a:cubicBezTo>
                <a:cubicBezTo>
                  <a:pt x="234576" y="211914"/>
                  <a:pt x="234681" y="151182"/>
                  <a:pt x="252347" y="91918"/>
                </a:cubicBezTo>
                <a:cubicBezTo>
                  <a:pt x="262687" y="57231"/>
                  <a:pt x="278336" y="25417"/>
                  <a:pt x="29791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602680" y="27766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0:52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28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