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3335000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CD4-2153-4B19-9084-F22A07AC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55A-8587-42A8-B7E3-52EB543B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946-5327-4805-B50D-B46FBD9A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5BA-554F-4D54-9F4C-C3FDFC33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33A-97C4-425E-8807-AFF45805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CB6-52C9-4946-9713-3C2177D0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F0C-9020-4B95-AF36-D29D038E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C70-A9AA-4269-AB8B-E627419B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C1D-5D8B-49A1-83A1-3D3CB80C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0A0-294F-45F4-8EDC-8159DBA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9FE-BA0A-445A-8EAD-FE1A738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62D-684A-40B0-9E5D-BCE2B6B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066-F903-49F9-9BF8-AA21BD8E50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F61-58CD-445B-874D-14F24DB18E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33512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4397040" y="10969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谢谢观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476280" y="9415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200" y="270000"/>
            <a:ext cx="1196964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7320" y="1806480"/>
            <a:ext cx="13020480" cy="742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0626840" y="474840"/>
            <a:ext cx="2025360" cy="49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1"/>
          <a:stretch/>
        </p:blipFill>
        <p:spPr>
          <a:xfrm>
            <a:off x="0" y="0"/>
            <a:ext cx="13335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cp:keywords/>
  <dc:language>en-US</dc:language>
  <cp:lastModifiedBy>a</cp:lastModifiedBy>
  <dcterms:modified xsi:type="dcterms:W3CDTF">2015-07-21T02:35:5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