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chimes.wav" ContentType="audio/x-wav"/>
  <Override PartName="/ppt/media/whoosh.wav" ContentType="audio/x-wav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8D5-F079-45F7-9764-DD5DDDE7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AA3-82A9-4CCF-B880-D9E26F92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EE2CD-462C-45FA-B062-C6381601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45A3C-8104-4F53-A481-540AE39C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C1E5D-6951-4BE6-A625-7153E2E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B3E49-1209-4CD9-B011-ED3A46A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6999B-A370-4B6C-95E9-AA476342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D8011-4FCC-44E0-833D-E517AAC4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7C9CF-B19C-47A8-8C4F-AE03FFBD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5AAE4-95A1-4651-A905-CB2D695D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D437D-98F6-40E4-A459-9290EAFA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1138C-444A-40EF-A7A7-02B5991B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1F0-111A-4B71-B130-623388F8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3C73D-462F-4CA2-BFE5-B9C8655A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257D7-653B-40E3-B17C-605FC269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A40A1-635B-43DC-B3A5-EA1EE4C9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06D4A-84BD-4C07-967F-ACCB688E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27F33-CC3B-403C-94EE-0C7A2918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631FF-DE9E-4988-8854-F3BC17FC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82177-7EE1-4690-BAF9-628604F1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3F2C4-04AB-4A5E-92DE-F4C40291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46952-AD91-4FD4-8411-19F70A62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64ED2-238D-441A-B152-81CDE637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F82-103F-44F1-811D-B05C3C1E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991E2-A6E6-4ADA-B76B-FEDA5C51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1492D-D85B-4876-9575-FEAE087B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9DA1F-0837-4853-91A6-0B7457F9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02721-26E0-4935-81E4-B7980CFC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30D60-37B3-4A7B-86E9-0361FA83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181A3-C24B-4EA2-A066-4C9247E9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64E52-8B4D-4EC5-B796-78763AD1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D5606-40E7-4C2D-A949-AA38C2F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2A961-443F-4B5C-8A3E-139C055E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E2874-1C2B-4DF6-8E04-C5C899C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EB2A-CD44-460C-865A-9FC6CAE4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A3935-842A-46BA-81B0-61560DB1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ED9F0-3ABC-41BA-8049-87D719B1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6F8FF-6548-476C-8EFA-7B85C9ED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5B227-59A4-4BB8-A0AE-D197AA63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9B5A0-2CD8-4127-933D-493A629B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2CF0F-59BB-4EB6-8276-920970CE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C330F-26AF-4223-B257-F8B9D2AB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DE922-4936-4528-A8D5-B2202081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EA2F5-379B-4ECD-9929-5B645CE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6C573-A3B0-4C3F-BEC5-AE4FE40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8EE5-0867-413B-902E-EB4E2954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408D4-D951-483E-8976-A90A2AB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AD302-1FE3-455F-B012-847C6F5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35721-C81B-40AC-9F10-B3652751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D7439-3BCE-46D2-B0BD-DDB6DACD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2E66B-46B9-4048-89AA-3528B50E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F47C8-E2B6-40FF-A078-6F450E22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B6610-BDB8-4024-84AE-72CF24E5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74A9C-BFB7-48A4-92FC-46BC1485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4D2FA-3231-483A-BF70-1AE04745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CA005-A0BA-4D20-8140-84D862C5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1365-4ABB-41A4-B974-49740BD5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61CBB-8628-4E3A-ABB9-6A41DF2A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05112-A039-46B3-9B0B-66996FAF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C18F0-7D41-46A8-B8F7-F2ED220E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EE8AE-4F04-445A-A65A-E6F6A7F2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8379B-4324-4BF4-B33E-4917445F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BAF3E-ADD0-4B62-93A1-CAB0DE7F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58238-83EC-43BD-9CF0-3F995E01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385DA-87F8-46AA-90DD-3C2FF995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A4D05-F42D-4C61-83A1-31FC537A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24DC7-F476-45E5-A9C1-368CADD3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223A-D1AC-45EF-B85D-472A855D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D4750-EF48-4E97-93EA-A56190AB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215AB-0D8B-4B07-8130-2C746EBE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89D2E-328B-4BD7-8C76-20DAB668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26194-8901-40BF-B0D7-B066609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40458-053C-4F0D-BD5D-30CFF47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6FA5C-3F8F-4E2A-B53C-759140A3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5D188-1E82-4E12-A51C-BD4F6D77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45130-DB51-4E01-BA0F-90293B61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2FEB2-B35C-4E6F-A18D-4AC71E8F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D71EB-A7D2-4B8E-845C-E691F492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D062-F342-4752-BF78-1E5CED9E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B1FEC-39BD-4E4C-BF6F-659C01F4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FFA93-CA95-4643-B23C-CA17AAF6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62111-2070-4043-90B4-A01467D2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78CE5-6ECA-4205-BADC-E8A72551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0B02A-ECB1-4921-B272-27A0ADB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75FDA-D584-42A0-9DE5-4418E5EE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97BD7-276D-4191-8D0B-C8B0E6A8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BB5FE-48F3-4225-956C-C02A1AB8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80B35-0BFF-4DF9-8B6E-B0BE8851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8017E-9B3B-4C15-938E-5ABE4EDA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60EA-D70E-4B0F-8059-8BB7158D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1B7BE-A71E-4880-B1EC-E3293E7A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9E4C2-B78D-443C-86B8-44CDC3A7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F9303-6587-4704-8B29-ACBD6F00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83A94-7D34-4CBD-BCED-F7594859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3D6B4-F6FB-422E-A0FC-E4703932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05A5DC-6408-4EAF-8299-1D3D7B5E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984CAB-C8DE-4F2E-AC4D-045A1CD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E8B54-E604-4054-9E49-1D59B0AF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FA32B-38A1-42EE-998B-9D589CC3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1DF2A-589E-485A-8FB5-B30F77FF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81C1-3DF9-4302-9E4F-52D787AB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97226-E1AB-4521-BA3F-0C96FCDA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4EB2B-4094-42E4-BCBF-DB68A359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3AE09-3E67-451C-B736-CF77C0C2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CA4-8881-477F-B0B9-F8986E70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D640-CA10-4508-A87E-2F4C8F2E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899C-11FB-4CD6-A0B4-A4040141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F92E-19CD-42E1-B7AE-7E2E1B44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92FF-03B1-4866-815A-112B067B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12BA-9711-42E6-BD91-83C607CE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57C5-F32C-44DF-833B-903179EE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7697-BC80-48BD-BEB4-FC3B7C17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EE2B-6D37-4F73-B35A-AA04BE71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0685-650E-4F58-975E-75244697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3D80-E28F-4A14-B6E1-D736119A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69D-3E04-4E66-8EEA-3888F456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67301-DBD9-4F98-951A-082205D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43FB-38AE-48D5-91E1-4BCBFB68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54CF-228E-43FB-8619-C77FB78E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5B89-86AC-48A4-85CB-045AADA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1BF1-1A81-48FC-A5E5-976BFE73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CEE6-E34F-44DF-9DE5-775329EE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6688-6EE6-4219-9A5C-8A66E86F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EA80-F60C-4C8D-94C1-70D63153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8A80-B2D7-48AC-8DCA-1BA8AE76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A695-C902-45A6-AAB4-2AC94A59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7F6-FE4D-49BE-948D-AE95D970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3B2C-574F-442D-BE09-FBA6F355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09847-B827-46AA-9340-F5594231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C5E5-6D0E-4948-846C-7B2A7892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62AFA-07FF-464F-8EDA-BF81DBA1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85C5-5C8D-484E-9C4E-08BCAD2C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B1C18-8514-444F-B60B-3EA2960A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B27AD-DB39-4BB5-AF1E-571B80AF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1865-AD58-4B6B-A795-E7A58FD0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5077-C09B-4728-AF26-E733113B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1C57-7854-4494-923B-53CC8FF9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FD6-BC00-49E6-ADFA-1EAC09D5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1BF2-232C-4E09-9237-A1D19E9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FD2A-37BB-4CE0-8008-88A7A476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9AF4-B23B-443E-BCD5-CDBB8FF8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4C06C-D7D9-4DA3-AC82-2E6B5B6A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7C325-85B1-48FA-827B-9EDCC792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A8720-825E-423F-A049-6E4CB19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A4E74-B80B-4811-A465-3563CB6F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C3D3-D91D-40CA-A3AD-54272170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AD155-589C-49E8-BC4C-C254035F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9DD1A-5FB4-4CB3-A0EE-C3035F08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42B-152E-4285-A790-BBB3E116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E3F6-49E6-475D-B026-2F2CF5F4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D6442-F871-4A18-AB34-4AE852A4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63ABB-746F-4477-B1EE-DB98EE2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EB53E-269A-4B76-A145-687E320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751D2-BB3A-4B2C-BFBD-5C3D66D5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05B21-480A-457A-B137-665D8296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D1C01-9A14-46E5-96EB-9F73F949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D6FC-9CF5-41E0-9B86-D3EC156C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F65E8-90E1-4383-8EDA-6533CCB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9B0C1-F5CD-42F4-9FB1-588A3883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931-9CA5-48D2-8DDF-83CAB5F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F6738-19FA-4D71-BD52-6530ED4A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5456D-3BB2-44D4-A9F4-89D54854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820FF-EE81-42C2-BFF8-8948FBD5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0E1FC-21F8-4A4A-AD93-23E4493F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C631-CFF1-4A73-BD01-5AFADA7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3475-3508-454C-AD1E-BBE8121E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86DF4-69B8-4550-BB71-C02D136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D4252-7FCF-4BB6-8D1C-405EA570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0EED-B308-4466-A97F-9EADF3B1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B174B-29C6-49A8-8E71-270BC2D5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15C-0343-4333-A261-85EEFAA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BFD39-1C53-4F61-B8AF-C0EB59D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18851-44CB-4463-B807-9B8A48E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119F-B5B4-45E9-B928-064A1FD9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AB24F-95DC-44CB-8676-CB326025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31654-1A30-45F7-A575-43C9FEAB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A8998-4D08-45E1-9598-165834EF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01860-8443-49E5-A22C-7E32951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A47AF-7CF1-4481-B8A7-39EC21A9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34587-486A-492D-B18D-D249532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F29E-BAAB-403F-B844-1C65AAC3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A6E-1441-40E9-9109-6DC92D5B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C8491-AFAB-49F1-B994-47D01F05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61102-EE3B-47B2-9C84-FA3FA00D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9EBCB-9432-439B-A9C1-7CF5E25E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6BD6-9165-4471-A26D-7A9EDBCF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E7E9-9A77-4801-BF52-0BCD4CC0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CB614-A168-4B90-9F8A-4730D7A1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FAA21-A1E1-469A-A662-3F772722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32D16-72C0-4978-9DCC-BF68C4B0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5EA7D-D20A-4D00-90C0-B96914EC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8BBC1-3A29-4F2E-9626-642ED6D0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25DE-B566-4571-8025-4DDDBE7F4C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91D1-70C9-4AB0-9C2A-B94AD54B11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A82F-CA1A-4224-9790-A74854C16C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B7E0-11C5-42F1-B7F5-622D06F8DB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0C4B-FABA-49E4-B87D-A0C73B4537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E133-A642-466D-89C8-23EF6A89FF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5D3-2739-485D-BAC8-E8B8C326E6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B96E-2CB3-406E-AC78-B273538485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D57-2A42-4077-B442-9772D349C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6ACA-230B-4128-9258-CBC10DD7F1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A1A6-1C87-40A1-A9DA-864FB372E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3FEC-00B1-41C6-9699-3A16C26E7D2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4C9D-F791-4F9F-9240-C62BCBD4A2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8D1C-2B06-468A-90E7-DF75FC7926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ACA8-0F2B-49A7-B976-B3022DFC77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50E2-2060-45E9-87BC-F936655893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3fb39b0c49ce8ae3ccf2d6ead9d9a75aabce280e1b0edcffe5879465c4802a39e6a8a9707bd195268008459542f7484c77226aabde1b11918b78cb550abed0b603bb052&amp;a=10&amp;b=29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2004114161589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3"/>
          <p:cNvSpPr/>
          <p:nvPr/>
        </p:nvSpPr>
        <p:spPr>
          <a:xfrm>
            <a:off x="7435800" y="2286000"/>
            <a:ext cx="79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8" name="矩形 2"/>
          <p:cNvSpPr/>
          <p:nvPr/>
        </p:nvSpPr>
        <p:spPr>
          <a:xfrm>
            <a:off x="395280" y="70956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Calibri"/>
                <a:ea typeface="黑体"/>
              </a:rPr>
              <a:t>月光启蒙</a:t>
            </a:r>
            <a:r>
              <a:rPr b="1" lang="en-US" sz="8800" spc="-1" strike="noStrike">
                <a:solidFill>
                  <a:srgbClr val="ffff00"/>
                </a:solidFill>
                <a:latin typeface="Calibri"/>
                <a:ea typeface="黑体"/>
              </a:rPr>
              <a:t>PPT</a:t>
            </a:r>
            <a:r>
              <a:rPr b="1" lang="zh-CN" sz="8800" spc="-1" strike="noStrike">
                <a:solidFill>
                  <a:srgbClr val="ffff00"/>
                </a:solidFill>
                <a:latin typeface="Calibri"/>
                <a:ea typeface="黑体"/>
              </a:rPr>
              <a:t>模板</a:t>
            </a:r>
            <a:endParaRPr b="1" lang="en-US" sz="8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4500720" y="25653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开启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开导；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4303800" y="3284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蒙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：蒙昧无知；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3708360" y="3933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启蒙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：使初学的人得到基本的、入门的知识，智慧得以初步开发。 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2" name="矩形 8"/>
          <p:cNvSpPr/>
          <p:nvPr/>
        </p:nvSpPr>
        <p:spPr>
          <a:xfrm>
            <a:off x="360" y="6504120"/>
            <a:ext cx="33991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http://www.eeppt.com</a:t>
            </a:r>
            <a:endParaRPr b="1" lang="en-US" sz="16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她用甜甜的嗓音深情地为我吟唱，轻轻的，像三月的和风，像小溪的流水。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20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1476360" y="18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3" name="Line 8"/>
          <p:cNvSpPr/>
          <p:nvPr/>
        </p:nvSpPr>
        <p:spPr>
          <a:xfrm>
            <a:off x="2124000" y="2205000"/>
            <a:ext cx="151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4" name="Line 9"/>
          <p:cNvSpPr/>
          <p:nvPr/>
        </p:nvSpPr>
        <p:spPr>
          <a:xfrm>
            <a:off x="7308720" y="2205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5" name="Line 10"/>
          <p:cNvSpPr/>
          <p:nvPr/>
        </p:nvSpPr>
        <p:spPr>
          <a:xfrm>
            <a:off x="75564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6" name="Line 11"/>
          <p:cNvSpPr/>
          <p:nvPr/>
        </p:nvSpPr>
        <p:spPr>
          <a:xfrm>
            <a:off x="1476360" y="2781360"/>
            <a:ext cx="0" cy="360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611280" y="3068640"/>
            <a:ext cx="3240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比喻句形象生动地写出了母亲的嗓音甜美、轻柔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8" name="Oval 14"/>
          <p:cNvSpPr/>
          <p:nvPr/>
        </p:nvSpPr>
        <p:spPr>
          <a:xfrm>
            <a:off x="5940360" y="2349360"/>
            <a:ext cx="1656000" cy="503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9" name="Line 15"/>
          <p:cNvSpPr/>
          <p:nvPr/>
        </p:nvSpPr>
        <p:spPr>
          <a:xfrm>
            <a:off x="6732720" y="2852640"/>
            <a:ext cx="0" cy="505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3995640" y="3284640"/>
            <a:ext cx="5040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芳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原指（花草）香气，文中指母亲甜甜的嗓音，沁人心脾，仿佛芳香四溢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实际也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感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修辞手法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是把听觉、视觉、嗅觉、味觉、触觉沟通起来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1" name="Text Box 17"/>
          <p:cNvSpPr/>
          <p:nvPr/>
        </p:nvSpPr>
        <p:spPr>
          <a:xfrm>
            <a:off x="5076720" y="14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yín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2" name="Text Box 18"/>
          <p:cNvSpPr/>
          <p:nvPr/>
        </p:nvSpPr>
        <p:spPr>
          <a:xfrm>
            <a:off x="4140360" y="4653000"/>
            <a:ext cx="500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文中还有，例如：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黄河留给家乡的故道不长五谷，却长歌谣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她用甜甜的嗓音深情地为我吟唱，轻轻的，像三月的和风，像小溪的流水。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34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4"/>
          <p:cNvSpPr/>
          <p:nvPr/>
        </p:nvSpPr>
        <p:spPr>
          <a:xfrm>
            <a:off x="1476360" y="189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用甜甜的嗓音深情地为我吟唱，轻轻的，像三月的和风，像小溪的流水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38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4"/>
          <p:cNvSpPr/>
          <p:nvPr/>
        </p:nvSpPr>
        <p:spPr>
          <a:xfrm>
            <a:off x="1476360" y="189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2268360" y="2997360"/>
            <a:ext cx="0" cy="57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1403280" y="3716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仿写：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2268360" y="3573360"/>
            <a:ext cx="662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盛夏，池里的荷花竞相开放，像亭亭玉立的少女，如热情奔放的女郎，美丽极了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说课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她用甜甜的嗓音深情地为我吟唱，轻轻的，像三月的和风，像小溪的流水。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48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4"/>
          <p:cNvSpPr/>
          <p:nvPr/>
        </p:nvSpPr>
        <p:spPr>
          <a:xfrm>
            <a:off x="1476360" y="189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1332000" y="3068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听到母亲的吟唱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哪些感受？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2" name="Text Box 8"/>
          <p:cNvSpPr/>
          <p:nvPr/>
        </p:nvSpPr>
        <p:spPr>
          <a:xfrm>
            <a:off x="1332000" y="35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感受：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2124000" y="357336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母亲的嗓音甜美、轻柔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4" name="Text Box 10"/>
          <p:cNvSpPr/>
          <p:nvPr/>
        </p:nvSpPr>
        <p:spPr>
          <a:xfrm>
            <a:off x="2124000" y="407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母亲流畅的歌声沁人心脾，仿佛芳香四溢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5" name="Text Box 11"/>
          <p:cNvSpPr/>
          <p:nvPr/>
        </p:nvSpPr>
        <p:spPr>
          <a:xfrm>
            <a:off x="2124000" y="4581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母亲吟唱注入深情，包含着对我深沉的爱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1476360" y="5013360"/>
            <a:ext cx="748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母亲的歌声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从小懂得了对故乡的爱，对民间艺术的爱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1413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那时，我们日子清苦，但精神生活是丰富的。黄河留给家乡的故道不长五谷，却长歌谣。母亲天资聪颖，一听就会。再加上我的外婆是唱民歌的能手，我的父亲是唱莲花落的民间艺人。母亲用歌谣把故乡的爱，伴着月光给了我，让一颗混沌的童心豁然开朗。</a:t>
            </a:r>
            <a:br>
              <a:rPr sz="2400"/>
            </a:b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58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4"/>
          <p:cNvSpPr/>
          <p:nvPr/>
        </p:nvSpPr>
        <p:spPr>
          <a:xfrm>
            <a:off x="1476360" y="18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1476360" y="62064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644364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yǐng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7451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ào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250920" y="3645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ùn dùn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1908000" y="3645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uò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395280" y="1413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那时，我们日子清苦，但精神生活是丰富的。黄河留给家乡的故道不长五谷，却长歌谣。母亲天资聪颖，一听就会。再加上我的外婆是唱民歌的能手，我的父亲是唱莲花落的民间艺人。母亲用歌谣把故乡的爱，伴着月光给了我，让一颗混沌的童心豁然开朗。</a:t>
            </a:r>
            <a:br>
              <a:rPr sz="2400"/>
            </a:b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66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4"/>
          <p:cNvSpPr/>
          <p:nvPr/>
        </p:nvSpPr>
        <p:spPr>
          <a:xfrm>
            <a:off x="1476360" y="189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1476360" y="62064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9" name="Oval 6"/>
          <p:cNvSpPr/>
          <p:nvPr/>
        </p:nvSpPr>
        <p:spPr>
          <a:xfrm>
            <a:off x="2340000" y="2276640"/>
            <a:ext cx="360360" cy="36036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3851280" y="2276640"/>
            <a:ext cx="360360" cy="36036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1" name="Line 8"/>
          <p:cNvSpPr/>
          <p:nvPr/>
        </p:nvSpPr>
        <p:spPr>
          <a:xfrm flipV="1">
            <a:off x="2556000" y="1483920"/>
            <a:ext cx="576000" cy="792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2843280" y="1125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生长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3" name="Line 10"/>
          <p:cNvSpPr/>
          <p:nvPr/>
        </p:nvSpPr>
        <p:spPr>
          <a:xfrm flipV="1">
            <a:off x="4067280" y="1483920"/>
            <a:ext cx="576000" cy="792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4" name="Text Box 11"/>
          <p:cNvSpPr/>
          <p:nvPr/>
        </p:nvSpPr>
        <p:spPr>
          <a:xfrm>
            <a:off x="4356000" y="1125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产生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5" name="Line 12"/>
          <p:cNvSpPr/>
          <p:nvPr/>
        </p:nvSpPr>
        <p:spPr>
          <a:xfrm>
            <a:off x="7308720" y="206064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6" name="Line 13"/>
          <p:cNvSpPr/>
          <p:nvPr/>
        </p:nvSpPr>
        <p:spPr>
          <a:xfrm>
            <a:off x="468360" y="2637000"/>
            <a:ext cx="439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7" name="Line 14"/>
          <p:cNvSpPr/>
          <p:nvPr/>
        </p:nvSpPr>
        <p:spPr>
          <a:xfrm>
            <a:off x="1403280" y="3213000"/>
            <a:ext cx="345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8" name="Line 15"/>
          <p:cNvSpPr/>
          <p:nvPr/>
        </p:nvSpPr>
        <p:spPr>
          <a:xfrm>
            <a:off x="5148360" y="3213000"/>
            <a:ext cx="331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79" name="Line 16"/>
          <p:cNvSpPr/>
          <p:nvPr/>
        </p:nvSpPr>
        <p:spPr>
          <a:xfrm>
            <a:off x="468360" y="371628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0" name="Line 17"/>
          <p:cNvSpPr/>
          <p:nvPr/>
        </p:nvSpPr>
        <p:spPr>
          <a:xfrm>
            <a:off x="4500720" y="3213000"/>
            <a:ext cx="0" cy="1079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1" name="Text Box 18"/>
          <p:cNvSpPr/>
          <p:nvPr/>
        </p:nvSpPr>
        <p:spPr>
          <a:xfrm>
            <a:off x="3780000" y="4292640"/>
            <a:ext cx="50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家乡环境、外婆和父亲对她的影响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她对故乡有着浓浓的爱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395280" y="1413000"/>
            <a:ext cx="8353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那时，我们日子清苦，但精神生活是丰富的。黄河留给家乡的故道不长五谷，却长歌谣。母亲天资聪颖，一听就会。再加上我的外婆是唱民歌的能手，我的父亲是唱莲花落的民间艺人。母亲用歌谣把故乡的爱，伴着月光给了我，让一颗混沌的童心豁然开朗。</a:t>
            </a:r>
            <a:br>
              <a:rPr sz="2400"/>
            </a:b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83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4"/>
          <p:cNvSpPr/>
          <p:nvPr/>
        </p:nvSpPr>
        <p:spPr>
          <a:xfrm>
            <a:off x="147636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1476360" y="62064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1116000" y="4005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文中哪句话可以解释“月光启蒙”？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7" name="Line 7"/>
          <p:cNvSpPr/>
          <p:nvPr/>
        </p:nvSpPr>
        <p:spPr>
          <a:xfrm flipV="1">
            <a:off x="4067280" y="335736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8" name="Line 8"/>
          <p:cNvSpPr/>
          <p:nvPr/>
        </p:nvSpPr>
        <p:spPr>
          <a:xfrm>
            <a:off x="1692360" y="3284640"/>
            <a:ext cx="676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89" name="Line 9"/>
          <p:cNvSpPr/>
          <p:nvPr/>
        </p:nvSpPr>
        <p:spPr>
          <a:xfrm>
            <a:off x="468360" y="3716280"/>
            <a:ext cx="295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1116000" y="4437000"/>
            <a:ext cx="727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母亲唱着歌谣，在不知不觉间培养了我热爱家乡、热爱生活的情感。这就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启蒙教育，母亲真是我的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启蒙老师。  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她就是用这样动人的歌谣，为我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引读：打开了民间文学的宝库，给我送来月夜浓郁的诗情。她让明月星光陪伴我的童年，用智慧才华启迪我的想象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2"/>
          <p:cNvSpPr/>
          <p:nvPr/>
        </p:nvSpPr>
        <p:spPr>
          <a:xfrm>
            <a:off x="684360" y="1557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她用甜甜的嗓音深情地为我吟唱，轻轻的，像三月的和风，像小溪的流水。小院立即飘满了她芳香的音韵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92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4"/>
          <p:cNvSpPr/>
          <p:nvPr/>
        </p:nvSpPr>
        <p:spPr>
          <a:xfrm>
            <a:off x="147636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1476360" y="69228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157320" y="6280200"/>
            <a:ext cx="337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1476360" y="155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母亲唱累了，就给我讲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1476360" y="2205000"/>
            <a:ext cx="597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嫦娥奔月的故事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牛郎织女天河相会的故事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……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98" name="Picture 17" descr="复件 思考"/>
          <p:cNvPicPr/>
          <p:nvPr/>
        </p:nvPicPr>
        <p:blipFill>
          <a:blip r:embed="rId2"/>
          <a:stretch/>
        </p:blipFill>
        <p:spPr>
          <a:xfrm>
            <a:off x="46836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5"/>
          <p:cNvSpPr/>
          <p:nvPr/>
        </p:nvSpPr>
        <p:spPr>
          <a:xfrm>
            <a:off x="1476360" y="549360"/>
            <a:ext cx="158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语句赏析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1476360" y="189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讲故事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1" name="Line 7"/>
          <p:cNvSpPr/>
          <p:nvPr/>
        </p:nvSpPr>
        <p:spPr>
          <a:xfrm>
            <a:off x="2195640" y="3933720"/>
            <a:ext cx="0" cy="360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1476360" y="43657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母亲还会讲哪些神话故事？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1476360" y="486900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女娲补天   精卫填海   夸父追日   八仙过海   后羿射日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5"/>
          <p:cNvSpPr/>
          <p:nvPr/>
        </p:nvSpPr>
        <p:spPr>
          <a:xfrm>
            <a:off x="324000" y="692280"/>
            <a:ext cx="43192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打开大自然绿色的课本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祖国敞开了绿色的大门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给孩子一片清凉的绿阴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去呼吸山水间芬芳的空气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去打开大自然绿色的课本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让明亮的眼睛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发现翠竹的挺拔，松柏的苍劲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用绚丽的色彩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描绘果园的丰收，沃野的耕耘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鸣禽、野花要和你们联欢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生活里洋溢着欢乐和温馨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祖国的山水要和你们相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请听一听它们心中的声音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4356000" y="907920"/>
            <a:ext cx="45007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青山说：攀登吧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饱览无限的风光，满怀少年的豪情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绿水说：前进吧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奔向浩瀚的大海，显示少年的胸襟！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天空会撒开片片去锦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给你们送去明媚的早晨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大地会吹来阵阵微风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给你们留下愉快的黄昏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祖国敞开了绿色的大门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给孩子一片清凉的绿阴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去呼吸山水间芬芳的空气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去吧，去打开大自然绿色的课本。 </a:t>
            </a:r>
            <a:br>
              <a:rPr sz="1800"/>
            </a:b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68" name="Picture 17" descr="复件 思考"/>
          <p:cNvPicPr/>
          <p:nvPr/>
        </p:nvPicPr>
        <p:blipFill>
          <a:blip r:embed="rId3"/>
          <a:stretch/>
        </p:blipFill>
        <p:spPr>
          <a:xfrm>
            <a:off x="10800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23"/>
          <p:cNvSpPr/>
          <p:nvPr/>
        </p:nvSpPr>
        <p:spPr>
          <a:xfrm>
            <a:off x="900000" y="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温习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1702"/>
          <p:cNvPicPr/>
          <p:nvPr/>
        </p:nvPicPr>
        <p:blipFill>
          <a:blip r:embed="rId2"/>
          <a:srcRect l="11998" t="37349" r="14003" b="9226"/>
          <a:stretch/>
        </p:blipFill>
        <p:spPr>
          <a:xfrm>
            <a:off x="108000" y="907920"/>
            <a:ext cx="5105520" cy="5834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05" name="Picture 17" descr="复件 思考"/>
          <p:cNvPicPr/>
          <p:nvPr/>
        </p:nvPicPr>
        <p:blipFill>
          <a:blip r:embed="rId3"/>
          <a:stretch/>
        </p:blipFill>
        <p:spPr>
          <a:xfrm>
            <a:off x="611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5508720" y="1332000"/>
            <a:ext cx="3311280" cy="16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此时明月已至中天，母亲沉浸在如水的月色里，像一尊玉石雕像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把母亲比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玉石雕像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，说明了母亲的美丽、圣洁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1476360" y="18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808" name="Group 8"/>
          <p:cNvGrpSpPr/>
          <p:nvPr/>
        </p:nvGrpSpPr>
        <p:grpSpPr>
          <a:xfrm>
            <a:off x="5508720" y="4941720"/>
            <a:ext cx="3384360" cy="1368720"/>
            <a:chOff x="5508720" y="4941720"/>
            <a:chExt cx="3384360" cy="1368720"/>
          </a:xfrm>
        </p:grpSpPr>
        <p:sp>
          <p:nvSpPr>
            <p:cNvPr id="809" name="Rectangle 9"/>
            <p:cNvSpPr/>
            <p:nvPr/>
          </p:nvSpPr>
          <p:spPr>
            <a:xfrm>
              <a:off x="5981760" y="5195880"/>
              <a:ext cx="257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朗读时要读出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我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对母亲的崇敬之情。</a:t>
              </a:r>
              <a:endParaRPr b="1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5508720" y="4941720"/>
              <a:ext cx="3384360" cy="1368720"/>
            </a:xfrm>
            <a:prstGeom prst="cloudCallout">
              <a:avLst>
                <a:gd name="adj1" fmla="val -34259"/>
                <a:gd name="adj2" fmla="val -11825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9999"/>
                </a:solidFill>
                <a:latin typeface="黑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811" name="Text Box 12"/>
          <p:cNvSpPr/>
          <p:nvPr/>
        </p:nvSpPr>
        <p:spPr>
          <a:xfrm>
            <a:off x="6084720" y="3860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对母亲的崇敬之情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755640" y="1413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小红孩，上南山，割荆草，编箔篮，筛大米，做干饭。小狗吃，小猫看，急得老鼠啃锅沿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813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4"/>
          <p:cNvSpPr/>
          <p:nvPr/>
        </p:nvSpPr>
        <p:spPr>
          <a:xfrm>
            <a:off x="147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童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1403280" y="765000"/>
            <a:ext cx="1295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童谣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1403280" y="2492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童谣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7" name="Text Box 8"/>
          <p:cNvSpPr/>
          <p:nvPr/>
        </p:nvSpPr>
        <p:spPr>
          <a:xfrm>
            <a:off x="755640" y="2997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小老鼠，上灯台，偷油喝，下不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老鼠老鼠你别急，抱个狸猫来哄你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8" name="Text Box 9"/>
          <p:cNvSpPr/>
          <p:nvPr/>
        </p:nvSpPr>
        <p:spPr>
          <a:xfrm>
            <a:off x="1403280" y="4005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童谣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19" name="Text Box 10"/>
          <p:cNvSpPr/>
          <p:nvPr/>
        </p:nvSpPr>
        <p:spPr>
          <a:xfrm>
            <a:off x="755640" y="4508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毛娃哭，住瓦屋，毛娃笑，坐花轿。毛娃醒，吃油饼。毛娃睡，盖花被。毛娃走，唤花狗，花狗伸着花舌头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2"/>
          <p:cNvSpPr/>
          <p:nvPr/>
        </p:nvSpPr>
        <p:spPr>
          <a:xfrm>
            <a:off x="684360" y="1125360"/>
            <a:ext cx="84596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民谣童谣唱过了，我还不想睡，就缠着她给我说谜语，让我猜。母亲说：“仔细听着：麻屋子，红帐子，里边睡个白胖子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是什么呀？”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我问：“朝哪里猜？”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母亲说：“朝吃的猜”。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我歪着头想了一会儿，硬是解不开。母亲笑着说：“你真笨，这是咱种的花生呀。”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821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22" name="Text Box 4"/>
          <p:cNvSpPr/>
          <p:nvPr/>
        </p:nvSpPr>
        <p:spPr>
          <a:xfrm>
            <a:off x="147636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2987640" y="0"/>
            <a:ext cx="129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猜谜语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2"/>
          <p:cNvSpPr/>
          <p:nvPr/>
        </p:nvSpPr>
        <p:spPr>
          <a:xfrm>
            <a:off x="395280" y="105264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母亲不识字，却是我的启蒙老师。是母亲用一双勤劳的手为我打开了民间文学的宝库，给我送来月夜浓郁的诗情。她让明月星光陪伴我的童年，用智慧才华启迪我的想象。她在月光下唱的那些明快、流畅、含蓄、风趣的民歌民谣，使我展开了想象的翅膀，飞向诗歌的王国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825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4"/>
          <p:cNvSpPr/>
          <p:nvPr/>
        </p:nvSpPr>
        <p:spPr>
          <a:xfrm>
            <a:off x="147636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37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母亲不识字，却是我的启蒙老师。是母亲用一双勤劳的手为我打开了民间文学的宝库，给我送来月夜浓郁的诗情。她让明月星光陪伴我的童年，用智慧才华启迪我的想象。她在月光下唱的那些明快、流畅、含蓄、风趣的民歌民谣，使我展开了想象的翅膀，飞向诗歌的王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7"/>
          <p:cNvSpPr/>
          <p:nvPr/>
        </p:nvSpPr>
        <p:spPr>
          <a:xfrm>
            <a:off x="118728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378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母亲不识字，却是我的启蒙老师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母亲用一双勤劳的手为我打开了民间文学的宝库，给我送来月夜浓郁的诗情。她让明月星光陪伴我的童年，用智慧才华启迪我的想象。她在月光下唱的那些明快、流畅、含蓄、风趣的民歌民谣，使我展开了想象的翅膀，飞向诗歌的王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4"/>
          <p:cNvSpPr/>
          <p:nvPr/>
        </p:nvSpPr>
        <p:spPr>
          <a:xfrm>
            <a:off x="118728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2771640" y="1268280"/>
            <a:ext cx="0" cy="237672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539640" y="3645000"/>
            <a:ext cx="792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答：因为母亲用歌谣、故事、童谣、谜语，让我在不知不觉中受到了诗歌的感染，丰富了想象力，使我爱上诗歌，所以，母亲是我的启蒙老师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611280" y="5157720"/>
            <a:ext cx="792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抒发了作者终生难忘对母亲的感激、怀念和敬爱之情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36" name="Text Box 8"/>
          <p:cNvSpPr/>
          <p:nvPr/>
        </p:nvSpPr>
        <p:spPr>
          <a:xfrm>
            <a:off x="157320" y="6280200"/>
            <a:ext cx="337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137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讨论一下：作者为什么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月光启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作为课题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4"/>
          <p:cNvSpPr/>
          <p:nvPr/>
        </p:nvSpPr>
        <p:spPr>
          <a:xfrm>
            <a:off x="118728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想一想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755640" y="155736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、母亲对孩子的启蒙教育多是在夏夜月光下进行的，所以以此为题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755640" y="2421000"/>
            <a:ext cx="77770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、这种启蒙教育是充满着母爱和诗意的，给孩子留下美好的回忆。而且月光能营造美的意境，以此为题与全文的情景吻合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755640" y="335772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、月光朦胧，给人很多想象的空间，激发人们对美好生活的向往与追求，所以月光本身对孩子也有启蒙作用。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1106640" y="6118200"/>
            <a:ext cx="6759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AutoShape 4"/>
          <p:cNvSpPr/>
          <p:nvPr/>
        </p:nvSpPr>
        <p:spPr>
          <a:xfrm>
            <a:off x="250920" y="692280"/>
            <a:ext cx="6192720" cy="453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250920" y="1148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认识作者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179280" y="53737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主要著作有诗集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煤海短歌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儿童长诗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带血的泥哨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儿童知识读物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在黑宝石的家里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等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多部。诗选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去打开大自然绿色的课本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被编入全国小学语文教科书。 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6443640" y="836640"/>
            <a:ext cx="24480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孙友田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当代诗人，江苏省作家协会理事，中国作家协会会员，享受国务院特殊津贴的杰出诗人。 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187280" y="1916280"/>
            <a:ext cx="78487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读准字音，认清字形。　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能正确、较流利地朗读课文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画出生词及不理解的词语，联系上下文理解。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边读边思：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月光下，我受到了母亲怎样的启蒙教育？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75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1187280" y="260280"/>
            <a:ext cx="19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自读课文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7" name="Text Box 2"/>
          <p:cNvSpPr/>
          <p:nvPr/>
        </p:nvSpPr>
        <p:spPr>
          <a:xfrm>
            <a:off x="1187280" y="1125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用自己喜欢的方式再读课文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826560" y="980640"/>
            <a:ext cx="7705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暑热    洒满     时辰    启迪    梧桐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含蓄    凤凰     吟唱    音韵    割荆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混沌    沉浸     雕像    搂抱    编箔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筛米    童谣     缠着    启蒙    啃锅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浓郁    篱笆     褂子    狸猫    脆脆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豁然开朗   篱笆小院   天资聪颖   幽默风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嫦娥奔月   牛郎织女   高深莫测   已至中天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3"/>
          <p:cNvSpPr/>
          <p:nvPr/>
        </p:nvSpPr>
        <p:spPr>
          <a:xfrm>
            <a:off x="1116000" y="189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我会读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4140360" y="98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hen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572436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í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7020000" y="1628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j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ī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g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755640" y="2421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ùn dùn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70930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bó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5364000" y="386064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í māo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826920" y="4581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uò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5724360" y="4581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yǐng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5"/>
          <p:cNvSpPr/>
          <p:nvPr/>
        </p:nvSpPr>
        <p:spPr>
          <a:xfrm>
            <a:off x="468360" y="1773360"/>
            <a:ext cx="85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一段（    ）：写童年夏夜生活的美妙，是母亲的歌谣使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懂得了对故乡的爱，对民间艺术的爱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503280" y="299736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二段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    ）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写母亲在夏夜给“我”讲神化故事、唱童谣、  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猜谜语，启迪了“我”的想象和智慧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39640" y="429264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三段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    ）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写母亲是启蒙老师，为“我”飞向诗歌王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国奠定了基础。 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97164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理清课文脉络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1692360" y="1916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 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1692360" y="314172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3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190800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971640" y="981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请同学们小组合作学习，给课文分段，概括大意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本文是一篇淳朴优美、感情真挚的散文。作者回忆了自己（    ）时，在美妙的夏夜，在月光的沐浴下，母亲给自己（          ）、（         ）和（      ）的情景，表达了作者（                       ）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23"/>
          <p:cNvSpPr/>
          <p:nvPr/>
        </p:nvSpPr>
        <p:spPr>
          <a:xfrm>
            <a:off x="1258920" y="333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填一填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1547640" y="2205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童年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1835280" y="292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唱民谣、童谣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4356000" y="2924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讲神话故事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6659640" y="2924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猜谜语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3419640" y="3645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对母亲启蒙教育的感激和怀念</a:t>
            </a:r>
            <a:endParaRPr b="1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755640" y="1844640"/>
            <a:ext cx="7993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月亮出来亮堂堂，打开楼门洗衣裳，洗得白白的，晒得脆脆的。</a:t>
            </a:r>
            <a:endParaRPr b="1" lang="en-US" sz="32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07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6"/>
          <p:cNvSpPr/>
          <p:nvPr/>
        </p:nvSpPr>
        <p:spPr>
          <a:xfrm>
            <a:off x="1476360" y="18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1547640" y="692280"/>
            <a:ext cx="1295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歌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0" name="Line 8"/>
          <p:cNvSpPr/>
          <p:nvPr/>
        </p:nvSpPr>
        <p:spPr>
          <a:xfrm>
            <a:off x="2268360" y="3573360"/>
            <a:ext cx="0" cy="5749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1908000" y="429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写出了母亲的勤劳、辛苦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611280" y="1628640"/>
            <a:ext cx="7993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月儿弯弯像小船，带俺娘俩去云南。飞了千里万里路，凤凰落在梧桐树。凤凰凤凰一摆头，先盖瓦屋后盖楼。东楼西楼都盖上，再盖南楼和北楼。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713" name="Picture 17" descr="复件 思考"/>
          <p:cNvPicPr/>
          <p:nvPr/>
        </p:nvPicPr>
        <p:blipFill>
          <a:blip r:embed="rId2"/>
          <a:stretch/>
        </p:blipFill>
        <p:spPr>
          <a:xfrm>
            <a:off x="539640" y="26028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4"/>
          <p:cNvSpPr/>
          <p:nvPr/>
        </p:nvSpPr>
        <p:spPr>
          <a:xfrm>
            <a:off x="147636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精读课文    唱歌谣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1547640" y="692280"/>
            <a:ext cx="1295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歌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2268360" y="3573360"/>
            <a:ext cx="0" cy="5749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1908000" y="429264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幸福美好生活的无限向往。</a:t>
            </a:r>
            <a:endParaRPr b="1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157320" y="6351480"/>
            <a:ext cx="337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8:57:40Z</dcterms:created>
  <dc:creator/>
  <dc:description/>
  <cp:keywords>幻灯片之家 http:/www.eeppt.com</cp:keywords>
  <dc:language>en-US</dc:language>
  <cp:lastModifiedBy/>
  <dcterms:modified xsi:type="dcterms:W3CDTF">2015-07-20T06:06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