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C2F-EDE4-4793-B109-2F22D965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054-B20D-41E0-84A2-B9E2517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90F-51B6-4AD4-A6E1-5A1EFA26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42C-22D6-494A-8C29-3E7BE6A0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204-5056-4689-9573-3EA8565C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774-A209-47CD-ABBF-07E25122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055-0833-46D7-9AA8-15F2879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245-0559-43F2-B4A2-2204DD14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585-1435-4E02-BB3B-9DCB91A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C8D-D0D4-4527-BDB6-190F993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E7C-C983-44B4-A2B7-55E1533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CCE-D9B8-4B32-9636-FF133EA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7582-DD8B-4540-99A9-84759CC4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诗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24000" y="836640"/>
            <a:ext cx="806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彩云"/>
              </a:rPr>
              <a:t>饮湖上初晴后雨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彩云"/>
              </a:rPr>
              <a:t>PPT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彩云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24000" y="580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诗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55640" y="58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348000" y="58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诗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572000" y="5734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40360" y="99072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苏轼，字子瞻，号东坡居士 。北宋中期的文坛领袖，文学巨匠，唐宋八大家之一。其诗题材广阔，清新豪健，善用夸张、比喻，独具风格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{3B32FBA2-5924-4BC4-9669-7E745FCF4295}"/>
          <p:cNvPicPr/>
          <p:nvPr/>
        </p:nvPicPr>
        <p:blipFill>
          <a:blip r:embed="rId1"/>
          <a:stretch/>
        </p:blipFill>
        <p:spPr>
          <a:xfrm>
            <a:off x="-36360" y="981000"/>
            <a:ext cx="4356000" cy="4535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8172360" y="6093000"/>
            <a:ext cx="360360" cy="28872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603" y="1350"/>
                </a:lnTo>
                <a:lnTo>
                  <a:pt x="1350" y="135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603" y="20250"/>
                </a:lnTo>
                <a:lnTo>
                  <a:pt x="25603" y="135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03" y="2025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53" h="21600">
                <a:moveTo>
                  <a:pt x="6433" y="7475"/>
                </a:moveTo>
                <a:lnTo>
                  <a:pt x="9959" y="7475"/>
                </a:lnTo>
                <a:lnTo>
                  <a:pt x="9959" y="12839"/>
                </a:lnTo>
                <a:cubicBezTo>
                  <a:pt x="9959" y="13766"/>
                  <a:pt x="10764" y="14501"/>
                  <a:pt x="11805" y="14501"/>
                </a:cubicBezTo>
                <a:lnTo>
                  <a:pt x="13476" y="14501"/>
                </a:lnTo>
                <a:cubicBezTo>
                  <a:pt x="14518" y="14501"/>
                  <a:pt x="15323" y="13766"/>
                  <a:pt x="15323" y="12839"/>
                </a:cubicBezTo>
                <a:lnTo>
                  <a:pt x="15323" y="7475"/>
                </a:lnTo>
                <a:lnTo>
                  <a:pt x="13476" y="7475"/>
                </a:lnTo>
                <a:lnTo>
                  <a:pt x="17003" y="3949"/>
                </a:lnTo>
                <a:lnTo>
                  <a:pt x="20695" y="7475"/>
                </a:lnTo>
                <a:lnTo>
                  <a:pt x="18849" y="7475"/>
                </a:lnTo>
                <a:lnTo>
                  <a:pt x="18849" y="12839"/>
                </a:lnTo>
                <a:cubicBezTo>
                  <a:pt x="18849" y="15621"/>
                  <a:pt x="16259" y="18194"/>
                  <a:pt x="13476" y="18194"/>
                </a:cubicBezTo>
                <a:lnTo>
                  <a:pt x="11805" y="18194"/>
                </a:lnTo>
                <a:cubicBezTo>
                  <a:pt x="9023" y="18194"/>
                  <a:pt x="6433" y="15621"/>
                  <a:pt x="6433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37E-A0DB-4C74-9437-F4C07C9710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004-01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赠刘景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荷尽已无擎雨盖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菊残犹有傲霜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年好景君须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正是橙黄橘绿时。</a:t>
            </a: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8244000" y="6093000"/>
            <a:ext cx="288720" cy="288720"/>
          </a:xfrm>
          <a:custGeom>
            <a:avLst/>
            <a:gdLst>
              <a:gd name="textAreaLeft" fmla="*/ 18000 w 288720"/>
              <a:gd name="textAreaRight" fmla="*/ 270720 w 28872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{7794437B-71CF-481A-B752-6DEC0138A495}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饮湖上初晴后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晴方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雨亦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欲把西湖比西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淡妆浓抹总相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101080" y="6165720"/>
            <a:ext cx="287280" cy="28764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7640"/>
              <a:gd name="textAreaBottom" fmla="*/ 27000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50" y="20277"/>
                </a:lnTo>
                <a:lnTo>
                  <a:pt x="20250" y="135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350" y="20277"/>
                </a:lnTo>
                <a:lnTo>
                  <a:pt x="20250" y="2027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77"/>
                </a:lnTo>
                <a:close/>
              </a:path>
              <a:path fill="darken" w="21600" h="21627">
                <a:moveTo>
                  <a:pt x="3756" y="7489"/>
                </a:moveTo>
                <a:lnTo>
                  <a:pt x="7283" y="7489"/>
                </a:lnTo>
                <a:lnTo>
                  <a:pt x="7283" y="12852"/>
                </a:lnTo>
                <a:cubicBezTo>
                  <a:pt x="7283" y="13780"/>
                  <a:pt x="8088" y="14515"/>
                  <a:pt x="9129" y="14515"/>
                </a:cubicBezTo>
                <a:lnTo>
                  <a:pt x="10800" y="14515"/>
                </a:lnTo>
                <a:cubicBezTo>
                  <a:pt x="11841" y="14515"/>
                  <a:pt x="12646" y="13780"/>
                  <a:pt x="12646" y="12852"/>
                </a:cubicBezTo>
                <a:lnTo>
                  <a:pt x="12646" y="7489"/>
                </a:lnTo>
                <a:lnTo>
                  <a:pt x="10800" y="7489"/>
                </a:lnTo>
                <a:lnTo>
                  <a:pt x="14326" y="3962"/>
                </a:lnTo>
                <a:lnTo>
                  <a:pt x="18019" y="7489"/>
                </a:lnTo>
                <a:lnTo>
                  <a:pt x="16173" y="7489"/>
                </a:lnTo>
                <a:lnTo>
                  <a:pt x="16173" y="12852"/>
                </a:lnTo>
                <a:cubicBezTo>
                  <a:pt x="16173" y="15635"/>
                  <a:pt x="13583" y="18207"/>
                  <a:pt x="10800" y="18207"/>
                </a:cubicBezTo>
                <a:lnTo>
                  <a:pt x="9129" y="18207"/>
                </a:lnTo>
                <a:cubicBezTo>
                  <a:pt x="6346" y="18207"/>
                  <a:pt x="3756" y="15635"/>
                  <a:pt x="3756" y="128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195640" y="256536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光潋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717280" y="328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山色空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76720" y="2276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àn  y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21964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62728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ā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27758230825468750_64066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80360" y="404640"/>
            <a:ext cx="129528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水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光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潋</a:t>
            </a: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317080" y="6165720"/>
            <a:ext cx="287280" cy="28764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7640"/>
              <a:gd name="textAreaBottom" fmla="*/ 27000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50" y="20277"/>
                </a:lnTo>
                <a:lnTo>
                  <a:pt x="20250" y="135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350" y="20277"/>
                </a:lnTo>
                <a:lnTo>
                  <a:pt x="20250" y="2027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77"/>
                </a:lnTo>
                <a:close/>
              </a:path>
              <a:path fill="darken" w="21600" h="21627">
                <a:moveTo>
                  <a:pt x="3756" y="7489"/>
                </a:moveTo>
                <a:lnTo>
                  <a:pt x="7283" y="7489"/>
                </a:lnTo>
                <a:lnTo>
                  <a:pt x="7283" y="12852"/>
                </a:lnTo>
                <a:cubicBezTo>
                  <a:pt x="7283" y="13780"/>
                  <a:pt x="8088" y="14515"/>
                  <a:pt x="9129" y="14515"/>
                </a:cubicBezTo>
                <a:lnTo>
                  <a:pt x="10800" y="14515"/>
                </a:lnTo>
                <a:cubicBezTo>
                  <a:pt x="11841" y="14515"/>
                  <a:pt x="12646" y="13780"/>
                  <a:pt x="12646" y="12852"/>
                </a:cubicBezTo>
                <a:lnTo>
                  <a:pt x="12646" y="7489"/>
                </a:lnTo>
                <a:lnTo>
                  <a:pt x="10800" y="7489"/>
                </a:lnTo>
                <a:lnTo>
                  <a:pt x="14326" y="3962"/>
                </a:lnTo>
                <a:lnTo>
                  <a:pt x="18019" y="7489"/>
                </a:lnTo>
                <a:lnTo>
                  <a:pt x="16173" y="7489"/>
                </a:lnTo>
                <a:lnTo>
                  <a:pt x="16173" y="12852"/>
                </a:lnTo>
                <a:cubicBezTo>
                  <a:pt x="16173" y="15635"/>
                  <a:pt x="13583" y="18207"/>
                  <a:pt x="10800" y="18207"/>
                </a:cubicBezTo>
                <a:lnTo>
                  <a:pt x="9129" y="18207"/>
                </a:lnTo>
                <a:cubicBezTo>
                  <a:pt x="6346" y="18207"/>
                  <a:pt x="3756" y="15635"/>
                  <a:pt x="3756" y="128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r_117_1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1019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ff"/>
                </a:solidFill>
                <a:latin typeface="Arial"/>
                <a:ea typeface="华文行楷"/>
              </a:rPr>
              <a:t>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8317080" y="6165720"/>
            <a:ext cx="288720" cy="358920"/>
          </a:xfrm>
          <a:custGeom>
            <a:avLst/>
            <a:gdLst>
              <a:gd name="textAreaLeft" fmla="*/ 18000 w 288720"/>
              <a:gd name="textAreaRight" fmla="*/ 270720 w 288720"/>
              <a:gd name="textAreaTop" fmla="*/ 18000 h 358920"/>
              <a:gd name="textAreaBottom" fmla="*/ 340920 h 358920"/>
            </a:gdLst>
            <a:ahLst/>
            <a:rect l="textAreaLeft" t="textAreaTop" r="textAreaRight" b="textAreaBottom"/>
            <a:pathLst>
              <a:path w="21600" h="26845">
                <a:moveTo>
                  <a:pt x="0" y="0"/>
                </a:moveTo>
                <a:lnTo>
                  <a:pt x="21600" y="0"/>
                </a:lnTo>
                <a:lnTo>
                  <a:pt x="21600" y="26845"/>
                </a:lnTo>
                <a:lnTo>
                  <a:pt x="0" y="26845"/>
                </a:lnTo>
                <a:close/>
              </a:path>
              <a:path fill="lightenLess" w="21600" h="2684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845">
                <a:moveTo>
                  <a:pt x="21600" y="0"/>
                </a:moveTo>
                <a:lnTo>
                  <a:pt x="21600" y="26845"/>
                </a:lnTo>
                <a:lnTo>
                  <a:pt x="20250" y="25495"/>
                </a:lnTo>
                <a:lnTo>
                  <a:pt x="20250" y="1350"/>
                </a:lnTo>
                <a:close/>
              </a:path>
              <a:path fill="darkenLess" w="21600" h="26845">
                <a:moveTo>
                  <a:pt x="21600" y="26845"/>
                </a:moveTo>
                <a:lnTo>
                  <a:pt x="0" y="26845"/>
                </a:lnTo>
                <a:lnTo>
                  <a:pt x="1350" y="25495"/>
                </a:lnTo>
                <a:lnTo>
                  <a:pt x="20250" y="25495"/>
                </a:lnTo>
                <a:close/>
              </a:path>
              <a:path fill="lighten" w="21600" h="26845">
                <a:moveTo>
                  <a:pt x="0" y="2684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495"/>
                </a:lnTo>
                <a:close/>
              </a:path>
              <a:path fill="darken" w="21600" h="26845">
                <a:moveTo>
                  <a:pt x="3756" y="10098"/>
                </a:moveTo>
                <a:lnTo>
                  <a:pt x="7283" y="10098"/>
                </a:lnTo>
                <a:lnTo>
                  <a:pt x="7283" y="15461"/>
                </a:lnTo>
                <a:cubicBezTo>
                  <a:pt x="7283" y="16389"/>
                  <a:pt x="8088" y="17124"/>
                  <a:pt x="9129" y="17124"/>
                </a:cubicBezTo>
                <a:lnTo>
                  <a:pt x="10800" y="17124"/>
                </a:lnTo>
                <a:cubicBezTo>
                  <a:pt x="11841" y="17124"/>
                  <a:pt x="12646" y="16389"/>
                  <a:pt x="12646" y="15461"/>
                </a:cubicBezTo>
                <a:lnTo>
                  <a:pt x="12646" y="10098"/>
                </a:lnTo>
                <a:lnTo>
                  <a:pt x="10800" y="10098"/>
                </a:lnTo>
                <a:lnTo>
                  <a:pt x="14326" y="6571"/>
                </a:lnTo>
                <a:lnTo>
                  <a:pt x="18019" y="10098"/>
                </a:lnTo>
                <a:lnTo>
                  <a:pt x="16173" y="10098"/>
                </a:lnTo>
                <a:lnTo>
                  <a:pt x="16173" y="15461"/>
                </a:lnTo>
                <a:cubicBezTo>
                  <a:pt x="16173" y="18244"/>
                  <a:pt x="13583" y="20816"/>
                  <a:pt x="10800" y="20816"/>
                </a:cubicBezTo>
                <a:lnTo>
                  <a:pt x="9129" y="20816"/>
                </a:lnTo>
                <a:cubicBezTo>
                  <a:pt x="6346" y="20816"/>
                  <a:pt x="3756" y="18244"/>
                  <a:pt x="3756" y="1546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0:19:00Z</dcterms:created>
  <dc:creator/>
  <dc:description/>
  <cp:keywords>幻灯片之家 http:/www.eeppt.com</cp:keywords>
  <dc:language>en-US</dc:language>
  <cp:lastModifiedBy/>
  <dcterms:modified xsi:type="dcterms:W3CDTF">2015-07-03T13:30:1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