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E39-ED51-467A-B294-4547F41D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982-88FC-4862-8302-F5A9614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328AA-B01F-4309-AF23-99A942DD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6FA86-8E1C-438A-8CC7-1ED96C6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7DA9-2775-412F-A500-F450E864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B98D-87A6-433A-AC20-91F0A7D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1ED89-9676-4D7F-A4A4-0B42341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358A8-8157-4F94-B36F-9B21168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E51E4-6E0C-42AB-AFAA-8E726F0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2542D-5785-4939-B71D-360EC118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E9F0E-6B0E-4EC9-9877-C036B4F1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DD2C8-3E94-46A0-9ACC-0D264D01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700-E01B-42A0-A31D-75D50BFB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B47A-5238-4204-AD62-08FA521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0436D-0C2D-4FB1-B114-392AD81F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55148-870A-42AD-BD68-EEA222B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C40EB-BE20-487A-94EC-402FFF1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530F-50E0-43D4-8F1B-1347970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E15C0-269E-4AF7-95C0-758D309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0CA1A-23FC-4F6C-BDF6-827B299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C6B0-77BC-4316-8276-AA3947EC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4955C-C191-4C1B-BFD6-9363339B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BD80-B591-4BA8-A5C0-15E843C0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F0C-3C19-4946-8490-57CE55E4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1599C-2A46-426E-9B13-6E752B95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7C32F-1E06-4DB3-9248-5DB089EA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7F6F-2234-4015-8B2D-4A9D496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D4A2-D017-4B74-9E41-A18C15E5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F8DF2-E0B3-449D-9ECD-10F30B8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E267-0580-476E-993C-08024FFF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0A21-576D-4662-A1F9-CED6D490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23816-6A42-4C7D-830C-32BE5EC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EFA67-9739-49D3-9FD8-9762CCD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10365-2DF7-4FA5-A7CC-FC6C27B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FA6E-8950-4682-BFD9-8B0B8F1E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A17F1-25A4-4A55-8445-0C984205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8FB69-2A13-462B-818A-AB44E9A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C4722-4523-4FF3-B8A9-BFD416C7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F0DCE-3329-4108-B6D6-57DA93CB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D1950-FDA0-4BAF-87DD-072C1C5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B488E-1513-48EE-BD58-8C977D9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8117-4E56-4E7C-921F-DA786C8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C8952-6AC7-44E0-BFC6-218BD58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ACFA5-18A6-4249-B748-900F365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60C13-9F4C-4D0E-BD61-5B64AFC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B15-D9BA-4DA4-8D68-C9AA1B1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13AA1-503F-4243-8CF6-468C863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7BC8D-D1C4-4D1D-89B9-DED6FD6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AE3CC-8738-406B-AE9B-B26DF94F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5E7AE-D9B4-45A3-BDF4-1D9A8C45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883B1-F20D-4D3F-BCE2-7FB65F27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4772E-BDD9-463D-8619-3D60E727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8308A-7630-4C77-BB8E-0358E40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4E0E9-1D68-4A5D-B7A2-95FC132C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D0370-5056-42A9-90DD-07ED3FDF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9BA62-E92F-4577-ACA3-0E3D02F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457-B35D-4FC8-B934-B7F9D752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1C1D6-0E56-4752-ABDD-BF3B3B93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0995-503A-43BE-A18C-A7AA923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CF922-E0F2-4493-8D51-9F3487F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7504F-1BB1-400C-9AA5-3C0A9EB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3EBD6-6BDC-4DDA-86BE-5322C7D7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E5C14-7871-4E4C-8448-44142F69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0F6CB-A0F1-485B-B3B9-16FC3053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D80-CEFE-4574-95E5-40503060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21B-0165-49D7-80DE-B1005E91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F3EC-5BC8-4350-8706-A7584A6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71AC-D360-4FFD-A8F0-066CB22F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630-44F3-4A52-ADE1-24403389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B4A-E623-4B59-BE4A-9C820F4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820-A8ED-4C2E-9019-F42CFEE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87CF-E971-4EA3-8BF8-2ED8CDB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419C-A0B7-4613-9607-5016C845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D3E-3E18-47DC-B3EE-FD50B8E3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4818-70F5-47E7-96E4-631ECAC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205D-37A9-47B2-8D90-5601D61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67DD-135E-43A8-884C-9E0E064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F49A-E5E1-423E-A667-92F69E8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6109-4491-40EC-A569-EF63B225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027-FCD1-4F51-B284-8C7C34E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B90C-04B3-4051-8EE3-1CCEC87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DEFC-A2FE-4C92-B9EC-2756B60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ADB2-4D6B-4E1E-831D-7792DB7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CA77-1235-4658-B8B1-3DA2F09C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6373-7354-46CC-9B33-BD548E7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288F-9764-4CCA-9C51-330112B6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96CA-904B-4DB6-ACFD-C54FBA31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9299-3EF6-418B-8887-50B90617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6DD1-5406-453D-B715-B70404E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08BE-A68D-4945-8CEA-B3E82399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F80-8545-43F2-B790-FE2C0B2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E99A-4FEB-4961-AC4F-F0FDD1BF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71CA-B787-42C2-907F-13D85A7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B6B7-1457-4EDD-9D09-1C5F8F58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4989-AAFF-46F0-ACFA-D6D770CB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7985-C362-4342-B0CA-D2B067D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5B14-A128-4376-BCDB-D3E587D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200A-3CFE-4FDC-9899-615571D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53A5-E649-43AA-B43B-FA449E42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E519-387A-4771-A907-CCD65FA3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04FF1-E7F0-42A0-A322-C020166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C49-3DC3-41F5-B08B-EB469EB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4913-B341-4630-BE02-3EAA3D6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30DA-7D12-449D-937B-2E11838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5B6A-0798-4203-9152-6F6DA42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7885-B5A8-4E7E-90DF-A76752DB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176B-FF65-42AE-B34F-E75C496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4552-B73D-4210-886B-F1C99BB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45AC-2132-4871-A521-D6CD09F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3187-79BC-4320-A6A4-2156638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EA38-072F-4883-A13A-01292BE2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88E3-447D-4F91-85CC-28DC987D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768-2507-40CF-9FBE-7A2654E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A05D-140C-4477-9B5E-7A00C335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8AC9-ED3D-4C6F-8336-AEEBB5DE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95B7-DD1D-448A-9685-5C0AA560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4355-1DF3-45D7-89B5-630AD500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9CDC-9083-42DD-AAD8-7C21BC20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D410-9121-4D89-B4E0-BB2C7833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5531-12B3-4021-BC08-578F4F2D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E1DC-5E15-466D-B31F-C5C5E223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9FC91-6CC6-466F-9CBB-0C92A61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C844A-61F4-475A-A01E-98DE2301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A6B-E8AA-4ADE-ADF2-B5C8E1B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8DD0-E2BC-4BA8-BC96-5F6164DE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025E-7EEB-4854-A877-6DAA1E2F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5578-530B-4EB0-9241-1754D169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B3B9-40C2-491E-933E-F792A376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753EB-1595-49CD-918B-6655A51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C550-37FD-4AD1-8CAD-013F989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AA8F-B0D1-48D7-8397-EF46DF1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F30F-AFDB-4C65-94DD-10C8A6F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AB85-8397-4134-82DD-C90A838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0E53-5DF7-4212-9F2E-4B0B5A01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E84-E72A-45E8-AA3D-557B661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27D9-A3FA-4ECD-BA12-75CB60E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0BEA-4297-40E4-9479-34FD106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37A5-35E1-4FA2-9912-3248CD6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C5D1-CED3-4A9C-93BD-9CD18C60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B8E3-1EBF-4A0B-9108-9EB86F5E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CEFC8-3EF3-4768-847A-4B39C38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B6356-73E5-4EFC-85E6-D96BF49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2EBE3-E46A-4162-9DD0-FE5F073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C7B6-5424-4DE8-B108-1C3DD7E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10C1-58EE-478F-A901-2EC4234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8E2-1C03-498B-95EC-9D6DEDE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579A1-F5A4-4662-9E11-CD7F56B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7A604-99B0-4D71-84C7-46E538A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26E28-90C6-4DD0-9134-9D480492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7873-0F87-4B1F-8124-FC0FE4D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C751-700C-4977-8BBD-2168952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8C70D-2717-42C5-9C07-1E6DFB4F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0D12-6BA7-4141-BCCE-C8F4EAB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B482-EB4A-41D2-B533-71278DE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6D212-F6F5-4008-96FE-6A4C4F2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9B5FD-7ECE-4139-9C70-E29B39C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177-45EC-462A-938C-F2418AB12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A3E-0F44-4415-8AD7-338BAE42FD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0EE-AFD4-4414-B8DB-ABE7AEFDA8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49B3-5918-4CC7-AEBC-717B46B011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C190-42BF-4F3E-9E2F-488484B9A5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A985-2AA7-4F88-A9A6-2D59F8A2A3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0737-5486-4BE8-B153-1B7E671103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A34-5903-4116-8A14-C7532F0563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754B-8499-4AAF-9540-A7D2B396FC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8CB-4B3D-4A91-B165-CECF41278D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319-97E5-4E60-9065-C9D6E9E080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F514-1F30-4742-BE23-70CD06F250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F79-8073-4167-A2EE-2FE31EBF14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夜书所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模板下载</a:t>
            </a:r>
            <a:br>
              <a:rPr sz="40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南宋）叶绍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江上秋风动客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江上的秋风深深地触动了诗人思念家乡的情怀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5801400" y="0"/>
            <a:ext cx="311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知有儿童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夜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阵阵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吹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发出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的声音，让人感觉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，江上的秋风使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禁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4360" y="3428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料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因为他看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知有儿童挑促织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夜深篱落一灯明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59140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料想是孩子们在捉蟋蟀，因为夜深了忽然看到远处篱笆下的灯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820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萧萧 梧叶 送 寒声，   江上 秋风 动 客情。  知有 儿童 挑 促织，  夜深 篱落 一灯 明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3"/>
          <p:cNvSpPr/>
          <p:nvPr/>
        </p:nvSpPr>
        <p:spPr>
          <a:xfrm flipH="1">
            <a:off x="2484360" y="126828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"/>
          <p:cNvSpPr/>
          <p:nvPr/>
        </p:nvSpPr>
        <p:spPr>
          <a:xfrm flipH="1">
            <a:off x="4572000" y="1197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"/>
          <p:cNvSpPr/>
          <p:nvPr/>
        </p:nvSpPr>
        <p:spPr>
          <a:xfrm flipH="1">
            <a:off x="5724000" y="119700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"/>
          <p:cNvSpPr/>
          <p:nvPr/>
        </p:nvSpPr>
        <p:spPr>
          <a:xfrm flipH="1">
            <a:off x="2556000" y="2349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7"/>
          <p:cNvSpPr/>
          <p:nvPr/>
        </p:nvSpPr>
        <p:spPr>
          <a:xfrm flipH="1">
            <a:off x="4716360" y="227664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8"/>
          <p:cNvSpPr/>
          <p:nvPr/>
        </p:nvSpPr>
        <p:spPr>
          <a:xfrm flipH="1">
            <a:off x="5796000" y="2349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9"/>
          <p:cNvSpPr/>
          <p:nvPr/>
        </p:nvSpPr>
        <p:spPr>
          <a:xfrm flipH="1">
            <a:off x="2556000" y="3429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0"/>
          <p:cNvSpPr/>
          <p:nvPr/>
        </p:nvSpPr>
        <p:spPr>
          <a:xfrm flipH="1">
            <a:off x="4642920" y="342900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1"/>
          <p:cNvSpPr/>
          <p:nvPr/>
        </p:nvSpPr>
        <p:spPr>
          <a:xfrm flipH="1">
            <a:off x="5867280" y="342900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"/>
          <p:cNvSpPr/>
          <p:nvPr/>
        </p:nvSpPr>
        <p:spPr>
          <a:xfrm flipH="1">
            <a:off x="2627280" y="4581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3"/>
          <p:cNvSpPr/>
          <p:nvPr/>
        </p:nvSpPr>
        <p:spPr>
          <a:xfrm flipH="1">
            <a:off x="4642920" y="4508640"/>
            <a:ext cx="287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4"/>
          <p:cNvSpPr/>
          <p:nvPr/>
        </p:nvSpPr>
        <p:spPr>
          <a:xfrm flipH="1">
            <a:off x="6659640" y="4581360"/>
            <a:ext cx="28728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游园不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南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宋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）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叶绍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应怜屐齿印苍苔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扣柴扉久不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春色满园关不住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一枝红杏出墙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舟夜书所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清）查慎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月黑见渔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孤光一点萤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微微风簇浪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散作满河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叶绍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叶绍翁，南宋中期诗人。祖籍建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今福建建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长期隐居在钱塘西湖之滨。他的诗以七言绝句最佳，富有生活情趣。其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游园不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最为著名，历来被人们所传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5640" y="2060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3" marL="1328040" indent="0">
              <a:lnSpc>
                <a:spcPct val="90000"/>
              </a:lnSpc>
              <a:spcBef>
                <a:spcPts val="8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深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忆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92360" y="15570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异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0920" y="1483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逢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佳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-762120"/>
            <a:ext cx="647712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63640" y="1483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6674040" cy="39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遍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夜书所见</a:t>
            </a:r>
            <a:br>
              <a:rPr sz="66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南宋）叶绍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梧叶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送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寒声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江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秋风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客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知有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儿童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促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夜深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篱落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一灯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夜书所见  电子课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7164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这首诗描写的是什么季节？从哪里可以看出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夜书所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"/>
          <p:cNvSpPr/>
          <p:nvPr/>
        </p:nvSpPr>
        <p:spPr>
          <a:xfrm>
            <a:off x="3027960" y="2205000"/>
            <a:ext cx="31068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萧萧梧叶送寒声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江上秋风动客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知有儿童挑促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夜深篱落一灯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100320" y="2286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夜书所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69814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叶绍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渔舟唱晚.mp3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萧萧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梧叶送寒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萧萧的秋风吹动梧桐树的叶子，送来一阵阵寒意（让人感到寒冷）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gugaung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553" name="Wind2.wav" descr=""/>
          <p:cNvPicPr/>
          <p:nvPr/>
        </p:nvPicPr>
        <p:blipFill>
          <a:blip r:embed="rId2"/>
          <a:stretch/>
        </p:blipFill>
        <p:spPr>
          <a:xfrm>
            <a:off x="86104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2397960" y="333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江上秋风动客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1117440" y="2276640"/>
            <a:ext cx="70675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江上的秋风使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禁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8:45Z</dcterms:created>
  <dc:creator/>
  <dc:description/>
  <cp:keywords>幻灯片之家 http:/www.eeppt.com</cp:keywords>
  <dc:language>en-US</dc:language>
  <cp:lastModifiedBy/>
  <dcterms:modified xsi:type="dcterms:W3CDTF">2015-07-20T04:25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