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chimes.wav" ContentType="audio/x-wav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2CD-6DB7-4C74-8422-B02C03BA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6D0-7E75-414F-BDE7-DED1875E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DEA-913F-4597-B20F-8B9BBFB7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120-9128-4831-BFE8-C0B0513E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A05-4256-404C-8C2F-C0D7A4A9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30A0-AF5A-4185-AC29-019E8178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04E-E865-40BA-95C9-F46DEE5A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2AED-9202-4B53-AAB3-8EC501FF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051E-7A41-487B-9426-1A5333E9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4B58-CFCA-45B4-A83A-35299D6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92AD-3C4D-4C47-92EB-0948E9F8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8B0-1CD6-48D0-A447-8C5E83D0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5F73-3E8B-441A-985B-0A54A245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5A1E-3570-4E77-B95F-7100D3D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94C-896B-4977-8289-78256495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FB5-E3D5-4A2B-AF3C-AC9058EF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EB94-F27A-42A3-803A-A55702D0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C368-5E83-4365-BE49-5696D610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0175-E6BB-4387-AA0E-3B69ABD5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52A8-3F98-446D-9800-B7CB055F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2FB2-EA9E-4059-8EF3-6950D90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73A3-78B2-4514-BBBA-7466B88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259-2ADF-4F99-914A-9272D80A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0283-2025-4A51-AB78-44CDB714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B55D-432F-49FE-AC45-B9152A5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3367-ECFC-4D9E-8114-4367365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71AC-9B01-41F1-A26B-66C85A7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CF1F-13E6-49A5-8D06-6E20D6A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42B3-CE30-4C95-A7E1-345A9D40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8C50-780D-4BB5-8A3C-37ECBDD9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786A-083A-4986-AB67-DC0BA9E9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5A28-55C5-4D12-ADF1-FA39AD5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8F0D-D9C7-4D42-88D6-C97B347A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043-D132-4944-96E3-01D635E9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3979-846D-4C87-B770-9DD7E774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5F02-B41A-495D-B98B-D811C926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3E88-B03F-4EA9-AE16-5EE747BE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6A11-7909-48C5-A6CC-094A8C19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A09F-E234-4FDE-8A06-229B60AC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655B-D58E-4A95-9D32-6B94E58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D9BA-59BB-46C6-BCFC-5FDA26A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9720-03E9-43D1-80B8-5AB96587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6402-9BC4-46FC-A573-9B64DC5C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0105-DC61-47C9-B210-447809F4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74D-FA4E-45B0-8A14-B404985A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1C53-E1E5-409E-A1DB-EAFB519D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2672B-A8EC-44BB-BEAC-42E9319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8420-47BB-4D0F-88B3-4EFB893A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CBE7F-36B0-4D93-9208-EF0051D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ADE3-9F72-47A3-9A06-2580709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5A8B-9F18-44E5-AE95-70EA63C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07C0-C6A6-486E-B9E5-7C15EB5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03D1-A230-437E-8FFE-4262103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D2A6-88B0-45F8-B369-D428F26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B11D-C354-40CF-B5B7-DF70A8E5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527-7C99-452D-BBFD-83FD4B61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0223B-4379-4652-A38A-7DCD9263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05F-2809-42AD-A696-73D06AAB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E6C92-7CAC-4C78-9275-5DDFD767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3CBE-A8D0-4322-BDBB-C49767CE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5E5B-1BEC-4B7D-BA99-1C47A1B8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F01E-3A13-4AB3-859B-1EB6A92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18F41-C9B5-4DB6-9462-828BABC1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277A0-8E80-472C-A2ED-9339DAE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A89F-8624-4D42-BEF1-A3A0CEF3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7CB-A716-4C55-B9DC-80BAF41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FCB4B-B281-4726-A35E-39B00BF7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F6F1-6787-4FA0-9AD1-779D604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C2B5-92E3-4A04-96A8-42575A5F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D34B4-6281-450F-9481-F6D0F536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F9FA-D35F-483E-9AE6-D0E49A45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1513-9D50-443F-9036-B71BF692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3FAC0-AFB4-4F3C-BEA0-BEFF4A36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A87F8-EB4C-4A2F-91E5-E2DB983A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6591-EBAD-48DD-BC8D-00B75034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C0D59-31DF-430E-B1B1-ADE7549F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471-9AE4-4D08-9400-D282F9C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1DE3-4E28-49C5-BE08-8B0A0177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5F07-5C60-41D1-AB87-9D56C0E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2FE8-DBA1-434D-9C41-30A0732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B15BE-5E15-4864-86E5-105FD335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3F64-C752-4BAF-BE9E-34CFDFF4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30901-7B98-48E9-9A3B-AFB2CD30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C767E-9217-41AA-BD8A-EBC08093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52D3-E587-41F6-8B3D-EABC36EDC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9D3A-49D0-43DF-8918-54B52C434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7030-96D3-4F23-B668-3E061F6EE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6F9-A86B-4AEC-961B-47798E525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314-79B8-401F-BE3C-F1836DD6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B2A0-4D3E-4FF1-9353-88B085CC2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6F4-BAE2-4A05-B1A9-01EDBA1306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5364000" y="3789360"/>
            <a:ext cx="201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罗贯中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51" name="WordArt 9"/>
          <p:cNvSpPr txBox="1"/>
          <p:nvPr/>
        </p:nvSpPr>
        <p:spPr>
          <a:xfrm>
            <a:off x="2050920" y="1628640"/>
            <a:ext cx="47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杨 修 之 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900000" y="-27000"/>
            <a:ext cx="626760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             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鸡肋事件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改建园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分食酥饼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语破奸心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5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轻视吴质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6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教植斩吏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7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巧作答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WordArt 5"/>
          <p:cNvSpPr txBox="1"/>
          <p:nvPr/>
        </p:nvSpPr>
        <p:spPr>
          <a:xfrm>
            <a:off x="324000" y="260280"/>
            <a:ext cx="25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隶书"/>
              </a:rPr>
              <a:t>整体感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2"/>
          <p:cNvSpPr txBox="1"/>
          <p:nvPr/>
        </p:nvSpPr>
        <p:spPr>
          <a:xfrm rot="5400000">
            <a:off x="-648360" y="1377000"/>
            <a:ext cx="280836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403280" y="1341360"/>
            <a:ext cx="720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关于杨修之死，有人推之于曹操，有人归之于杨修，有人说另有他因，你持何种观点？说明你的理由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2"/>
          <p:cNvSpPr txBox="1"/>
          <p:nvPr/>
        </p:nvSpPr>
        <p:spPr>
          <a:xfrm rot="5400000">
            <a:off x="-973080" y="1989360"/>
            <a:ext cx="367344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隶书"/>
              </a:rPr>
              <a:t>撰写碑文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隶书"/>
              <a:ea typeface="隶书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1908000" y="765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隶书"/>
                <a:ea typeface="隶书"/>
              </a:rPr>
              <a:t>          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请用你对文章的感悟，自己选择角度在杨修的墓碑上写一句话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059280" y="4365720"/>
            <a:ext cx="590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聪明机智知识渊博可谓英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恃才放旷目中无人终尝苦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WordArt 3"/>
          <p:cNvSpPr txBox="1"/>
          <p:nvPr/>
        </p:nvSpPr>
        <p:spPr>
          <a:xfrm>
            <a:off x="1042920" y="907920"/>
            <a:ext cx="223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思想意蕴：</a:t>
            </a:r>
            <a:endParaRPr b="0" lang="en-US" sz="1800" spc="-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403280" y="1773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    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三国演义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通过汉末三国时期百年间的政治，军事斗争故事提出了“明君仁政”的理想，表达了对历史人物忠义、智勇优秀品格的赞颂，而且有人认为全书贯穿着明显的“拥刘贬曹”的思想倾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2"/>
          <p:cNvSpPr txBox="1"/>
          <p:nvPr/>
        </p:nvSpPr>
        <p:spPr>
          <a:xfrm>
            <a:off x="539640" y="404640"/>
            <a:ext cx="26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授人以渔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476360" y="13413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 何 阅 读 小 说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755640" y="236232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一、把握小说的三要素：人物、情节、环境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二、了解小说创作的时代背景和作家创作小说的动机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三、抓住人物的肖像、行动、心理和语言分析人物形象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2"/>
          <p:cNvSpPr txBox="1"/>
          <p:nvPr/>
        </p:nvSpPr>
        <p:spPr>
          <a:xfrm>
            <a:off x="3276720" y="476280"/>
            <a:ext cx="215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活动与探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468360" y="1341360"/>
            <a:ext cx="82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作家王蒙在看了电视剧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三国演义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之后，有一些很精彩的议论。如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那是英雄辈出的时代么？争权夺利，好勇斗狠，尔虞我诈，这是英雄么？刮骨疗毒，拔矢啖睛，一不怕疼二不怕死就是英雄么？这疼与死又所谓何来呢？他们关心的唯一热点无非是争权夺利，特别是争夺那唯一的一把龙椅罢了。他们为了争龙椅，不惜杀人如麻，血流成河；不惜决堤防水，乘风放火；不惜生灵涂炭，啼饥号寒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么多英雄怎么没有一个替老百姓说一句话的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又如他说</a:t>
            </a:r>
            <a:r>
              <a:rPr b="0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三国演义</a:t>
            </a:r>
            <a:r>
              <a:rPr b="0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中的政治是赤裸裸的权利政治。表现在：①是砍脑壳政治；②是阴谋政治；③是叛徒政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4"/>
          <p:cNvSpPr txBox="1"/>
          <p:nvPr/>
        </p:nvSpPr>
        <p:spPr>
          <a:xfrm>
            <a:off x="2627280" y="549360"/>
            <a:ext cx="3529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书海引航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98" name="Picture 6" descr="it"/>
          <p:cNvPicPr/>
          <p:nvPr/>
        </p:nvPicPr>
        <p:blipFill>
          <a:blip r:embed="rId1"/>
          <a:stretch/>
        </p:blipFill>
        <p:spPr>
          <a:xfrm>
            <a:off x="5580000" y="1916280"/>
            <a:ext cx="2314800" cy="3025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u=20739288,2547116374&amp;gp=3"/>
          <p:cNvPicPr/>
          <p:nvPr/>
        </p:nvPicPr>
        <p:blipFill>
          <a:blip r:embed="rId2"/>
          <a:stretch/>
        </p:blipFill>
        <p:spPr>
          <a:xfrm>
            <a:off x="2771640" y="1916280"/>
            <a:ext cx="2233800" cy="3025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8"/>
          <p:cNvSpPr/>
          <p:nvPr/>
        </p:nvSpPr>
        <p:spPr>
          <a:xfrm>
            <a:off x="2916360" y="501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重温经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867280" y="5013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开阔视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2" name="在我生命中的每一天-成龙_陈淑桦.mp3" descr=""/>
          <p:cNvPicPr/>
          <p:nvPr/>
        </p:nvPicPr>
        <p:blipFill>
          <a:blip r:embed="rId3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66343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7"/>
          <p:cNvSpPr/>
          <p:nvPr/>
        </p:nvSpPr>
        <p:spPr>
          <a:xfrm>
            <a:off x="1187280" y="3068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WordArt 2"/>
          <p:cNvSpPr txBox="1"/>
          <p:nvPr/>
        </p:nvSpPr>
        <p:spPr>
          <a:xfrm>
            <a:off x="179280" y="62064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走近三国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635280" y="765000"/>
            <a:ext cx="496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   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演义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是我国第一部长篇章回体历史演义小说，原名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志通俗演义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，也称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志演义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作者罗贯中，号湖海散人，元末明初小说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全书以东汉末年及魏、蜀、吴三国历史为题材。作者在民间传说和民间艺人创作的话本、戏曲的基础上，运用了陈寿的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志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和裴松之注的正史材料，结合自己丰富的生活经验创作而成。集中表现了统治集团之间的政治和军事斗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5" name="Picture 7" descr="u=2804782340,234915629&amp;gp=2"/>
          <p:cNvPicPr/>
          <p:nvPr/>
        </p:nvPicPr>
        <p:blipFill>
          <a:blip r:embed="rId2"/>
          <a:stretch/>
        </p:blipFill>
        <p:spPr>
          <a:xfrm>
            <a:off x="611280" y="2133720"/>
            <a:ext cx="2442960" cy="34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8" descr="u=43257401,810481547&amp;gp=0"/>
          <p:cNvPicPr/>
          <p:nvPr/>
        </p:nvPicPr>
        <p:blipFill>
          <a:blip r:embed="rId2"/>
          <a:stretch/>
        </p:blipFill>
        <p:spPr>
          <a:xfrm>
            <a:off x="5486400" y="2514600"/>
            <a:ext cx="2336760" cy="2819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u=2910403871,1863395670&amp;gp=3"/>
          <p:cNvPicPr/>
          <p:nvPr/>
        </p:nvPicPr>
        <p:blipFill>
          <a:blip r:embed="rId3"/>
          <a:stretch/>
        </p:blipFill>
        <p:spPr>
          <a:xfrm>
            <a:off x="1066680" y="1143000"/>
            <a:ext cx="2487600" cy="32004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10"/>
          <p:cNvSpPr txBox="1"/>
          <p:nvPr/>
        </p:nvSpPr>
        <p:spPr>
          <a:xfrm>
            <a:off x="1447920" y="457200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曹操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9" name="WordArt 11"/>
          <p:cNvSpPr txBox="1"/>
          <p:nvPr/>
        </p:nvSpPr>
        <p:spPr>
          <a:xfrm>
            <a:off x="5791320" y="5562720"/>
            <a:ext cx="1752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杨修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WordArt 4" descr=""/>
          <p:cNvPicPr/>
          <p:nvPr/>
        </p:nvPicPr>
        <p:blipFill>
          <a:blip r:embed="rId2"/>
          <a:stretch/>
        </p:blipFill>
        <p:spPr>
          <a:xfrm>
            <a:off x="244440" y="401760"/>
            <a:ext cx="2816280" cy="1298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324000" y="1628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准字音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95280" y="2276640"/>
            <a:ext cx="273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庖（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讫（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簏（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059280" y="2276640"/>
            <a:ext cx="2663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谮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麾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绰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403280" y="2276640"/>
            <a:ext cx="1295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á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ì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3995640" y="2276640"/>
            <a:ext cx="1656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èn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uī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ā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5796000" y="112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词语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5940360" y="1773360"/>
            <a:ext cx="2879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沉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禀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班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谮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惑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对答如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179280" y="1557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下面的的句子译成现代汉语，力求简洁明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95280" y="2637000"/>
            <a:ext cx="8497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杨修为人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恃才放旷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，数犯曹操之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（操）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佯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惊问：“何人杀吾近侍？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丞相非在梦中，君乃在梦中耳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4.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但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操有问，植即依条答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71" name="WordArt 7" descr=""/>
          <p:cNvPicPr/>
          <p:nvPr/>
        </p:nvPicPr>
        <p:blipFill>
          <a:blip r:embed="rId2"/>
          <a:stretch/>
        </p:blipFill>
        <p:spPr>
          <a:xfrm>
            <a:off x="244440" y="262080"/>
            <a:ext cx="2816280" cy="1292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2"/>
          <p:cNvSpPr txBox="1"/>
          <p:nvPr/>
        </p:nvSpPr>
        <p:spPr>
          <a:xfrm>
            <a:off x="324000" y="260280"/>
            <a:ext cx="25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隶书"/>
              </a:rPr>
              <a:t>整体感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55640" y="1268280"/>
            <a:ext cx="79218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思考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      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围绕着曹、杨二人之间的矛盾冲突，选文讲了七件故事，是哪七件呢？用简洁的语言概括故事情节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中宋"/>
              </a:rPr>
              <a:t>（温馨提示：概括每个故事不超过十个字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539640" y="476280"/>
            <a:ext cx="8136000" cy="49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补充注释</a:t>
            </a:r>
            <a:r>
              <a:rPr b="1" lang="en-US" sz="3600" spc="-1" strike="noStrike">
                <a:solidFill>
                  <a:srgbClr val="66ff33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马超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刘备手下的一员猛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朝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(zhāo)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歌长吴质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朝歌，汉代所置的县分，故地在今河南境内；长，县的行政长官。汉代制度，万户以上的大县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长官为“令”；万户以下的小县，长官称“长”。吴质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曹丕的亲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世子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王侯爵位的继承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答教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为应对尊长的提问而于事前拟好的答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魏延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刘备手下的大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庞德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曹操手下的大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324000" y="260280"/>
            <a:ext cx="25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隶书"/>
              </a:rPr>
              <a:t>整体感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755640" y="1268280"/>
            <a:ext cx="792180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思考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      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围绕着曹、杨二人之间的矛盾冲突，选文讲了七件故事，是哪七件呢？用简洁的语言概括故事情节。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中宋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中宋"/>
              </a:rPr>
              <a:t>（温馨提示：概括每个故事不超过十个字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680-26E6-4A90-94C8-0B50410C23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6:39:51Z</dcterms:created>
  <dc:creator/>
  <dc:description/>
  <cp:keywords>幻灯片之家 http:/www.eeppt.com</cp:keywords>
  <dc:language>en-US</dc:language>
  <cp:lastModifiedBy/>
  <dcterms:modified xsi:type="dcterms:W3CDTF">2015-07-17T15:07:49Z</dcterms:modified>
  <cp:revision>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