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19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684-86B7-4090-ADDA-4A621F2A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822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59560"/>
            <a:ext cx="822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51C-D5B7-4D57-BAF0-05C1B77D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5956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5956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010-AC87-454F-B695-EB0AF4A5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520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520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5956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5956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59560"/>
            <a:ext cx="264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C3B-32C7-4559-AA87-36BD8C91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5200"/>
            <a:ext cx="8229600" cy="33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6BE-CE93-45BE-B315-2850D018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82296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BBB-E119-4738-B07A-988D35E9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251-47D1-4A26-A629-0861F595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7B1-8127-47FD-B130-6AAE293E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4840"/>
            <a:ext cx="822960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CA9-A2C6-4260-A82A-040D7F2D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5956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4D6-1989-4E11-BF11-84645026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5956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928-78D4-4CF3-9AD4-67C7E978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5200"/>
            <a:ext cx="40158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59560"/>
            <a:ext cx="822960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E14-1D17-489C-8F48-DBEC9E1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5200"/>
            <a:ext cx="8229600" cy="33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6236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6236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6236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3672-7427-4134-83A8-223BBCD8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47926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40760"/>
            <a:ext cx="82072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47520"/>
            <a:ext cx="8928000" cy="38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249120"/>
            <a:ext cx="1388880" cy="260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1FB-5E40-4C5B-BA9E-2D2BDCF665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17:1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6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