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69F-AF7E-472C-A2D7-3D606AC2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1E4-3A0E-4C55-902C-DC3CB017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50C-CBD8-4710-A567-C838DD37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CD9-15E0-4D73-86EB-78C0AB3C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26EE-328D-42D6-A6FC-275D00B7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9643-6397-4F8A-B52C-25769419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6E62-F48A-482B-87F8-D5EDB0D6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3E45-16D0-404C-9FE0-FCE86842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28E2-CD60-41E1-B697-B72DE230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6DD-0940-4ABC-9E2A-12C994C5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2E6A-9F95-4B93-B841-11299BCF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38F-51CE-47C1-B54E-189935C0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AAA8-C0D4-45E0-A7A5-DBD21E4F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27FE-1BA7-42B5-8751-31B0BE8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F7D5-E762-4164-A6B8-8C82D05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D4E6-5CD5-4638-B61A-9C68FB62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7530-32F6-492F-B17C-C61457B3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72B-DA07-4B5C-A59D-2F12A82E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FD7-672E-4F5F-B934-83D60E69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D14-D1C8-4EDE-AA3B-E8584554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651-5CE7-4DFC-B745-DD7CBE0E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913-B332-4287-B5FB-4BA7103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28B-3784-4950-8F5A-DB6DB1F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200-80B2-46B4-BD68-C060B18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B8C-CB04-4519-901B-09AF517A3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EE33-DEE2-4A55-A8FB-62D3A79DE6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38240" y="1341000"/>
            <a:ext cx="5267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四年来我走访了四川、云南、湖南、湖北、安徽、江西、山东、贵州、青海省的一些贫困山区，孩子们握着铅笔的一幕幕让我无法忘怀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              ─ 莫  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1311120" y="2313000"/>
            <a:ext cx="6481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一个志愿者的走访记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0"/>
          <p:cNvGrpSpPr/>
          <p:nvPr/>
        </p:nvGrpSpPr>
        <p:grpSpPr>
          <a:xfrm>
            <a:off x="1476360" y="765000"/>
            <a:ext cx="1289160" cy="3517920"/>
            <a:chOff x="1476360" y="765000"/>
            <a:chExt cx="1289160" cy="3517920"/>
          </a:xfrm>
        </p:grpSpPr>
        <p:pic>
          <p:nvPicPr>
            <p:cNvPr id="85" name="Picture 61" descr=""/>
            <p:cNvPicPr/>
            <p:nvPr/>
          </p:nvPicPr>
          <p:blipFill>
            <a:blip r:embed="rId1"/>
            <a:stretch/>
          </p:blipFill>
          <p:spPr>
            <a:xfrm>
              <a:off x="1619280" y="765000"/>
              <a:ext cx="1146240" cy="31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2" descr="070605-1"/>
            <p:cNvPicPr/>
            <p:nvPr/>
          </p:nvPicPr>
          <p:blipFill>
            <a:blip r:embed="rId2"/>
            <a:srcRect l="0" t="0" r="53635" b="0"/>
            <a:stretch/>
          </p:blipFill>
          <p:spPr>
            <a:xfrm>
              <a:off x="1476360" y="3960720"/>
              <a:ext cx="431640" cy="3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9" descr="图片22"/>
          <p:cNvPicPr/>
          <p:nvPr/>
        </p:nvPicPr>
        <p:blipFill>
          <a:blip r:embed="rId3"/>
          <a:srcRect l="0" t="0" r="0" b="13962"/>
          <a:stretch/>
        </p:blipFill>
        <p:spPr>
          <a:xfrm>
            <a:off x="4211640" y="0"/>
            <a:ext cx="4900680" cy="52135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6"/>
          <p:cNvGrpSpPr/>
          <p:nvPr/>
        </p:nvGrpSpPr>
        <p:grpSpPr>
          <a:xfrm>
            <a:off x="0" y="5300640"/>
            <a:ext cx="32537520" cy="1076400"/>
            <a:chOff x="0" y="5300640"/>
            <a:chExt cx="32537520" cy="1076400"/>
          </a:xfrm>
        </p:grpSpPr>
        <p:pic>
          <p:nvPicPr>
            <p:cNvPr id="89" name="Picture 33" descr=""/>
            <p:cNvPicPr/>
            <p:nvPr/>
          </p:nvPicPr>
          <p:blipFill>
            <a:blip r:embed="rId4"/>
            <a:stretch/>
          </p:blipFill>
          <p:spPr>
            <a:xfrm>
              <a:off x="0" y="5300640"/>
              <a:ext cx="1626876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5" descr=""/>
            <p:cNvPicPr/>
            <p:nvPr/>
          </p:nvPicPr>
          <p:blipFill>
            <a:blip r:embed="rId5"/>
            <a:stretch/>
          </p:blipFill>
          <p:spPr>
            <a:xfrm>
              <a:off x="16268760" y="5300640"/>
              <a:ext cx="162687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sound2.mp3" descr=""/>
          <p:cNvPicPr/>
          <p:nvPr/>
        </p:nvPicPr>
        <p:blipFill>
          <a:blip r:embed="rId6"/>
          <a:stretch/>
        </p:blipFill>
        <p:spPr>
          <a:xfrm>
            <a:off x="845964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3630600" y="16668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支铅笔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1.11111E-006 L -1.77917 1.11111E-006 E">
                                      <p:cBhvr>
                                        <p:cTn id="14" dur="2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1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2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2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2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图片23"/>
          <p:cNvPicPr/>
          <p:nvPr/>
        </p:nvPicPr>
        <p:blipFill>
          <a:blip r:embed="rId1"/>
          <a:stretch/>
        </p:blipFill>
        <p:spPr>
          <a:xfrm>
            <a:off x="2316240" y="345960"/>
            <a:ext cx="4511520" cy="616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图片24"/>
          <p:cNvPicPr/>
          <p:nvPr/>
        </p:nvPicPr>
        <p:blipFill>
          <a:blip r:embed="rId2"/>
          <a:stretch/>
        </p:blipFill>
        <p:spPr>
          <a:xfrm>
            <a:off x="2460600" y="907920"/>
            <a:ext cx="4127400" cy="482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图片25"/>
          <p:cNvPicPr/>
          <p:nvPr/>
        </p:nvPicPr>
        <p:blipFill>
          <a:blip r:embed="rId3"/>
          <a:stretch/>
        </p:blipFill>
        <p:spPr>
          <a:xfrm>
            <a:off x="1116000" y="947880"/>
            <a:ext cx="6966000" cy="466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图片26"/>
          <p:cNvPicPr/>
          <p:nvPr/>
        </p:nvPicPr>
        <p:blipFill>
          <a:blip r:embed="rId4"/>
          <a:stretch/>
        </p:blipFill>
        <p:spPr>
          <a:xfrm>
            <a:off x="2556000" y="720720"/>
            <a:ext cx="3973320" cy="508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图片27"/>
          <p:cNvPicPr/>
          <p:nvPr/>
        </p:nvPicPr>
        <p:blipFill>
          <a:blip r:embed="rId5"/>
          <a:stretch/>
        </p:blipFill>
        <p:spPr>
          <a:xfrm>
            <a:off x="1211400" y="957240"/>
            <a:ext cx="6719760" cy="494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图片28"/>
          <p:cNvPicPr/>
          <p:nvPr/>
        </p:nvPicPr>
        <p:blipFill>
          <a:blip r:embed="rId6"/>
          <a:srcRect l="0" t="16442" r="0" b="0"/>
          <a:stretch/>
        </p:blipFill>
        <p:spPr>
          <a:xfrm>
            <a:off x="1611360" y="0"/>
            <a:ext cx="5921280" cy="521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图片29"/>
          <p:cNvPicPr/>
          <p:nvPr/>
        </p:nvPicPr>
        <p:blipFill>
          <a:blip r:embed="rId7"/>
          <a:stretch/>
        </p:blipFill>
        <p:spPr>
          <a:xfrm>
            <a:off x="2744640" y="1123920"/>
            <a:ext cx="3654720" cy="460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图片30"/>
          <p:cNvPicPr/>
          <p:nvPr/>
        </p:nvPicPr>
        <p:blipFill>
          <a:blip r:embed="rId8"/>
          <a:stretch/>
        </p:blipFill>
        <p:spPr>
          <a:xfrm>
            <a:off x="2195640" y="1039680"/>
            <a:ext cx="3941640" cy="477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图片31"/>
          <p:cNvPicPr/>
          <p:nvPr/>
        </p:nvPicPr>
        <p:blipFill>
          <a:blip r:embed="rId9"/>
          <a:stretch/>
        </p:blipFill>
        <p:spPr>
          <a:xfrm>
            <a:off x="2798640" y="1068480"/>
            <a:ext cx="3502080" cy="4016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图片32"/>
          <p:cNvPicPr/>
          <p:nvPr/>
        </p:nvPicPr>
        <p:blipFill>
          <a:blip r:embed="rId10"/>
          <a:stretch/>
        </p:blipFill>
        <p:spPr>
          <a:xfrm>
            <a:off x="2195640" y="1357200"/>
            <a:ext cx="475272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1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2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1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3831840"/>
            <a:ext cx="734544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因为被大山、被那些渴望读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孩子所感动，一名普通的志愿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莫凡在国内发起“ 麦田计划 ”。一个纯民间助学团队，致力于改善中国贫困山区孩子 的教育环境，包括为贫困山区中小学生提供读书资助、兴建校舍、成立图书室等项目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968640" y="1182600"/>
            <a:ext cx="3772080" cy="252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2"/>
          <a:stretch/>
        </p:blipFill>
        <p:spPr>
          <a:xfrm>
            <a:off x="1276200" y="3083040"/>
            <a:ext cx="214344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24360" y="3428640"/>
            <a:ext cx="367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给贫困孩子一个机会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763640" y="2763720"/>
            <a:ext cx="3384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关注山那边的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4:03:31Z</dcterms:created>
  <dc:creator/>
  <dc:description/>
  <cp:keywords>幻灯片之家 http:/www.eeppt.com</cp:keywords>
  <dc:language>en-US</dc:language>
  <cp:lastModifiedBy/>
  <dcterms:modified xsi:type="dcterms:W3CDTF">2015-07-20T05:52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