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5DF-0665-40E6-9C09-BD25E877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8D8-300F-4009-99A9-0401727E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EB8-4F2A-489E-995A-E2FDC5D8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16D-ED8E-4304-B33D-A1F0F358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C97-1797-46ED-9FBD-20A3542D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5E4-62B2-4528-A85F-5F7EF874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BA6-9C50-48FC-AD09-DCFE9EDF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BE1-6664-4481-A496-AE946500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CE1-538A-49EB-BD08-7CFD9580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D61-26C3-447B-9C17-22831E0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48C-D988-4D40-8A5D-8A0D8C4A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5D3-3272-496A-9D52-D5059491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E59B-4E32-45D8-BAB3-550CD4D32BC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2" name="Picture 4" descr="k07-006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91360" y="112536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祖父的园子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祖父的园子──“我”的乐园</a:t>
            </a:r>
            <a:br>
              <a:rPr sz="4000"/>
            </a:b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留心观察生活，用心感受生活，真实表达感受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0" name="Picture 4" descr="k07-0011"/>
          <p:cNvPicPr/>
          <p:nvPr/>
        </p:nvPicPr>
        <p:blipFill>
          <a:blip r:embed="rId2"/>
          <a:stretch/>
        </p:blipFill>
        <p:spPr>
          <a:xfrm>
            <a:off x="32400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1160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0" y="1689120"/>
            <a:ext cx="9144000" cy="440388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>
            <a:off x="3419640" y="2276640"/>
            <a:ext cx="1008000" cy="50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6084720" y="3213000"/>
            <a:ext cx="100836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6300720" y="4221000"/>
            <a:ext cx="100800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971640" y="5084640"/>
            <a:ext cx="100800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78B-5A79-47B0-9CB4-C79385001B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06640" y="64054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6084720" y="4373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981000"/>
            <a:ext cx="1446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萧红（１９１１～１９４２）中国现代著名女作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黑龙江省呼兰县人，原名张乃莹。１９３５年在上海出版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成名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生死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时，开始用萧红作笔名，蜚声文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萧红不到 １０年的创作生涯中，为祖国文学宝库留下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近百万字的作品，深受广大读者的喜爱，具有广泛而深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影响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6" name="Picture 5" descr="k07-007a"/>
          <p:cNvPicPr/>
          <p:nvPr/>
        </p:nvPicPr>
        <p:blipFill>
          <a:blip r:embed="rId2"/>
          <a:stretch/>
        </p:blipFill>
        <p:spPr>
          <a:xfrm>
            <a:off x="5003640" y="3429000"/>
            <a:ext cx="3745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-603720"/>
            <a:ext cx="879156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zh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à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wēng       kě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蚂蚱    蝴蝶   蜻蜓    翁翁    啃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īng     b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à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ng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    pi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á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o    w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ō        dū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樱桃    蚌壳   水瓢    倭瓜    嘟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luo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下雨罗     光芒四射   蚯蚓    蝙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说说本文的主要内容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1" name="Picture 4" descr="k07-005"/>
          <p:cNvPicPr/>
          <p:nvPr/>
        </p:nvPicPr>
        <p:blipFill>
          <a:blip r:embed="rId2"/>
          <a:stretch/>
        </p:blipFill>
        <p:spPr>
          <a:xfrm>
            <a:off x="0" y="3116160"/>
            <a:ext cx="9144000" cy="301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作者回忆了童年时代在祖父的园子里快乐玩耍的哪些情景？</a:t>
            </a:r>
            <a:br>
              <a:rPr sz="4000"/>
            </a:b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" name="Picture 4" descr="k07-009a"/>
          <p:cNvPicPr/>
          <p:nvPr/>
        </p:nvPicPr>
        <p:blipFill>
          <a:blip r:embed="rId2"/>
          <a:stretch/>
        </p:blipFill>
        <p:spPr>
          <a:xfrm>
            <a:off x="3851280" y="1844640"/>
            <a:ext cx="493236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843560" y="1876320"/>
            <a:ext cx="548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用自己喜欢的方式再读课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找出自己喜欢的段落先自己练读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再读给同伴听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想一想，你为什么喜欢自己读的段落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有什么感受和体会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468360" y="388800"/>
            <a:ext cx="30240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阅读提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体会“我”在园子里的心情是怎样的？你是从哪里体会到的？用笔勾出相关句子，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2" name="Picture 4" descr="k07-008a"/>
          <p:cNvPicPr/>
          <p:nvPr/>
        </p:nvPicPr>
        <p:blipFill>
          <a:blip r:embed="rId2"/>
          <a:stretch/>
        </p:blipFill>
        <p:spPr>
          <a:xfrm>
            <a:off x="4859280" y="3213000"/>
            <a:ext cx="4176720" cy="33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我”在祖父的园子里是自由自在、快乐无忧的，“我”的童年生活是多彩有趣的，令人向往的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作者为什么能将她的童年生活写得那样有趣，真实，吸引读者？</a:t>
            </a:r>
            <a:br>
              <a:rPr sz="4000"/>
            </a:b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0:03:01Z</dcterms:created>
  <dc:creator/>
  <dc:description/>
  <cp:keywords>幻灯片之家 http:/www.eeppt.com</cp:keywords>
  <dc:language>en-US</dc:language>
  <cp:lastModifiedBy/>
  <dcterms:modified xsi:type="dcterms:W3CDTF">2015-07-17T15:14:27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