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E656-93AB-4007-BAF9-7B3F81528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E9A7-7CB6-4A46-8607-75357AF2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157C-F0E2-4464-B8DC-885D9BB7E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9EBA-A8D4-4528-AAE6-BAC1D20F5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4E8F-9FD6-456C-99E2-BBE02F18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109F-B005-4CC7-B6CE-CF8729F7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E22D-F6DB-4495-813E-1F1862B0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8441-AA39-40D7-AD1F-50B19F54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48A4-C1DA-4307-B49D-1646ADED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ACBE-97D0-47B1-B298-596BD56B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E14C-A6EF-4DBC-98D1-8F7E0C72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6209-E74C-4313-A616-3FDEC6EE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0D15-1750-4202-A85B-0B27ECE224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:\设计素材\封面（完成）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12600" y="2133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2190960" y="765000"/>
            <a:ext cx="46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自我介绍的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打包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:\设计素材\正文1.jpg"/>
          <p:cNvPicPr/>
          <p:nvPr/>
        </p:nvPicPr>
        <p:blipFill>
          <a:blip r:embed="rId1"/>
          <a:stretch/>
        </p:blipFill>
        <p:spPr>
          <a:xfrm>
            <a:off x="0" y="0"/>
            <a:ext cx="913464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:\设计素材\正文2.jpg"/>
          <p:cNvPicPr/>
          <p:nvPr/>
        </p:nvPicPr>
        <p:blipFill>
          <a:blip r:embed="rId1"/>
          <a:stretch/>
        </p:blipFill>
        <p:spPr>
          <a:xfrm>
            <a:off x="9360" y="0"/>
            <a:ext cx="913464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:\设计素材\正文3.jpg"/>
          <p:cNvPicPr/>
          <p:nvPr/>
        </p:nvPicPr>
        <p:blipFill>
          <a:blip r:embed="rId1"/>
          <a:stretch/>
        </p:blipFill>
        <p:spPr>
          <a:xfrm>
            <a:off x="9360" y="936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11280" y="638172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:\设计素材\正文4.jpg"/>
          <p:cNvPicPr/>
          <p:nvPr/>
        </p:nvPicPr>
        <p:blipFill>
          <a:blip r:embed="rId1"/>
          <a:stretch/>
        </p:blipFill>
        <p:spPr>
          <a:xfrm>
            <a:off x="9360" y="9360"/>
            <a:ext cx="913464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0C5D-B191-4EAA-BF26-B85222F3C6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:\设计素材\正文5.jpg"/>
          <p:cNvPicPr/>
          <p:nvPr/>
        </p:nvPicPr>
        <p:blipFill>
          <a:blip r:embed="rId1"/>
          <a:stretch/>
        </p:blipFill>
        <p:spPr>
          <a:xfrm>
            <a:off x="9360" y="0"/>
            <a:ext cx="913464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9T07:41:5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3:4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NXTAG2">
    <vt:lpwstr>000800ee03000000000001024140</vt:lpwstr>
  </property>
</Properties>
</file>