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747-A270-420F-9CCF-8072CB11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BF8-36D7-4549-96D8-B8F61393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508-D5CF-4C0D-B79F-6E3219C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392-9B48-4F51-87C7-B4AAC6F1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7FD-950D-49F8-9314-63BA42A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2B7-C93E-4952-81B0-4F47B601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57C-A45E-46F4-A726-8D033AE1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6F6-BE82-461B-A505-83E47270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6FB-5C88-42EF-BFDC-00F4DEB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726-B963-4CE1-A870-535B299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9BC-BCD3-4038-AFAF-3BEA77F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BE5-4A98-4D15-BBD6-2B9DECB9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000-CDC1-4591-84A6-5FEFEDA01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260,6,&#24187;&#28783;&#29255; 6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871640" y="2421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7"/>
          <a:stretch/>
        </p:blipFill>
        <p:spPr>
          <a:xfrm>
            <a:off x="1619280" y="1989000"/>
            <a:ext cx="5616720" cy="378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61200" y="105264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珍珠鸟》说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珍珠鸟"/>
          <p:cNvPicPr/>
          <p:nvPr/>
        </p:nvPicPr>
        <p:blipFill>
          <a:blip r:embed="rId2"/>
          <a:srcRect l="0" t="0" r="0" b="16829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《珍珠鸟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60720" y="609480"/>
            <a:ext cx="1010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  <a:hlinkClick r:id="rId3"/>
              </a:rPr>
              <a:t>冯骥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5800" y="244944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珍珠鸟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照料与呵护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生了哪些变化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写这篇文章想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我们什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你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赖，往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出美好的境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句话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382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阅读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《珍珠鸟》课文朗读.MP3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362320" y="4572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读读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981080"/>
            <a:ext cx="8001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巢穴   藤蔓   覆盖   幽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笛儿   瞅瞅   猜到   雏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掀开   添食   柜顶   画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嚓嚓   享受   涂蜡   嗒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2DF-CACD-4AE7-A917-C56646F9D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58" name="Picture 4" descr="金山珍珠"/>
          <p:cNvPicPr/>
          <p:nvPr/>
        </p:nvPicPr>
        <p:blipFill>
          <a:blip r:embed="rId4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51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蓝模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冯骥才"/>
          <p:cNvPicPr/>
          <p:nvPr/>
        </p:nvPicPr>
        <p:blipFill>
          <a:blip r:embed="rId3"/>
          <a:stretch/>
        </p:blipFill>
        <p:spPr>
          <a:xfrm>
            <a:off x="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3341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当代作家。以写知识分子生活和天津近代历史故事见长。注意选取新颖的视角，用多变的艺术手法，细致深入的描写，开掘生活的底蕴，咀嚼人生的况味。部分作品已被译成英、法、德、日、俄等文字在国外出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5880" y="304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冯骥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/>
  <dc:description/>
  <cp:keywords>幻灯片之家 http:/www.eeppt.com</cp:keywords>
  <dc:language>en-US</dc:language>
  <cp:lastModifiedBy/>
  <dcterms:modified xsi:type="dcterms:W3CDTF">2015-07-17T14:52:5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