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7912E-B433-44DC-93DE-57550465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EBFC-FC5E-40CB-B4B4-5A607A4E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CD33-82F9-4440-BEA8-373EB618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EEE1-718F-4E11-8CB2-E62C2660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3873-06E8-4ABC-8A96-46886293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8463-19F5-4C74-93B0-1421A52C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3458-5DA5-4602-BA3D-2ED44FB3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83B4-B3E4-4C4E-A20C-B693FD3A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3A98-97DA-4B3F-A0B7-A063C6EF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C049-2DE0-4CE3-8FEE-F8F3CA0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E5FE-CD95-455B-BCDC-733CD439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1E876-F2F6-44BC-B99A-0B99107A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DC3B-C3B7-4623-B08A-96B5D06E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1E22-E891-45FC-A1E4-CCF74722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7ED2-D907-4A3A-A2E4-EA7C9073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F895-141B-413F-A218-CC0C0B4F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0888-1DE0-49E1-91DC-AE4F3A9B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34DA-1F39-4C92-B5CE-D5C87372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9AE0-C944-4393-9AE6-FD134AAB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AAF5-1DF8-4495-AA84-4D518467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B6E6-8FD8-47F9-B6C9-D85BFF77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6D9B-2CB4-492D-AD87-D130A623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05C9-1D76-40D6-8F91-ED8213FC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F0BF-5A84-4F69-92C6-1B6E7E84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E14F-7C50-4114-ACF0-02153DF90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44A5-DF64-4CD0-87D0-AA9B7504A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shiti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2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980640"/>
            <a:ext cx="770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02960" y="1052640"/>
            <a:ext cx="14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《北大荒的秋天》公开课课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6948360" y="378936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1" descr=""/>
          <p:cNvPicPr/>
          <p:nvPr/>
        </p:nvPicPr>
        <p:blipFill>
          <a:blip r:embed="rId19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554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昔日的北大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如今的北大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31640" y="549000"/>
            <a:ext cx="828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荒    灰     抖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纹　　豆     燃    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铃　　岭　　 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96472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银灰　抖动　波纹    大豆　　燃烧　摇铃　山岭　茫茫       照映    顿时   脸庞    赞美   挺拔    北大荒    一碧如洗       热闹非凡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4FF4-6109-4BAB-8C0A-18F6C3082D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5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979640" y="2349360"/>
            <a:ext cx="100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转  锦  缎  镜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顿  哗  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581360"/>
            <a:ext cx="611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天空一碧如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河清澈见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原野热闹非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遍地都是黄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图片1"/>
          <p:cNvPicPr/>
          <p:nvPr/>
        </p:nvPicPr>
        <p:blipFill>
          <a:blip r:embed="rId2"/>
          <a:stretch/>
        </p:blipFill>
        <p:spPr>
          <a:xfrm>
            <a:off x="6948360" y="5289480"/>
            <a:ext cx="719280" cy="668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图片1"/>
          <p:cNvPicPr/>
          <p:nvPr/>
        </p:nvPicPr>
        <p:blipFill>
          <a:blip r:embed="rId3"/>
          <a:stretch/>
        </p:blipFill>
        <p:spPr>
          <a:xfrm>
            <a:off x="8028000" y="52452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66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4:41:15Z</dcterms:created>
  <dc:creator/>
  <dc:description/>
  <cp:keywords>幻灯片之家 http:/www.eeppt.com</cp:keywords>
  <dc:language>en-US</dc:language>
  <cp:lastModifiedBy/>
  <dcterms:modified xsi:type="dcterms:W3CDTF">2015-07-11T02:43:33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