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954B-E825-4049-9BDC-9F432704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4A34-0678-4DA4-BA49-0B990E05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A275-F5B6-48AA-9409-56C16C04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5816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4508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5816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4508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8B87-B7EB-4CDF-87D9-025A8390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958D2-BC11-4043-9CB8-0140BAD6C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CACF0-A5E7-42F6-BBA8-711383E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B5C05-29DE-4420-9659-DF71DA16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FF76A-111C-41CE-AE66-9607D7FB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DCFE6-7B26-4A65-9F50-05487908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43589-44E9-4A67-9DEF-B3C24D80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CF47-2B55-42CC-A119-03E4D03A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1C7C-9C7F-4AC2-BE75-E3A1061C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7A5B7-A98A-405B-B695-0EB96895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0E072-9DE2-424B-8909-7242F8B6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74DD-C32D-45A1-BC3D-D7B49C76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8B230-4972-4886-859F-AC31A25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5816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5080" y="495288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24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5816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5080" y="5182560"/>
            <a:ext cx="1987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AA6C3-9F7D-4BCD-BC73-4E1946D18E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CB95-9AB8-4E67-9650-5BB84668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62AF-24E8-44AE-92F0-AECE780A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4CD6-3AAA-4B62-A766-429B5DD8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F708-778D-4618-AFC5-8940581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2275-B324-40B9-ABC6-C74E366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33840" y="518256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BA94-5087-47D9-B9AE-21B4FC07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3840" y="4952880"/>
            <a:ext cx="301176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5182560"/>
            <a:ext cx="61722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61FE-C529-41F4-BE2B-0BE42D2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23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620120" y="646092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324480" y="64609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1FA4-B9CE-4CB4-A743-273C77BDD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8080"/>
            <a:ext cx="91440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c5c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09120" y="6476760"/>
            <a:ext cx="3581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>
            <a:off x="-58680" y="4719600"/>
            <a:ext cx="9232920" cy="2094120"/>
          </a:xfrm>
          <a:custGeom>
            <a:avLst/>
            <a:gdLst/>
            <a:ahLst/>
            <a:rect l="l" t="t" r="r" b="b"/>
            <a:pathLst>
              <a:path w="5817" h="1319">
                <a:moveTo>
                  <a:pt x="0" y="0"/>
                </a:moveTo>
                <a:lnTo>
                  <a:pt x="5806" y="549"/>
                </a:lnTo>
                <a:lnTo>
                  <a:pt x="5817" y="1319"/>
                </a:lnTo>
                <a:lnTo>
                  <a:pt x="38" y="16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4495680"/>
            <a:ext cx="9174240" cy="2403720"/>
          </a:xfrm>
          <a:custGeom>
            <a:avLst/>
            <a:gdLst/>
            <a:ahLst/>
            <a:rect l="l" t="t" r="r" b="b"/>
            <a:pathLst>
              <a:path w="5779" h="1514">
                <a:moveTo>
                  <a:pt x="3" y="1514"/>
                </a:moveTo>
                <a:lnTo>
                  <a:pt x="5779" y="1504"/>
                </a:lnTo>
                <a:lnTo>
                  <a:pt x="5773" y="0"/>
                </a:lnTo>
                <a:lnTo>
                  <a:pt x="0" y="1319"/>
                </a:lnTo>
                <a:lnTo>
                  <a:pt x="3" y="1514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-19080" y="4791240"/>
            <a:ext cx="9204480" cy="2022480"/>
          </a:xfrm>
          <a:custGeom>
            <a:avLst/>
            <a:gdLst/>
            <a:ahLst/>
            <a:rect l="l" t="t" r="r" b="b"/>
            <a:pathLst>
              <a:path w="5799" h="1274">
                <a:moveTo>
                  <a:pt x="27" y="1274"/>
                </a:moveTo>
                <a:lnTo>
                  <a:pt x="5799" y="789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未知"/>
          <p:cNvSpPr/>
          <p:nvPr/>
        </p:nvSpPr>
        <p:spPr>
          <a:xfrm>
            <a:off x="-20520" y="-19080"/>
            <a:ext cx="9172440" cy="3905280"/>
          </a:xfrm>
          <a:custGeom>
            <a:avLst/>
            <a:gdLst/>
            <a:ahLst/>
            <a:rect l="l" t="t" r="r" b="b"/>
            <a:pathLst>
              <a:path w="5771" h="2466">
                <a:moveTo>
                  <a:pt x="8" y="13"/>
                </a:moveTo>
                <a:lnTo>
                  <a:pt x="5766" y="0"/>
                </a:lnTo>
                <a:lnTo>
                  <a:pt x="5771" y="1890"/>
                </a:lnTo>
                <a:lnTo>
                  <a:pt x="0" y="2466"/>
                </a:lnTo>
                <a:lnTo>
                  <a:pt x="8" y="13"/>
                </a:lnTo>
                <a:close/>
              </a:path>
            </a:pathLst>
          </a:custGeom>
          <a:gradFill rotWithShape="0">
            <a:gsLst>
              <a:gs pos="0">
                <a:srgbClr val="244f94"/>
              </a:gs>
              <a:gs pos="100000">
                <a:srgbClr val="1024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1523880"/>
            <a:ext cx="9153360" cy="2132280"/>
          </a:xfrm>
          <a:custGeom>
            <a:avLst/>
            <a:gdLst/>
            <a:ahLst/>
            <a:rect l="l" t="t" r="r" b="b"/>
            <a:pathLst>
              <a:path w="5771" h="1456">
                <a:moveTo>
                  <a:pt x="0" y="0"/>
                </a:moveTo>
                <a:lnTo>
                  <a:pt x="5760" y="789"/>
                </a:lnTo>
                <a:lnTo>
                  <a:pt x="5771" y="1456"/>
                </a:lnTo>
                <a:lnTo>
                  <a:pt x="0" y="45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5638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09480" y="64004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62904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A4CE-C332-465E-ADCC-64D6D80B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未知"/>
          <p:cNvSpPr/>
          <p:nvPr/>
        </p:nvSpPr>
        <p:spPr>
          <a:xfrm>
            <a:off x="-19080" y="1981080"/>
            <a:ext cx="9183600" cy="1400400"/>
          </a:xfrm>
          <a:custGeom>
            <a:avLst/>
            <a:gdLst/>
            <a:ahLst/>
            <a:rect l="l" t="t" r="r" b="b"/>
            <a:pathLst>
              <a:path w="5786" h="1179">
                <a:moveTo>
                  <a:pt x="16" y="1179"/>
                </a:moveTo>
                <a:lnTo>
                  <a:pt x="5786" y="1139"/>
                </a:lnTo>
                <a:lnTo>
                  <a:pt x="5773" y="0"/>
                </a:lnTo>
                <a:lnTo>
                  <a:pt x="0" y="926"/>
                </a:lnTo>
                <a:lnTo>
                  <a:pt x="16" y="1179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未知"/>
          <p:cNvSpPr/>
          <p:nvPr/>
        </p:nvSpPr>
        <p:spPr>
          <a:xfrm>
            <a:off x="0" y="2133720"/>
            <a:ext cx="9164520" cy="1752480"/>
          </a:xfrm>
          <a:custGeom>
            <a:avLst/>
            <a:gdLst/>
            <a:ahLst/>
            <a:rect l="l" t="t" r="r" b="b"/>
            <a:pathLst>
              <a:path w="5773" h="1096">
                <a:moveTo>
                  <a:pt x="4" y="1096"/>
                </a:moveTo>
                <a:lnTo>
                  <a:pt x="5773" y="771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09120" y="22096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f9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f94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44f94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244f94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244f94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049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表格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0720" y="1828800"/>
            <a:ext cx="4038120" cy="4114080"/>
            <a:chOff x="990720" y="1828800"/>
            <a:chExt cx="4038120" cy="4114080"/>
          </a:xfrm>
        </p:grpSpPr>
        <p:grpSp>
          <p:nvGrpSpPr>
            <p:cNvPr id="271" name=""/>
            <p:cNvGrpSpPr/>
            <p:nvPr/>
          </p:nvGrpSpPr>
          <p:grpSpPr>
            <a:xfrm>
              <a:off x="2187720" y="1828800"/>
              <a:ext cx="1643760" cy="1369800"/>
              <a:chOff x="2187720" y="1828800"/>
              <a:chExt cx="1643760" cy="136980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2187720" y="1828800"/>
                <a:ext cx="1643760" cy="1369800"/>
                <a:chOff x="2187720" y="1828800"/>
                <a:chExt cx="1643760" cy="1369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201400" y="185184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187720" y="182880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83120" y="190980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2680560" y="2211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990720" y="2511720"/>
              <a:ext cx="1645200" cy="1369800"/>
              <a:chOff x="990720" y="2511720"/>
              <a:chExt cx="1645200" cy="1369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990720" y="2511720"/>
                <a:ext cx="1645200" cy="1369800"/>
                <a:chOff x="990720" y="2511720"/>
                <a:chExt cx="1645200" cy="1369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00440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9072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08612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493280" y="288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720" y="3198960"/>
              <a:ext cx="1643760" cy="1369800"/>
              <a:chOff x="2187720" y="3198960"/>
              <a:chExt cx="1643760" cy="13698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2187720" y="3198960"/>
                <a:ext cx="1643760" cy="1369800"/>
                <a:chOff x="2187720" y="3198960"/>
                <a:chExt cx="1643760" cy="1369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201400" y="322200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87720" y="319896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283120" y="327996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2654640" y="3590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383640" y="2511720"/>
              <a:ext cx="1645200" cy="1369800"/>
              <a:chOff x="3383640" y="2511720"/>
              <a:chExt cx="1645200" cy="13698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383640" y="2511720"/>
                <a:ext cx="1645200" cy="1369800"/>
                <a:chOff x="3383640" y="2511720"/>
                <a:chExt cx="1645200" cy="1369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39732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38364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47904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3886200" y="290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383640" y="3886200"/>
              <a:ext cx="1645200" cy="1369800"/>
              <a:chOff x="3383640" y="3886200"/>
              <a:chExt cx="1645200" cy="13698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383640" y="3886200"/>
                <a:ext cx="1645200" cy="1369800"/>
                <a:chOff x="3383640" y="3886200"/>
                <a:chExt cx="1645200" cy="1369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39732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38364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7904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911040" y="432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990720" y="3886200"/>
              <a:ext cx="1645200" cy="1369800"/>
              <a:chOff x="990720" y="3886200"/>
              <a:chExt cx="1645200" cy="1369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990720" y="3886200"/>
                <a:ext cx="1645200" cy="1369800"/>
                <a:chOff x="990720" y="3886200"/>
                <a:chExt cx="1645200" cy="13698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00440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99072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8612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1493280" y="4258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187720" y="4573080"/>
              <a:ext cx="1643760" cy="1369800"/>
              <a:chOff x="2187720" y="4573080"/>
              <a:chExt cx="1643760" cy="13698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2187720" y="4573080"/>
                <a:ext cx="1643760" cy="1369800"/>
                <a:chOff x="2187720" y="4573080"/>
                <a:chExt cx="1643760" cy="13698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201400" y="459612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187720" y="457308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3120" y="465408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2687760" y="49644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未知"/>
          <p:cNvSpPr/>
          <p:nvPr/>
        </p:nvSpPr>
        <p:spPr>
          <a:xfrm flipH="1" flipV="1">
            <a:off x="5410080" y="2894760"/>
            <a:ext cx="2438640" cy="2590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accaf1"/>
              </a:gs>
            </a:gsLst>
            <a:lin ang="10800000"/>
          </a:gradFill>
          <a:ln w="0">
            <a:noFill/>
          </a:ln>
          <a:effectLst>
            <a:outerShdw dist="136842" dir="67064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5ab14b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44a9d6"/>
          </a:solidFill>
          <a:ln w="50760">
            <a:solidFill>
              <a:srgbClr val="ffffff"/>
            </a:solidFill>
            <a:miter/>
          </a:ln>
          <a:effectLst>
            <a:outerShdw dist="107932" dir="81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319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066680" y="304812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304812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324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7973000">
            <a:off x="4768200" y="26866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3465600">
            <a:off x="4767840" y="4850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4368800">
            <a:off x="3548520" y="2762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7534800">
            <a:off x="3510000" y="48168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46720" y="3814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93652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09ede"/>
              </a:gs>
              <a:gs pos="100000">
                <a:srgbClr val="9c8cc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82720" y="2046240"/>
            <a:ext cx="374364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429000" y="2870280"/>
            <a:ext cx="2160720" cy="2160360"/>
            <a:chOff x="3429000" y="2870280"/>
            <a:chExt cx="2160720" cy="2160360"/>
          </a:xfrm>
        </p:grpSpPr>
        <p:sp>
          <p:nvSpPr>
            <p:cNvPr id="335" name=""/>
            <p:cNvSpPr/>
            <p:nvPr/>
          </p:nvSpPr>
          <p:spPr>
            <a:xfrm>
              <a:off x="3429000" y="287028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2d2e8"/>
                </a:gs>
                <a:gs pos="50000">
                  <a:srgbClr val="0099cc"/>
                </a:gs>
                <a:gs pos="100000">
                  <a:srgbClr val="92d2e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70120" y="30110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526d"/>
                </a:gs>
                <a:gs pos="50000">
                  <a:srgbClr val="0099cc"/>
                </a:gs>
                <a:gs pos="100000">
                  <a:srgbClr val="0052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71920" y="301428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2000" y="3105000"/>
              <a:ext cx="169056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701880" y="3124080"/>
              <a:ext cx="1636920" cy="1636200"/>
              <a:chOff x="3701880" y="3124080"/>
              <a:chExt cx="1636920" cy="1636200"/>
            </a:xfrm>
          </p:grpSpPr>
          <p:sp>
            <p:nvSpPr>
              <p:cNvPr id="340" name=""/>
              <p:cNvSpPr/>
              <p:nvPr/>
            </p:nvSpPr>
            <p:spPr>
              <a:xfrm>
                <a:off x="3701880" y="3124080"/>
                <a:ext cx="1636920" cy="1636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2760" y="3133080"/>
                <a:ext cx="1597320" cy="159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9680" y="3148920"/>
                <a:ext cx="1519200" cy="149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28600" y="3190680"/>
                <a:ext cx="1350360" cy="120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140000" y="3728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37339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21337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d62"/>
              </a:gs>
              <a:gs pos="100000">
                <a:srgbClr val="44a9d6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37339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21337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518148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1741320"/>
            <a:ext cx="9144000" cy="4366080"/>
            <a:chOff x="0" y="1741320"/>
            <a:chExt cx="9144000" cy="4366080"/>
          </a:xfrm>
        </p:grpSpPr>
        <p:sp>
          <p:nvSpPr>
            <p:cNvPr id="353" name="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96720" y="2433600"/>
              <a:ext cx="2182680" cy="3600720"/>
              <a:chOff x="396720" y="2433600"/>
              <a:chExt cx="2182680" cy="36007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871200" y="3349800"/>
                <a:ext cx="1708200" cy="2684520"/>
                <a:chOff x="871200" y="3349800"/>
                <a:chExt cx="1708200" cy="268452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871200" y="3529080"/>
                  <a:ext cx="1580760" cy="2505240"/>
                  <a:chOff x="871200" y="3529080"/>
                  <a:chExt cx="1580760" cy="2505240"/>
                </a:xfrm>
              </p:grpSpPr>
              <p:sp>
                <p:nvSpPr>
                  <p:cNvPr id="358" name="未知"/>
                  <p:cNvSpPr/>
                  <p:nvPr/>
                </p:nvSpPr>
                <p:spPr>
                  <a:xfrm rot="3876600">
                    <a:off x="407520" y="4501800"/>
                    <a:ext cx="250776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未知"/>
                  <p:cNvSpPr/>
                  <p:nvPr/>
                </p:nvSpPr>
                <p:spPr>
                  <a:xfrm rot="3876600">
                    <a:off x="1914480" y="547236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1366560" y="3349800"/>
                  <a:ext cx="1212840" cy="1922400"/>
                  <a:chOff x="1366560" y="3349800"/>
                  <a:chExt cx="1212840" cy="1922400"/>
                </a:xfrm>
              </p:grpSpPr>
              <p:sp>
                <p:nvSpPr>
                  <p:cNvPr id="361" name="未知"/>
                  <p:cNvSpPr/>
                  <p:nvPr/>
                </p:nvSpPr>
                <p:spPr>
                  <a:xfrm flipV="1" rot="3876600">
                    <a:off x="1010520" y="4096440"/>
                    <a:ext cx="19242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未知"/>
                  <p:cNvSpPr/>
                  <p:nvPr/>
                </p:nvSpPr>
                <p:spPr>
                  <a:xfrm flipV="1" rot="3876600">
                    <a:off x="2149560" y="484848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396720" y="2433600"/>
                <a:ext cx="1444320" cy="1441800"/>
                <a:chOff x="396720" y="2433600"/>
                <a:chExt cx="1444320" cy="1441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9672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672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92120" y="252720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2120" y="253044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54400" y="2590920"/>
                  <a:ext cx="11289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571680" y="2608200"/>
                  <a:ext cx="1094040" cy="1093680"/>
                  <a:chOff x="571680" y="2608200"/>
                  <a:chExt cx="1094040" cy="109368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571680" y="2608200"/>
                    <a:ext cx="1094040" cy="10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85720" y="2614320"/>
                    <a:ext cx="1067760" cy="106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96880" y="2624760"/>
                    <a:ext cx="1015200" cy="99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56280" y="2652480"/>
                    <a:ext cx="902520" cy="80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4" name=""/>
              <p:cNvSpPr/>
              <p:nvPr/>
            </p:nvSpPr>
            <p:spPr>
              <a:xfrm rot="3925800">
                <a:off x="900360" y="438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3925800">
                <a:off x="1400400" y="4085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379600" y="2433600"/>
              <a:ext cx="2182680" cy="3600720"/>
              <a:chOff x="2379600" y="2433600"/>
              <a:chExt cx="2182680" cy="360072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854080" y="3349800"/>
                <a:ext cx="1708200" cy="2684520"/>
                <a:chOff x="2854080" y="3349800"/>
                <a:chExt cx="1708200" cy="268452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854080" y="3529080"/>
                  <a:ext cx="1580760" cy="2505240"/>
                  <a:chOff x="2854080" y="3529080"/>
                  <a:chExt cx="1580760" cy="2505240"/>
                </a:xfrm>
              </p:grpSpPr>
              <p:sp>
                <p:nvSpPr>
                  <p:cNvPr id="379" name="未知"/>
                  <p:cNvSpPr/>
                  <p:nvPr/>
                </p:nvSpPr>
                <p:spPr>
                  <a:xfrm rot="3876600">
                    <a:off x="2390400" y="4501800"/>
                    <a:ext cx="250776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未知"/>
                  <p:cNvSpPr/>
                  <p:nvPr/>
                </p:nvSpPr>
                <p:spPr>
                  <a:xfrm rot="3876600">
                    <a:off x="3897360" y="547236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3349440" y="3349800"/>
                  <a:ext cx="1212840" cy="1922400"/>
                  <a:chOff x="3349440" y="3349800"/>
                  <a:chExt cx="1212840" cy="1922400"/>
                </a:xfrm>
              </p:grpSpPr>
              <p:sp>
                <p:nvSpPr>
                  <p:cNvPr id="382" name="未知"/>
                  <p:cNvSpPr/>
                  <p:nvPr/>
                </p:nvSpPr>
                <p:spPr>
                  <a:xfrm flipV="1" rot="3876600">
                    <a:off x="2993400" y="4096440"/>
                    <a:ext cx="19242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未知"/>
                  <p:cNvSpPr/>
                  <p:nvPr/>
                </p:nvSpPr>
                <p:spPr>
                  <a:xfrm flipV="1" rot="3876600">
                    <a:off x="4132440" y="484848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"/>
              <p:cNvGrpSpPr/>
              <p:nvPr/>
            </p:nvGrpSpPr>
            <p:grpSpPr>
              <a:xfrm>
                <a:off x="2379600" y="2433600"/>
                <a:ext cx="1444320" cy="1441800"/>
                <a:chOff x="2379600" y="2433600"/>
                <a:chExt cx="1444320" cy="1441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37960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79600" y="2433600"/>
                  <a:ext cx="144432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75000" y="252720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75000" y="2530440"/>
                  <a:ext cx="125316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537280" y="2590920"/>
                  <a:ext cx="112896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2554560" y="2608200"/>
                  <a:ext cx="1094040" cy="1093680"/>
                  <a:chOff x="2554560" y="2608200"/>
                  <a:chExt cx="1094040" cy="10936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2554560" y="2608200"/>
                    <a:ext cx="1094040" cy="10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568600" y="2614320"/>
                    <a:ext cx="1067760" cy="106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579760" y="2624760"/>
                    <a:ext cx="1015200" cy="99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639160" y="2652480"/>
                    <a:ext cx="902520" cy="80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 rot="3925800">
                <a:off x="2877480" y="438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925800">
                <a:off x="3377160" y="4085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427640" y="2433600"/>
              <a:ext cx="2182680" cy="3600720"/>
              <a:chOff x="4427640" y="2433600"/>
              <a:chExt cx="2182680" cy="360072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4902480" y="3349800"/>
                <a:ext cx="1707840" cy="2684520"/>
                <a:chOff x="4902480" y="3349800"/>
                <a:chExt cx="1707840" cy="268452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4902480" y="3529080"/>
                  <a:ext cx="1580760" cy="2505240"/>
                  <a:chOff x="4902480" y="3529080"/>
                  <a:chExt cx="1580760" cy="2505240"/>
                </a:xfrm>
              </p:grpSpPr>
              <p:sp>
                <p:nvSpPr>
                  <p:cNvPr id="400" name="未知"/>
                  <p:cNvSpPr/>
                  <p:nvPr/>
                </p:nvSpPr>
                <p:spPr>
                  <a:xfrm rot="3876600">
                    <a:off x="4438800" y="4501800"/>
                    <a:ext cx="250776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未知"/>
                  <p:cNvSpPr/>
                  <p:nvPr/>
                </p:nvSpPr>
                <p:spPr>
                  <a:xfrm rot="3876600">
                    <a:off x="5945760" y="547200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397480" y="3349800"/>
                  <a:ext cx="1212840" cy="1922400"/>
                  <a:chOff x="5397480" y="3349800"/>
                  <a:chExt cx="1212840" cy="1922400"/>
                </a:xfrm>
              </p:grpSpPr>
              <p:sp>
                <p:nvSpPr>
                  <p:cNvPr id="403" name="未知"/>
                  <p:cNvSpPr/>
                  <p:nvPr/>
                </p:nvSpPr>
                <p:spPr>
                  <a:xfrm flipV="1" rot="3876600">
                    <a:off x="5041440" y="4096440"/>
                    <a:ext cx="192420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未知"/>
                  <p:cNvSpPr/>
                  <p:nvPr/>
                </p:nvSpPr>
                <p:spPr>
                  <a:xfrm flipV="1" rot="3876600">
                    <a:off x="6180480" y="484848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4427640" y="2433600"/>
                <a:ext cx="1443960" cy="1441800"/>
                <a:chOff x="4427640" y="2433600"/>
                <a:chExt cx="1443960" cy="14418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4427640" y="2433600"/>
                  <a:ext cx="144396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27640" y="2433600"/>
                  <a:ext cx="1443960" cy="144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23040" y="2527200"/>
                  <a:ext cx="125280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23040" y="2530440"/>
                  <a:ext cx="1252800" cy="125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85320" y="2590920"/>
                  <a:ext cx="1128600" cy="1126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4602600" y="2608200"/>
                  <a:ext cx="1094040" cy="1093680"/>
                  <a:chOff x="4602600" y="2608200"/>
                  <a:chExt cx="1094040" cy="10936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2600" y="2608200"/>
                    <a:ext cx="1094040" cy="109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16640" y="2614320"/>
                    <a:ext cx="1067760" cy="1066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627800" y="2624760"/>
                    <a:ext cx="1015200" cy="996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687200" y="2652480"/>
                    <a:ext cx="902520" cy="80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4934160" y="438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5434200" y="4085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442200" y="2274840"/>
              <a:ext cx="2400480" cy="3832560"/>
              <a:chOff x="6442200" y="2274840"/>
              <a:chExt cx="2400480" cy="38325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7134480" y="3423240"/>
                <a:ext cx="1708200" cy="2684160"/>
                <a:chOff x="7134480" y="3423240"/>
                <a:chExt cx="1708200" cy="268416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7134480" y="3602520"/>
                  <a:ext cx="1580040" cy="2504880"/>
                  <a:chOff x="7134480" y="3602520"/>
                  <a:chExt cx="1580040" cy="2504880"/>
                </a:xfrm>
              </p:grpSpPr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6670800" y="4575240"/>
                    <a:ext cx="250740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未知"/>
                  <p:cNvSpPr/>
                  <p:nvPr/>
                </p:nvSpPr>
                <p:spPr>
                  <a:xfrm rot="3876600">
                    <a:off x="8177760" y="554544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630200" y="3423240"/>
                  <a:ext cx="1212480" cy="1922040"/>
                  <a:chOff x="7630200" y="3423240"/>
                  <a:chExt cx="1212480" cy="1922040"/>
                </a:xfrm>
              </p:grpSpPr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7274160" y="4169520"/>
                    <a:ext cx="192420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未知"/>
                  <p:cNvSpPr/>
                  <p:nvPr/>
                </p:nvSpPr>
                <p:spPr>
                  <a:xfrm flipV="1" rot="3876600">
                    <a:off x="8412840" y="4922280"/>
                    <a:ext cx="30240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"/>
              <p:cNvSpPr/>
              <p:nvPr/>
            </p:nvSpPr>
            <p:spPr>
              <a:xfrm>
                <a:off x="6442200" y="2274840"/>
                <a:ext cx="1735200" cy="172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42200" y="2274840"/>
                <a:ext cx="1735200" cy="17298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58120" y="2387520"/>
                <a:ext cx="1505880" cy="15022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59560" y="2390760"/>
                <a:ext cx="1505880" cy="15022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33000" y="2463840"/>
                <a:ext cx="1356120" cy="135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6653520" y="2484360"/>
                <a:ext cx="1315080" cy="1311480"/>
                <a:chOff x="6653520" y="2484360"/>
                <a:chExt cx="1315080" cy="13114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653520" y="2484360"/>
                  <a:ext cx="1315080" cy="13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670080" y="2491560"/>
                  <a:ext cx="1283400" cy="127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683760" y="2504160"/>
                  <a:ext cx="1220400" cy="119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755400" y="2537640"/>
                  <a:ext cx="108504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 rot="3925800">
                <a:off x="7149600" y="4540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925800">
                <a:off x="7649280" y="42447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42" name=""/>
            <p:cNvCxnSpPr>
              <a:stCxn id="438" idx="3"/>
              <a:endCxn id="439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9" idx="3"/>
              <a:endCxn id="440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0" idx="3"/>
              <a:endCxn id="441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45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80880" y="2438280"/>
            <a:ext cx="6324480" cy="3200040"/>
            <a:chOff x="380880" y="2438280"/>
            <a:chExt cx="6324480" cy="3200040"/>
          </a:xfrm>
        </p:grpSpPr>
        <p:grpSp>
          <p:nvGrpSpPr>
            <p:cNvPr id="448" name=""/>
            <p:cNvGrpSpPr/>
            <p:nvPr/>
          </p:nvGrpSpPr>
          <p:grpSpPr>
            <a:xfrm>
              <a:off x="380880" y="2438280"/>
              <a:ext cx="6324480" cy="3200040"/>
              <a:chOff x="380880" y="2438280"/>
              <a:chExt cx="6324480" cy="3200040"/>
            </a:xfrm>
          </p:grpSpPr>
          <p:sp>
            <p:nvSpPr>
              <p:cNvPr id="449" name=""/>
              <p:cNvSpPr/>
              <p:nvPr/>
            </p:nvSpPr>
            <p:spPr>
              <a:xfrm>
                <a:off x="4341600" y="3156480"/>
                <a:ext cx="2363760" cy="248184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a1e7"/>
                  </a:gs>
                  <a:gs pos="100000">
                    <a:srgbClr val="2f7adf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61240" y="31564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c2e1"/>
                  </a:gs>
                  <a:gs pos="100000">
                    <a:srgbClr val="44a9d6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880" y="3156480"/>
                <a:ext cx="2491560" cy="2481840"/>
              </a:xfrm>
              <a:custGeom>
                <a:avLst/>
                <a:gdLst>
                  <a:gd name="textAreaLeft" fmla="*/ 0 w 2491560"/>
                  <a:gd name="textAreaRight" fmla="*/ 2491920 w 249156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c780"/>
                  </a:gs>
                  <a:gs pos="100000">
                    <a:srgbClr val="5ab14b"/>
                  </a:gs>
                </a:gsLst>
                <a:lin ang="1080000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240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bc780"/>
                  </a:gs>
                  <a:gs pos="100000">
                    <a:srgbClr val="5ab14b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1712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bc2e1"/>
                  </a:gs>
                  <a:gs pos="100000">
                    <a:srgbClr val="44a9d6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69760" y="2438280"/>
                <a:ext cx="172476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da1e7"/>
                  </a:gs>
                  <a:gs pos="100000">
                    <a:srgbClr val="2f7adf"/>
                  </a:gs>
                </a:gsLst>
                <a:lin ang="108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914760" y="37760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10600" y="37893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5040" y="37893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934320" y="198108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391520" y="5029200"/>
            <a:ext cx="826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1481400" y="1788120"/>
            <a:ext cx="5938200" cy="4001040"/>
            <a:chOff x="1481400" y="1788120"/>
            <a:chExt cx="5938200" cy="4001040"/>
          </a:xfrm>
        </p:grpSpPr>
        <p:sp>
          <p:nvSpPr>
            <p:cNvPr id="461" name=""/>
            <p:cNvSpPr/>
            <p:nvPr/>
          </p:nvSpPr>
          <p:spPr>
            <a:xfrm>
              <a:off x="2383560" y="4384440"/>
              <a:ext cx="4831200" cy="10857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601600">
              <a:off x="1753560" y="2653200"/>
              <a:ext cx="5004720" cy="24706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0601600">
              <a:off x="1803240" y="2520360"/>
              <a:ext cx="4830840" cy="23940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601600">
              <a:off x="1725480" y="2529360"/>
              <a:ext cx="4951800" cy="239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20602200">
              <a:off x="1713960" y="2513880"/>
              <a:ext cx="4995720" cy="236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0601600">
              <a:off x="1726920" y="2529360"/>
              <a:ext cx="4931640" cy="232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rot="20602200">
              <a:off x="1711080" y="2504880"/>
              <a:ext cx="4950000" cy="231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0601600">
              <a:off x="3071880" y="3106080"/>
              <a:ext cx="2340720" cy="109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24960" y="3288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79520" y="2537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36440" y="291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5957280" y="3350520"/>
              <a:ext cx="1125000" cy="14018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0539200">
              <a:off x="1742400" y="2555640"/>
              <a:ext cx="5434920" cy="243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4480560" y="3744720"/>
              <a:ext cx="1527480" cy="10130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36440" y="372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4000" y="4348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0160" y="4224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01600">
              <a:off x="3160080" y="3312720"/>
              <a:ext cx="2245680" cy="893160"/>
            </a:xfrm>
            <a:prstGeom prst="ellipse">
              <a:avLst/>
            </a:prstGeom>
            <a:gradFill rotWithShape="0">
              <a:gsLst>
                <a:gs pos="0">
                  <a:srgbClr val="244f94"/>
                </a:gs>
                <a:gs pos="100000">
                  <a:srgbClr val="102444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4633920" y="4068720"/>
              <a:ext cx="1113840" cy="842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00800" y="205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2" name=""/>
          <p:cNvCxnSpPr/>
          <p:nvPr/>
        </p:nvCxnSpPr>
        <p:spPr>
          <a:xfrm flipV="1" rot="10800000">
            <a:off x="615240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142920" y="29718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4" name=""/>
          <p:cNvCxnSpPr/>
          <p:nvPr/>
        </p:nvCxnSpPr>
        <p:spPr>
          <a:xfrm>
            <a:off x="2057040" y="3123720"/>
            <a:ext cx="22932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190512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6" name=""/>
          <p:cNvCxnSpPr/>
          <p:nvPr/>
        </p:nvCxnSpPr>
        <p:spPr>
          <a:xfrm>
            <a:off x="3885840" y="21337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7067520" y="462924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8" name=""/>
          <p:cNvCxnSpPr/>
          <p:nvPr/>
        </p:nvCxnSpPr>
        <p:spPr>
          <a:xfrm rot="10800000">
            <a:off x="6400080" y="41904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838080" y="565776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0" name=""/>
          <p:cNvCxnSpPr/>
          <p:nvPr/>
        </p:nvCxnSpPr>
        <p:spPr>
          <a:xfrm flipV="1">
            <a:off x="3048120" y="5003280"/>
            <a:ext cx="807120" cy="805680"/>
          </a:xfrm>
          <a:prstGeom prst="bentConnector3">
            <a:avLst>
              <a:gd name="adj1" fmla="val 99598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243240" y="31654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 flipH="1" flipV="1" rot="5400000">
            <a:off x="3271320" y="3148560"/>
            <a:ext cx="227952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0501"/>
                </a:moveTo>
                <a:arcTo wR="10800" hR="10800" stAng="-10704666" swAng="10737983"/>
                <a:lnTo>
                  <a:pt x="10800" y="10800"/>
                </a:lnTo>
                <a:close/>
              </a:path>
              <a:path fill="none" w="21600" h="21600">
                <a:moveTo>
                  <a:pt x="4" y="10501"/>
                </a:moveTo>
                <a:arcTo wR="10800" hR="10800" stAng="-10704666" swAng="10737983"/>
              </a:path>
            </a:pathLst>
          </a:custGeom>
          <a:solidFill>
            <a:srgbClr val="5ab14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 rot="16490400">
            <a:off x="3271680" y="3171240"/>
            <a:ext cx="2279880" cy="22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" y="11649"/>
                </a:moveTo>
                <a:arcTo wR="10800" hR="10800" stAng="10529578" swAng="10922138"/>
                <a:lnTo>
                  <a:pt x="10800" y="10800"/>
                </a:lnTo>
                <a:close/>
              </a:path>
              <a:path fill="none" w="21600" h="21600">
                <a:moveTo>
                  <a:pt x="33" y="11649"/>
                </a:moveTo>
                <a:arcTo wR="10800" hR="10800" stAng="10529578" swAng="10922138"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965040" y="4038480"/>
            <a:ext cx="1623600" cy="1481040"/>
            <a:chOff x="3965040" y="4038480"/>
            <a:chExt cx="1623600" cy="1481040"/>
          </a:xfrm>
        </p:grpSpPr>
        <p:grpSp>
          <p:nvGrpSpPr>
            <p:cNvPr id="496" name=""/>
            <p:cNvGrpSpPr/>
            <p:nvPr/>
          </p:nvGrpSpPr>
          <p:grpSpPr>
            <a:xfrm>
              <a:off x="4338360" y="4038480"/>
              <a:ext cx="1250280" cy="1466640"/>
              <a:chOff x="4338360" y="4038480"/>
              <a:chExt cx="1250280" cy="1466640"/>
            </a:xfrm>
          </p:grpSpPr>
          <p:sp>
            <p:nvSpPr>
              <p:cNvPr id="497" name=""/>
              <p:cNvSpPr/>
              <p:nvPr/>
            </p:nvSpPr>
            <p:spPr>
              <a:xfrm flipH="1" flipV="1" rot="1528800">
                <a:off x="5033880" y="40431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 rot="2344200">
                <a:off x="4940280" y="422316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 rot="2640000">
                <a:off x="4861800" y="430956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 rot="3172200">
                <a:off x="4764240" y="4410360"/>
                <a:ext cx="29772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965040" y="4442040"/>
              <a:ext cx="1568880" cy="1077480"/>
              <a:chOff x="3965040" y="4442040"/>
              <a:chExt cx="1568880" cy="1077480"/>
            </a:xfrm>
          </p:grpSpPr>
          <p:sp>
            <p:nvSpPr>
              <p:cNvPr id="502" name=""/>
              <p:cNvSpPr/>
              <p:nvPr/>
            </p:nvSpPr>
            <p:spPr>
              <a:xfrm flipH="1" flipV="1" rot="2881800">
                <a:off x="4831560" y="4350960"/>
                <a:ext cx="298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 rot="3697200">
                <a:off x="4675680" y="44809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 rot="3993000">
                <a:off x="4569840" y="45316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 rot="4525200">
                <a:off x="4441680" y="45856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3481560" y="4146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81640" y="38005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28960" y="35798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000240" y="52718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0760" y="55659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773080" y="45622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002920" y="2873160"/>
            <a:ext cx="108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585760" y="48765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465520" y="33602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76360" y="31194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09840" y="3159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23600" y="2066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360320" y="21049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61200" y="3279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36160" y="2249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19040" y="42354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52520" y="4275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04240" y="4395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616040" y="53211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49520" y="53611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00880" y="548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86280" y="5951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9400" y="5991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5dbaf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1120" y="61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736600" y="28018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773680" y="28400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49160" y="2984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160320" y="3868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197040" y="3906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572880" y="4051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890320" y="4889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927040" y="49276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3c3f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02880" y="5072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744520" y="41961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1295280"/>
            <a:ext cx="4800600" cy="609840"/>
          </a:xfrm>
          <a:prstGeom prst="wedgeRectCallout">
            <a:avLst>
              <a:gd name="adj1" fmla="val -365"/>
              <a:gd name="adj2" fmla="val 161981"/>
            </a:avLst>
          </a:prstGeom>
          <a:noFill/>
          <a:ln w="38160">
            <a:solidFill>
              <a:srgbClr val="b09ede"/>
            </a:solidFill>
            <a:miter/>
          </a:ln>
          <a:effectLst>
            <a:outerShdw dist="63504" dir="3183908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138744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80880" y="2928960"/>
            <a:ext cx="1758960" cy="1736640"/>
            <a:chOff x="380880" y="2928960"/>
            <a:chExt cx="1758960" cy="1736640"/>
          </a:xfrm>
        </p:grpSpPr>
        <p:pic>
          <p:nvPicPr>
            <p:cNvPr id="544" name="" descr=""/>
            <p:cNvPicPr/>
            <p:nvPr/>
          </p:nvPicPr>
          <p:blipFill>
            <a:blip r:embed="rId1"/>
            <a:stretch/>
          </p:blipFill>
          <p:spPr>
            <a:xfrm>
              <a:off x="38088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0392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642000" y="2928960"/>
            <a:ext cx="1758960" cy="1736640"/>
            <a:chOff x="6642000" y="2928960"/>
            <a:chExt cx="1758960" cy="173664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664200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666504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未知"/>
          <p:cNvSpPr/>
          <p:nvPr/>
        </p:nvSpPr>
        <p:spPr>
          <a:xfrm>
            <a:off x="2301840" y="3278160"/>
            <a:ext cx="4148280" cy="5335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ecec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68680" y="21859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8680" y="466560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09680" y="5668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27272"/>
              </a:gs>
              <a:gs pos="50000">
                <a:srgbClr val="f8f8f8"/>
              </a:gs>
              <a:gs pos="100000">
                <a:srgbClr val="727272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45" idx="4"/>
            <a:endCxn id="552" idx="1"/>
          </p:cNvCxnSpPr>
          <p:nvPr/>
        </p:nvCxnSpPr>
        <p:spPr>
          <a:xfrm flipH="1" rot="16200000">
            <a:off x="1109520" y="4866480"/>
            <a:ext cx="1262880" cy="9370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554" name=""/>
          <p:cNvCxnSpPr>
            <a:stCxn id="548" idx="4"/>
            <a:endCxn id="552" idx="3"/>
          </p:cNvCxnSpPr>
          <p:nvPr/>
        </p:nvCxnSpPr>
        <p:spPr>
          <a:xfrm rot="5400000">
            <a:off x="6264720" y="4696560"/>
            <a:ext cx="126288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555" name="未知"/>
          <p:cNvSpPr/>
          <p:nvPr/>
        </p:nvSpPr>
        <p:spPr>
          <a:xfrm flipH="1" flipV="1">
            <a:off x="2301120" y="3845880"/>
            <a:ext cx="4148280" cy="53316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ecec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960" y="339876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35680" y="3398760"/>
            <a:ext cx="14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16400" y="419580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16400" y="315108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0" y="571356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1" name=""/>
          <p:cNvCxnSpPr/>
          <p:nvPr/>
        </p:nvCxnSpPr>
        <p:spPr>
          <a:xfrm flipH="1" flipV="1" rot="5400000">
            <a:off x="1293120" y="1753560"/>
            <a:ext cx="1185120" cy="11818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562" name=""/>
          <p:cNvCxnSpPr>
            <a:stCxn id="548" idx="0"/>
            <a:endCxn id="563" idx="3"/>
          </p:cNvCxnSpPr>
          <p:nvPr/>
        </p:nvCxnSpPr>
        <p:spPr>
          <a:xfrm flipV="1" rot="16200000">
            <a:off x="6323040" y="1679040"/>
            <a:ext cx="114696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563" name=""/>
          <p:cNvSpPr/>
          <p:nvPr/>
        </p:nvSpPr>
        <p:spPr>
          <a:xfrm>
            <a:off x="2209680" y="1447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27272"/>
              </a:gs>
              <a:gs pos="50000">
                <a:srgbClr val="f8f8f8"/>
              </a:gs>
              <a:gs pos="100000">
                <a:srgbClr val="727272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149220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2439000" y="2915280"/>
            <a:ext cx="4400280" cy="206244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33920" y="2895480"/>
            <a:ext cx="189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未知"/>
          <p:cNvSpPr/>
          <p:nvPr/>
        </p:nvSpPr>
        <p:spPr>
          <a:xfrm>
            <a:off x="5208480" y="2743200"/>
            <a:ext cx="2136960" cy="2971800"/>
          </a:xfrm>
          <a:custGeom>
            <a:avLst/>
            <a:gdLst/>
            <a:ahLst/>
            <a:rect l="l" t="t" r="r" b="b"/>
            <a:pathLst>
              <a:path w="1302" h="1872">
                <a:moveTo>
                  <a:pt x="8" y="537"/>
                </a:moveTo>
                <a:lnTo>
                  <a:pt x="0" y="1872"/>
                </a:lnTo>
                <a:lnTo>
                  <a:pt x="1302" y="1872"/>
                </a:lnTo>
                <a:lnTo>
                  <a:pt x="1302" y="0"/>
                </a:lnTo>
                <a:lnTo>
                  <a:pt x="8" y="537"/>
                </a:lnTo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未知"/>
          <p:cNvSpPr/>
          <p:nvPr/>
        </p:nvSpPr>
        <p:spPr>
          <a:xfrm>
            <a:off x="3133800" y="3124080"/>
            <a:ext cx="2084400" cy="2590920"/>
          </a:xfrm>
          <a:custGeom>
            <a:avLst/>
            <a:gdLst/>
            <a:ahLst/>
            <a:rect l="l" t="t" r="r" b="b"/>
            <a:pathLst>
              <a:path w="1313" h="1632">
                <a:moveTo>
                  <a:pt x="0" y="433"/>
                </a:moveTo>
                <a:lnTo>
                  <a:pt x="0" y="1632"/>
                </a:lnTo>
                <a:lnTo>
                  <a:pt x="1313" y="1632"/>
                </a:lnTo>
                <a:lnTo>
                  <a:pt x="1313" y="0"/>
                </a:lnTo>
                <a:lnTo>
                  <a:pt x="0" y="433"/>
                </a:lnTo>
                <a:close/>
              </a:path>
            </a:pathLst>
          </a:cu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未知"/>
          <p:cNvSpPr/>
          <p:nvPr/>
        </p:nvSpPr>
        <p:spPr>
          <a:xfrm>
            <a:off x="923760" y="3352680"/>
            <a:ext cx="2219400" cy="259092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0" y="576"/>
                </a:moveTo>
                <a:lnTo>
                  <a:pt x="0" y="1632"/>
                </a:lnTo>
                <a:lnTo>
                  <a:pt x="1440" y="1632"/>
                </a:lnTo>
                <a:lnTo>
                  <a:pt x="1440" y="0"/>
                </a:lnTo>
                <a:lnTo>
                  <a:pt x="0" y="576"/>
                </a:lnTo>
                <a:close/>
              </a:path>
            </a:pathLst>
          </a:custGeom>
          <a:gradFill rotWithShape="0">
            <a:gsLst>
              <a:gs pos="0">
                <a:srgbClr val="1f4d62"/>
              </a:gs>
              <a:gs pos="100000">
                <a:srgbClr val="44a9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15108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19640" y="3467160"/>
            <a:ext cx="0" cy="2496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46880" y="3160800"/>
            <a:ext cx="0" cy="280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未知"/>
          <p:cNvSpPr/>
          <p:nvPr/>
        </p:nvSpPr>
        <p:spPr>
          <a:xfrm>
            <a:off x="1171440" y="2411280"/>
            <a:ext cx="6742080" cy="163224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222880" y="5638680"/>
            <a:ext cx="21430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30480" y="4392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33720" y="175248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638680"/>
            <a:ext cx="211140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14400" y="5638680"/>
            <a:ext cx="2209680" cy="31428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1f4d62"/>
              </a:gs>
              <a:gs pos="50000">
                <a:srgbClr val="44a9d6"/>
              </a:gs>
              <a:gs pos="100000">
                <a:srgbClr val="1f4d6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4120" y="441972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76720" y="1981080"/>
            <a:ext cx="4733280" cy="3276720"/>
            <a:chOff x="3276720" y="1981080"/>
            <a:chExt cx="4733280" cy="3276720"/>
          </a:xfrm>
        </p:grpSpPr>
        <p:grpSp>
          <p:nvGrpSpPr>
            <p:cNvPr id="97" name=""/>
            <p:cNvGrpSpPr/>
            <p:nvPr/>
          </p:nvGrpSpPr>
          <p:grpSpPr>
            <a:xfrm>
              <a:off x="3276720" y="1981080"/>
              <a:ext cx="4733280" cy="457200"/>
              <a:chOff x="3276720" y="1981080"/>
              <a:chExt cx="4733280" cy="457200"/>
            </a:xfrm>
          </p:grpSpPr>
          <p:sp>
            <p:nvSpPr>
              <p:cNvPr id="98" name=""/>
              <p:cNvSpPr/>
              <p:nvPr/>
            </p:nvSpPr>
            <p:spPr>
              <a:xfrm>
                <a:off x="3362040" y="1981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98200" y="201924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76720" y="20858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e96e29"/>
                  </a:gs>
                  <a:gs pos="100000">
                    <a:srgbClr val="9a491b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276720" y="2705040"/>
              <a:ext cx="4733280" cy="457200"/>
              <a:chOff x="3276720" y="2705040"/>
              <a:chExt cx="4733280" cy="457200"/>
            </a:xfrm>
          </p:grpSpPr>
          <p:sp>
            <p:nvSpPr>
              <p:cNvPr id="102" name=""/>
              <p:cNvSpPr/>
              <p:nvPr/>
            </p:nvSpPr>
            <p:spPr>
              <a:xfrm>
                <a:off x="3362040" y="270504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98200" y="27525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76720" y="28004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dcdc48"/>
                  </a:gs>
                  <a:gs pos="100000">
                    <a:srgbClr val="92922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276720" y="3400200"/>
              <a:ext cx="4733280" cy="457200"/>
              <a:chOff x="3276720" y="3400200"/>
              <a:chExt cx="4733280" cy="45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62040" y="34002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98200" y="3452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6720" y="350496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2f7adf"/>
                  </a:gs>
                  <a:gs pos="100000">
                    <a:srgbClr val="1f5194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76720" y="4105080"/>
              <a:ext cx="4733280" cy="457200"/>
              <a:chOff x="3276720" y="4105080"/>
              <a:chExt cx="47332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3362040" y="4105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98200" y="4190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6720" y="421452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5ab14b"/>
                  </a:gs>
                  <a:gs pos="100000">
                    <a:srgbClr val="3b7531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276720" y="4800600"/>
              <a:ext cx="4733280" cy="457200"/>
              <a:chOff x="3276720" y="4800600"/>
              <a:chExt cx="4733280" cy="457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362040" y="48006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8200" y="481500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76720" y="490068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44a9d6"/>
                  </a:gs>
                  <a:gs pos="100000">
                    <a:srgbClr val="2d708e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286000" y="2209680"/>
            <a:ext cx="990720" cy="380880"/>
            <a:chOff x="2286000" y="2209680"/>
            <a:chExt cx="990720" cy="380880"/>
          </a:xfrm>
        </p:grpSpPr>
        <p:sp>
          <p:nvSpPr>
            <p:cNvPr id="118" name=""/>
            <p:cNvSpPr/>
            <p:nvPr/>
          </p:nvSpPr>
          <p:spPr>
            <a:xfrm flipV="1">
              <a:off x="2286000" y="2209680"/>
              <a:ext cx="38088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209680"/>
              <a:ext cx="6098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09680" y="4724280"/>
            <a:ext cx="1066680" cy="304920"/>
            <a:chOff x="2209680" y="4724280"/>
            <a:chExt cx="1066680" cy="304920"/>
          </a:xfrm>
        </p:grpSpPr>
        <p:sp>
          <p:nvSpPr>
            <p:cNvPr id="121" name=""/>
            <p:cNvSpPr/>
            <p:nvPr/>
          </p:nvSpPr>
          <p:spPr>
            <a:xfrm>
              <a:off x="2209680" y="472428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50292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90920" y="289548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02160"/>
            <a:ext cx="60984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3434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1884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4a9d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D156-7734-405D-BA15-B1E099D158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905120" y="2362320"/>
            <a:ext cx="5333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effectLst>
                <a:outerShdw dist="52300" dir="836435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371240" y="4952880"/>
            <a:ext cx="617220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44f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b09ede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– CD: Digital-globe (image Stat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dd8739"/>
              </a:gs>
              <a:gs pos="100000">
                <a:srgbClr val="653e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1828800"/>
            <a:ext cx="5486400" cy="762120"/>
          </a:xfrm>
          <a:prstGeom prst="roundRect">
            <a:avLst>
              <a:gd name="adj" fmla="val 28750"/>
            </a:avLst>
          </a:prstGeom>
          <a:gradFill rotWithShape="0">
            <a:gsLst>
              <a:gs pos="0">
                <a:srgbClr val="e4a368"/>
              </a:gs>
              <a:gs pos="50000">
                <a:srgbClr val="dd8739"/>
              </a:gs>
              <a:gs pos="100000">
                <a:srgbClr val="e4a36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00200" y="2590560"/>
            <a:ext cx="5943240" cy="990360"/>
            <a:chOff x="1600200" y="2590560"/>
            <a:chExt cx="5943240" cy="990360"/>
          </a:xfrm>
        </p:grpSpPr>
        <p:sp>
          <p:nvSpPr>
            <p:cNvPr id="149" name=""/>
            <p:cNvSpPr/>
            <p:nvPr/>
          </p:nvSpPr>
          <p:spPr>
            <a:xfrm>
              <a:off x="2232000" y="3114360"/>
              <a:ext cx="530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600200" y="3124080"/>
              <a:ext cx="642960" cy="44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411080" y="2590560"/>
              <a:ext cx="1125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061040" y="3123720"/>
              <a:ext cx="4824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875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8bc780"/>
              </a:gs>
              <a:gs pos="100000">
                <a:srgbClr val="5ab14b"/>
              </a:gs>
            </a:gsLst>
            <a:lin ang="13500000"/>
          </a:gra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348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038480"/>
            <a:ext cx="2005200" cy="2279880"/>
          </a:xfrm>
          <a:custGeom>
            <a:avLst/>
            <a:gdLst>
              <a:gd name="textAreaLeft" fmla="*/ 27360 w 2005200"/>
              <a:gd name="textAreaRight" fmla="*/ 1977840 w 2005200"/>
              <a:gd name="textAreaTop" fmla="*/ 27360 h 2279880"/>
              <a:gd name="textAreaBottom" fmla="*/ 2252520 h 2279880"/>
            </a:gdLst>
            <a:ahLst/>
            <a:rect l="textAreaLeft" t="textAreaTop" r="textAreaRight" b="textAreaBottom"/>
            <a:pathLst>
              <a:path w="21600" h="24558">
                <a:moveTo>
                  <a:pt x="1013" y="0"/>
                </a:moveTo>
                <a:arcTo wR="1013" hR="1013" stAng="16200000" swAng="-5400000"/>
                <a:lnTo>
                  <a:pt x="0" y="23545"/>
                </a:lnTo>
                <a:arcTo wR="1013" hR="1013" stAng="10800000" swAng="-5400000"/>
                <a:lnTo>
                  <a:pt x="20587" y="2455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50000">
                <a:srgbClr val="6da1e7"/>
              </a:gs>
              <a:gs pos="100000">
                <a:srgbClr val="2f7adf"/>
              </a:gs>
            </a:gsLst>
            <a:lin ang="13500000"/>
          </a:gra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12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2320" y="4305240"/>
            <a:ext cx="18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95720" y="4267080"/>
            <a:ext cx="186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5080" y="3560760"/>
            <a:ext cx="212904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638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44a9d6"/>
              </a:gs>
              <a:gs pos="50000">
                <a:srgbClr val="7bc2e1"/>
              </a:gs>
              <a:gs pos="100000">
                <a:srgbClr val="44a9d6"/>
              </a:gs>
            </a:gsLst>
            <a:lin ang="13500000"/>
          </a:gra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4400" y="4302000"/>
            <a:ext cx="181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7520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4a9d6"/>
              </a:gs>
              <a:gs pos="100000">
                <a:srgbClr val="1f4d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34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9760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292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3360" y="429408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924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 rot="5400000">
            <a:off x="2942280" y="457848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dd8739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132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9670200">
            <a:off x="2600640" y="5331240"/>
            <a:ext cx="76356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4a9d6"/>
          </a:solidFill>
          <a:ln w="9360">
            <a:solidFill>
              <a:srgbClr val="969696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75440" y="562140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7220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616000" y="555012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53720" y="457992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2f7adf"/>
          </a:solidFill>
          <a:ln w="9360">
            <a:solidFill>
              <a:srgbClr val="2f7adf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19400" y="4586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472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0320" y="5697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73560" y="45846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560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44f94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9560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05680" y="138924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2f7a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2635200" y="1420560"/>
            <a:ext cx="3285720" cy="324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49" y="2370"/>
                </a:moveTo>
                <a:arcTo wR="10800" hR="10800" stAng="-7721150" swAng="5709536"/>
                <a:lnTo>
                  <a:pt x="10800" y="10800"/>
                </a:lnTo>
                <a:close/>
              </a:path>
              <a:path fill="none" w="21600" h="21600">
                <a:moveTo>
                  <a:pt x="4049" y="2370"/>
                </a:moveTo>
                <a:arcTo wR="10800" hR="10800" stAng="-7721150" swAng="5709536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 rot="5400000">
            <a:off x="2621160" y="1384560"/>
            <a:ext cx="328428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014720" y="1386720"/>
            <a:ext cx="1823760" cy="1509120"/>
            <a:chOff x="4014720" y="1386720"/>
            <a:chExt cx="1823760" cy="1509120"/>
          </a:xfrm>
        </p:grpSpPr>
        <p:grpSp>
          <p:nvGrpSpPr>
            <p:cNvPr id="188" name=""/>
            <p:cNvGrpSpPr/>
            <p:nvPr/>
          </p:nvGrpSpPr>
          <p:grpSpPr>
            <a:xfrm>
              <a:off x="4412880" y="1386720"/>
              <a:ext cx="1425600" cy="1509120"/>
              <a:chOff x="4412880" y="1386720"/>
              <a:chExt cx="1425600" cy="1509120"/>
            </a:xfrm>
          </p:grpSpPr>
          <p:sp>
            <p:nvSpPr>
              <p:cNvPr id="189" name=""/>
              <p:cNvSpPr/>
              <p:nvPr/>
            </p:nvSpPr>
            <p:spPr>
              <a:xfrm flipV="1" rot="8983800">
                <a:off x="5227200" y="158076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8167800">
                <a:off x="5107680" y="139356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 rot="7872600">
                <a:off x="5017320" y="13046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7340400">
                <a:off x="4905360" y="1202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014720" y="1394280"/>
              <a:ext cx="1743120" cy="1049400"/>
              <a:chOff x="4014720" y="1394280"/>
              <a:chExt cx="1743120" cy="1049400"/>
            </a:xfrm>
          </p:grpSpPr>
          <p:sp>
            <p:nvSpPr>
              <p:cNvPr id="194" name=""/>
              <p:cNvSpPr/>
              <p:nvPr/>
            </p:nvSpPr>
            <p:spPr>
              <a:xfrm flipV="1" rot="7630800">
                <a:off x="4988880" y="12578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 rot="6814800">
                <a:off x="4807440" y="11304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 rot="6519600">
                <a:off x="4688640" y="1083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5987400">
                <a:off x="4546440" y="10317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556360" y="3062880"/>
            <a:ext cx="1886400" cy="1779480"/>
            <a:chOff x="2556360" y="3062880"/>
            <a:chExt cx="1886400" cy="1779480"/>
          </a:xfrm>
        </p:grpSpPr>
        <p:sp>
          <p:nvSpPr>
            <p:cNvPr id="199" name=""/>
            <p:cNvSpPr/>
            <p:nvPr/>
          </p:nvSpPr>
          <p:spPr>
            <a:xfrm flipV="1" rot="19510800">
              <a:off x="2997720" y="30193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8694800">
              <a:off x="3165120" y="324036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18399600">
              <a:off x="3286440" y="334224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7867400">
              <a:off x="3435840" y="3458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9670200">
            <a:off x="2601720" y="138564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4a9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8460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244f94"/>
              </a:gs>
              <a:gs pos="100000">
                <a:srgbClr val="1024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3376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1480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148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148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1760" y="434016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5080" y="535788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504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58040" y="429732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05120" y="2527200"/>
            <a:ext cx="5333400" cy="2819520"/>
            <a:chOff x="1905120" y="2527200"/>
            <a:chExt cx="5333400" cy="2819520"/>
          </a:xfrm>
        </p:grpSpPr>
        <p:sp>
          <p:nvSpPr>
            <p:cNvPr id="215" name="未知"/>
            <p:cNvSpPr/>
            <p:nvPr/>
          </p:nvSpPr>
          <p:spPr>
            <a:xfrm>
              <a:off x="2709000" y="397800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84c479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3556440" y="2527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73a5e8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905120" y="2913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a3d4ea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546360" y="37306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1828800"/>
            <a:ext cx="2743200" cy="914400"/>
          </a:xfrm>
          <a:noFill/>
          <a:ln w="9360">
            <a:solidFill>
              <a:srgbClr val="b09ed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5499000"/>
            <a:ext cx="3048120" cy="854280"/>
          </a:xfrm>
          <a:noFill/>
          <a:ln w="9360">
            <a:solidFill>
              <a:srgbClr val="5ab14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2222640"/>
            <a:ext cx="2344680" cy="825480"/>
          </a:xfrm>
          <a:noFill/>
          <a:ln w="9360">
            <a:solidFill>
              <a:srgbClr val="dd873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4a9d6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8640" y="18194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67040" y="2168640"/>
            <a:ext cx="150840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81400" y="139860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7040" y="21747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67040" y="25639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67040" y="254304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84920" y="258912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40520" y="25956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84920" y="2984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84920" y="29638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34040" y="3822840"/>
            <a:ext cx="69408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68440" y="244008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167004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 rot="3328800">
            <a:off x="2038320" y="1792440"/>
            <a:ext cx="4298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0085a7"/>
              </a:gs>
              <a:gs pos="100000">
                <a:srgbClr val="00ccff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6106200">
            <a:off x="6786000" y="3679920"/>
            <a:ext cx="785160" cy="73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6245280" y="1854360"/>
            <a:ext cx="52128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3b7431"/>
              </a:gs>
              <a:gs pos="100000">
                <a:srgbClr val="5ab14b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84920" y="1565280"/>
            <a:ext cx="707400" cy="71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55710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4480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68440" y="28353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1752480"/>
          <a:ext cx="6348600" cy="63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348600" cy="63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468440" y="28144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97720" y="46227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34040" y="4629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09ede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97720" y="50180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97720" y="49975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147760" y="3537000"/>
            <a:ext cx="168480" cy="690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48120" y="3241800"/>
            <a:ext cx="403200" cy="396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05520" y="3317760"/>
            <a:ext cx="74268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4800600"/>
            <a:ext cx="1195200" cy="179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444"/>
            </a:gs>
            <a:gs pos="100000">
              <a:srgbClr val="244f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rot="2712600">
            <a:off x="4174920" y="180756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3b9ed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12920" y="2817720"/>
            <a:ext cx="203076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8887400">
            <a:off x="1906560" y="179676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ab14b"/>
              </a:gs>
              <a:gs pos="100000">
                <a:srgbClr val="9fd196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5880" y="2813040"/>
            <a:ext cx="2028600" cy="202896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 rot="18887400">
            <a:off x="4159080" y="406944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fd196"/>
              </a:gs>
              <a:gs pos="100000">
                <a:srgbClr val="5ab14b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80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572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80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 rot="2712600">
            <a:off x="1905480" y="4062600"/>
            <a:ext cx="216792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3b9ed"/>
              </a:gs>
            </a:gsLst>
            <a:lin ang="811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572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4040" y="20527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78520" y="4714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795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78520" y="2048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dc:language>en-US</dc:language>
  <cp:lastModifiedBy>GZB</cp:lastModifiedBy>
  <dcterms:modified xsi:type="dcterms:W3CDTF">2015-07-20T07:46:58Z</dcterms:modified>
  <cp:revision>3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0e08000000000001024140</vt:lpwstr>
  </property>
</Properties>
</file>