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FB5-0C1A-4C50-882D-091E6AB1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12E8-BF49-40DD-97EB-D48137F7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5F2E-F0C7-40E7-B177-CDAB56C8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BD4-4F0A-4A9E-861A-E002639A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9EC-B4E2-4512-B551-89D4231E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F4D-F452-477D-A2A6-F6B5BBB8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821-C160-449A-829E-53A16F06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D9EB-6BCF-4C24-A871-AE2F39B3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01BC-01B1-4569-9DB5-DA3DA89E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5F7-A183-44B8-9D75-9426FAF6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9D7-2C70-4FE1-8B6F-49E1C198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0E8-ED3E-471C-B49F-567AD3B5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73D5-7C8E-414A-9BE0-5F4B9BD0E01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55C9-B800-4F1E-BFD0-93C4515AE1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_imglo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lanmu_36284"/>
          <p:cNvPicPr/>
          <p:nvPr/>
        </p:nvPicPr>
        <p:blipFill>
          <a:blip r:embed="rId2"/>
          <a:stretch/>
        </p:blipFill>
        <p:spPr>
          <a:xfrm>
            <a:off x="593640" y="1692360"/>
            <a:ext cx="7956720" cy="4176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828720" y="693720"/>
            <a:ext cx="765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扁鹊治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图片1"/>
          <p:cNvPicPr/>
          <p:nvPr/>
        </p:nvPicPr>
        <p:blipFill>
          <a:blip r:embed="rId1"/>
          <a:stretch/>
        </p:blipFill>
        <p:spPr>
          <a:xfrm>
            <a:off x="468360" y="189000"/>
            <a:ext cx="8675640" cy="6669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1187280" y="1341360"/>
            <a:ext cx="6336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扁鹊专用诊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患者：                日期 ：                       症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蔡桓公                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一天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皮肤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皮肉之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肠胃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深入骨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浑身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病死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DF7-B05A-4CD6-908D-49C7172A95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图片1"/>
          <p:cNvPicPr/>
          <p:nvPr/>
        </p:nvPicPr>
        <p:blipFill>
          <a:blip r:embed="rId1"/>
          <a:stretch/>
        </p:blipFill>
        <p:spPr>
          <a:xfrm>
            <a:off x="468360" y="189000"/>
            <a:ext cx="8675640" cy="6669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1187280" y="1341360"/>
            <a:ext cx="6336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扁鹊专用诊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患者：                日期 ：                       症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蔡桓公                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一天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皮肤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过了十来天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皮肉之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肠胃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深入骨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浑身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病死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C6FA-A941-4CEF-803D-E106DA938C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图片1"/>
          <p:cNvPicPr/>
          <p:nvPr/>
        </p:nvPicPr>
        <p:blipFill>
          <a:blip r:embed="rId1"/>
          <a:stretch/>
        </p:blipFill>
        <p:spPr>
          <a:xfrm>
            <a:off x="468360" y="189000"/>
            <a:ext cx="8675640" cy="6669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1187280" y="1341360"/>
            <a:ext cx="6336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扁鹊专用诊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患者：                日期 ：                       症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蔡桓公                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一天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皮肤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过了十来天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皮肉之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十来天后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肠胃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深入骨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浑身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病死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31E-9ABA-4255-9FE1-765E08F5F4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图片1"/>
          <p:cNvPicPr/>
          <p:nvPr/>
        </p:nvPicPr>
        <p:blipFill>
          <a:blip r:embed="rId1"/>
          <a:stretch/>
        </p:blipFill>
        <p:spPr>
          <a:xfrm>
            <a:off x="468360" y="189000"/>
            <a:ext cx="8675640" cy="6669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1187280" y="1341360"/>
            <a:ext cx="6336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扁鹊专用诊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患者：                日期 ：                       症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蔡桓公                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一天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皮肤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过了十来天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皮肉之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十来天后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肠胃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又过了十几天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深入骨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浑身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病死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EAA-CD85-4E4F-96D1-A84EC2E565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0ED-EF11-4A51-8F06-65E9D24DE5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图片1"/>
          <p:cNvPicPr/>
          <p:nvPr/>
        </p:nvPicPr>
        <p:blipFill>
          <a:blip r:embed="rId1"/>
          <a:stretch/>
        </p:blipFill>
        <p:spPr>
          <a:xfrm>
            <a:off x="468360" y="189000"/>
            <a:ext cx="8675640" cy="6669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1187280" y="1341360"/>
            <a:ext cx="6336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扁鹊专用诊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患者：                日期 ：                       症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蔡桓公                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一天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皮肤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过了十来天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皮肉之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十来天后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肠胃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又过了十几天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深入骨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五六天之后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浑身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不久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病死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FD17-DB50-43B0-BCD6-C3EB6766B6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图片1"/>
          <p:cNvPicPr/>
          <p:nvPr/>
        </p:nvPicPr>
        <p:blipFill>
          <a:blip r:embed="rId1"/>
          <a:stretch/>
        </p:blipFill>
        <p:spPr>
          <a:xfrm>
            <a:off x="468360" y="189000"/>
            <a:ext cx="8675640" cy="6669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1187280" y="1341360"/>
            <a:ext cx="6336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扁鹊专用诊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患者：                日期 ：                       症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蔡桓公                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一天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皮肤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过了十来天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皮肉之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十来天后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肠胃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又过了十几天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深入骨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五六天之后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浑身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病死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531-3921-4B65-BA7C-D247B072C5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_imgload"/>
          <p:cNvPicPr/>
          <p:nvPr/>
        </p:nvPicPr>
        <p:blipFill>
          <a:blip r:embed="rId1"/>
          <a:stretch/>
        </p:blipFill>
        <p:spPr>
          <a:xfrm>
            <a:off x="0" y="-531720"/>
            <a:ext cx="9468000" cy="76183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1476360" y="2276640"/>
            <a:ext cx="640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如果可以穿越时空，我想对蔡桓公说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想对扁鹊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db780e050de9624686919de3129e9358.mp3" descr=""/>
          <p:cNvPicPr/>
          <p:nvPr/>
        </p:nvPicPr>
        <p:blipFill>
          <a:blip r:embed="rId2"/>
          <a:stretch/>
        </p:blipFill>
        <p:spPr>
          <a:xfrm>
            <a:off x="615636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C43-A092-401B-BA4D-6BC1A968F2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157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238498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_imgload"/>
          <p:cNvPicPr/>
          <p:nvPr/>
        </p:nvPicPr>
        <p:blipFill>
          <a:blip r:embed="rId1"/>
          <a:stretch/>
        </p:blipFill>
        <p:spPr>
          <a:xfrm>
            <a:off x="0" y="-531720"/>
            <a:ext cx="9468000" cy="7618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dfe72811566189bbc3e1e94"/>
          <p:cNvPicPr/>
          <p:nvPr/>
        </p:nvPicPr>
        <p:blipFill>
          <a:blip r:embed="rId2"/>
          <a:stretch/>
        </p:blipFill>
        <p:spPr>
          <a:xfrm>
            <a:off x="5580000" y="1052640"/>
            <a:ext cx="3168720" cy="4608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1116000" y="2342520"/>
            <a:ext cx="43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扁鹊”其实不是一个人的名字，而是古代人对所有名医的一个总称，他的真名叫秦越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_imgload"/>
          <p:cNvPicPr/>
          <p:nvPr/>
        </p:nvPicPr>
        <p:blipFill>
          <a:blip r:embed="rId1"/>
          <a:stretch/>
        </p:blipFill>
        <p:spPr>
          <a:xfrm>
            <a:off x="0" y="-531720"/>
            <a:ext cx="9468000" cy="7618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1547640" y="1557360"/>
            <a:ext cx="6551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理睬          敷烫          骨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一剂药       扎针          蔡桓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_imgload"/>
          <p:cNvPicPr/>
          <p:nvPr/>
        </p:nvPicPr>
        <p:blipFill>
          <a:blip r:embed="rId1"/>
          <a:stretch/>
        </p:blipFill>
        <p:spPr>
          <a:xfrm>
            <a:off x="0" y="-531720"/>
            <a:ext cx="9468000" cy="7618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900000" y="133848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扁鹊说：“大王，据我看来，您皮肤上有点小病。要是不治，恐怕会向体内发展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84360" y="44802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蔡桓公说：“我的身体很好，什么病也没有。这些做医生的总喜欢给没有病的人治病来显示自己的高明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dfe72811566189bbc3e1e94"/>
          <p:cNvPicPr/>
          <p:nvPr/>
        </p:nvPicPr>
        <p:blipFill>
          <a:blip r:embed="rId2"/>
          <a:stretch/>
        </p:blipFill>
        <p:spPr>
          <a:xfrm>
            <a:off x="5796000" y="549360"/>
            <a:ext cx="2449440" cy="244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u=1590002511,276332758&amp;fm=0&amp;gp=0"/>
          <p:cNvPicPr/>
          <p:nvPr/>
        </p:nvPicPr>
        <p:blipFill>
          <a:blip r:embed="rId3"/>
          <a:stretch/>
        </p:blipFill>
        <p:spPr>
          <a:xfrm>
            <a:off x="5796000" y="3500280"/>
            <a:ext cx="2448000" cy="2232360"/>
          </a:xfrm>
          <a:prstGeom prst="rect">
            <a:avLst/>
          </a:prstGeom>
          <a:ln w="0">
            <a:noFill/>
          </a:ln>
        </p:spPr>
      </p:pic>
      <p:sp>
        <p:nvSpPr>
          <p:cNvPr id="55" name="Oval 7"/>
          <p:cNvSpPr/>
          <p:nvPr/>
        </p:nvSpPr>
        <p:spPr>
          <a:xfrm flipH="1">
            <a:off x="1835280" y="2421000"/>
            <a:ext cx="1015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8"/>
          <p:cNvSpPr/>
          <p:nvPr/>
        </p:nvSpPr>
        <p:spPr>
          <a:xfrm flipH="1">
            <a:off x="2195640" y="2421000"/>
            <a:ext cx="1015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 flipH="1">
            <a:off x="2556000" y="2421000"/>
            <a:ext cx="1015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 flipH="1">
            <a:off x="826200" y="5013360"/>
            <a:ext cx="1018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 flipH="1">
            <a:off x="4572000" y="4724280"/>
            <a:ext cx="1015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/>
          <p:cNvSpPr/>
          <p:nvPr/>
        </p:nvSpPr>
        <p:spPr>
          <a:xfrm flipH="1">
            <a:off x="4859280" y="4724280"/>
            <a:ext cx="1015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_imgload"/>
          <p:cNvPicPr/>
          <p:nvPr/>
        </p:nvPicPr>
        <p:blipFill>
          <a:blip r:embed="rId1"/>
          <a:stretch/>
        </p:blipFill>
        <p:spPr>
          <a:xfrm>
            <a:off x="0" y="-531720"/>
            <a:ext cx="9468000" cy="761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dfe72811566189bbc3e1e94"/>
          <p:cNvPicPr/>
          <p:nvPr/>
        </p:nvPicPr>
        <p:blipFill>
          <a:blip r:embed="rId2"/>
          <a:stretch/>
        </p:blipFill>
        <p:spPr>
          <a:xfrm>
            <a:off x="5796000" y="549360"/>
            <a:ext cx="2449440" cy="244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u=1590002511,276332758&amp;fm=0&amp;gp=0"/>
          <p:cNvPicPr/>
          <p:nvPr/>
        </p:nvPicPr>
        <p:blipFill>
          <a:blip r:embed="rId3"/>
          <a:stretch/>
        </p:blipFill>
        <p:spPr>
          <a:xfrm>
            <a:off x="5796000" y="3500280"/>
            <a:ext cx="2448000" cy="2232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755640" y="126288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扁鹊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的病已经发展到皮肉之间了，要不治还会加深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6"/>
          <p:cNvSpPr/>
          <p:nvPr/>
        </p:nvSpPr>
        <p:spPr>
          <a:xfrm flipH="1">
            <a:off x="4500720" y="1700280"/>
            <a:ext cx="1015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 flipH="1">
            <a:off x="4859280" y="1700280"/>
            <a:ext cx="1015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2752560" y="4148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蔡桓公很不高兴，没有理睬扁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 flipH="1">
            <a:off x="1692360" y="4724280"/>
            <a:ext cx="1015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 flipH="1">
            <a:off x="1979640" y="4724280"/>
            <a:ext cx="1015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7320" y="649440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_imgload"/>
          <p:cNvPicPr/>
          <p:nvPr/>
        </p:nvPicPr>
        <p:blipFill>
          <a:blip r:embed="rId1"/>
          <a:stretch/>
        </p:blipFill>
        <p:spPr>
          <a:xfrm>
            <a:off x="0" y="-316080"/>
            <a:ext cx="9468000" cy="7618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539640" y="198360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扁鹊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的病已经发展到肠胃里，再不治会更加严重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3924360" y="2492280"/>
            <a:ext cx="114120" cy="100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3564000" y="2492280"/>
            <a:ext cx="114120" cy="100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3203640" y="2492280"/>
            <a:ext cx="114120" cy="100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341800" y="4508280"/>
            <a:ext cx="3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蔡桓公非常不高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u=1590002511,276332758&amp;fm=0&amp;gp=0"/>
          <p:cNvPicPr/>
          <p:nvPr/>
        </p:nvPicPr>
        <p:blipFill>
          <a:blip r:embed="rId2"/>
          <a:stretch/>
        </p:blipFill>
        <p:spPr>
          <a:xfrm>
            <a:off x="5580000" y="3860640"/>
            <a:ext cx="2448000" cy="223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cdfe72811566189bbc3e1e94"/>
          <p:cNvPicPr/>
          <p:nvPr/>
        </p:nvPicPr>
        <p:blipFill>
          <a:blip r:embed="rId3"/>
          <a:stretch/>
        </p:blipFill>
        <p:spPr>
          <a:xfrm>
            <a:off x="5796000" y="692280"/>
            <a:ext cx="2449440" cy="2447640"/>
          </a:xfrm>
          <a:prstGeom prst="rect">
            <a:avLst/>
          </a:prstGeom>
          <a:ln w="0">
            <a:noFill/>
          </a:ln>
        </p:spPr>
      </p:pic>
      <p:sp>
        <p:nvSpPr>
          <p:cNvPr id="79" name="Oval 10"/>
          <p:cNvSpPr/>
          <p:nvPr/>
        </p:nvSpPr>
        <p:spPr>
          <a:xfrm>
            <a:off x="2124000" y="5157720"/>
            <a:ext cx="114480" cy="100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2484360" y="5157720"/>
            <a:ext cx="114480" cy="100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2"/>
          <p:cNvSpPr/>
          <p:nvPr/>
        </p:nvSpPr>
        <p:spPr>
          <a:xfrm>
            <a:off x="2843280" y="5157720"/>
            <a:ext cx="114120" cy="100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_imgload"/>
          <p:cNvPicPr/>
          <p:nvPr/>
        </p:nvPicPr>
        <p:blipFill>
          <a:blip r:embed="rId1"/>
          <a:stretch/>
        </p:blipFill>
        <p:spPr>
          <a:xfrm>
            <a:off x="0" y="-387360"/>
            <a:ext cx="9468000" cy="7620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1332000" y="177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扁鹊说：“皮肤病用热水敷烫就能够治好；发展到皮肉之间，用扎针的方法可以治好；即使发展到肠胃里，服几剂汤药也还能治好；一旦深入骨髓，只能等死，医生再也无能为力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140360" y="177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皮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435640" y="2349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皮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268360" y="3429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肠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537080" y="3968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_imgload"/>
          <p:cNvPicPr/>
          <p:nvPr/>
        </p:nvPicPr>
        <p:blipFill>
          <a:blip r:embed="rId1"/>
          <a:stretch/>
        </p:blipFill>
        <p:spPr>
          <a:xfrm>
            <a:off x="0" y="-316080"/>
            <a:ext cx="9468000" cy="76186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900000" y="981000"/>
            <a:ext cx="7705800" cy="21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. 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布置，铺开，摆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涂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. 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足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皮肤病用热水敷烫就能够治好；发展到皮肉之间，用扎针的方法可以治好；即使发展到肠胃里，服几剂汤药也还能治好；一旦深入骨髓，只能等死，医生再也无能为力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635280" y="2997000"/>
            <a:ext cx="1728720" cy="360"/>
            <a:chOff x="3635280" y="2997000"/>
            <a:chExt cx="1728720" cy="360"/>
          </a:xfrm>
        </p:grpSpPr>
        <p:sp>
          <p:nvSpPr>
            <p:cNvPr id="91" name="Line 4"/>
            <p:cNvSpPr/>
            <p:nvPr/>
          </p:nvSpPr>
          <p:spPr>
            <a:xfrm>
              <a:off x="3635280" y="2997360"/>
              <a:ext cx="1728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 rot="10800000">
              <a:off x="3635280" y="2997000"/>
              <a:ext cx="172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732720" y="3716280"/>
            <a:ext cx="720720" cy="1800"/>
            <a:chOff x="6732720" y="3716280"/>
            <a:chExt cx="720720" cy="1800"/>
          </a:xfrm>
        </p:grpSpPr>
        <p:sp>
          <p:nvSpPr>
            <p:cNvPr id="94" name="Line 5"/>
            <p:cNvSpPr/>
            <p:nvPr/>
          </p:nvSpPr>
          <p:spPr>
            <a:xfrm>
              <a:off x="6732720" y="3716280"/>
              <a:ext cx="72072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6732720" y="3716280"/>
              <a:ext cx="720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050920" y="4869000"/>
            <a:ext cx="2376720" cy="1440"/>
            <a:chOff x="2050920" y="4869000"/>
            <a:chExt cx="2376720" cy="1440"/>
          </a:xfrm>
        </p:grpSpPr>
        <p:sp>
          <p:nvSpPr>
            <p:cNvPr id="97" name="Line 6"/>
            <p:cNvSpPr/>
            <p:nvPr/>
          </p:nvSpPr>
          <p:spPr>
            <a:xfrm>
              <a:off x="2050920" y="4869000"/>
              <a:ext cx="2376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2050920" y="4869000"/>
              <a:ext cx="2376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140360" y="5516640"/>
            <a:ext cx="1942920" cy="1440"/>
            <a:chOff x="4140360" y="5516640"/>
            <a:chExt cx="1942920" cy="1440"/>
          </a:xfrm>
        </p:grpSpPr>
        <p:sp>
          <p:nvSpPr>
            <p:cNvPr id="100" name="Line 7"/>
            <p:cNvSpPr/>
            <p:nvPr/>
          </p:nvSpPr>
          <p:spPr>
            <a:xfrm>
              <a:off x="4140360" y="5516640"/>
              <a:ext cx="19429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4140360" y="5516640"/>
              <a:ext cx="1942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8"/>
          <p:cNvSpPr/>
          <p:nvPr/>
        </p:nvSpPr>
        <p:spPr>
          <a:xfrm>
            <a:off x="4460040" y="234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图片1"/>
          <p:cNvPicPr/>
          <p:nvPr/>
        </p:nvPicPr>
        <p:blipFill>
          <a:blip r:embed="rId1"/>
          <a:stretch/>
        </p:blipFill>
        <p:spPr>
          <a:xfrm>
            <a:off x="468360" y="189000"/>
            <a:ext cx="8675640" cy="6669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1187280" y="1341360"/>
            <a:ext cx="6336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扁鹊专用诊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患者：                日期 ：                       症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蔡桓公                                                   皮肤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皮肉之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肠胃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深入骨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浑身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病死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07:05:00Z</dcterms:created>
  <dc:creator/>
  <dc:description/>
  <cp:keywords>幻灯片之家 http:/www.eeppt.com</cp:keywords>
  <dc:language>en-US</dc:language>
  <cp:lastModifiedBy/>
  <dcterms:modified xsi:type="dcterms:W3CDTF">2015-07-19T02:53:2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