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7.gif" ContentType="image/gif"/>
  <Override PartName="/ppt/media/image5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66F-4934-4CF4-B7A9-539B26DA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44E-375B-4645-9D4D-36EB3C8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237-1C85-4803-B64C-B6F9C028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E22-0F7B-4E26-9B55-E78D7F2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F79-8564-480F-9B45-F6F8D7F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6E6-0E10-4770-9672-7ECC12B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750-4E61-4D94-B2E6-AD2749F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E4E-2429-4072-B555-C8813EA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3E5-618E-4399-AA9D-BDFAAD87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E1A-3E76-43F9-8E60-32AE8CE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DBA-4331-42DF-A825-F4EBF39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914-9405-4681-AACB-ABDB4C7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0CD-2AA2-4EB2-9502-E77807FDC530}" type="slidenum"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866400" y="1486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比尾巴大赛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638360" y="2133720"/>
            <a:ext cx="5753160" cy="398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438640" cy="652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067280" y="1415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编儿歌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5791320" cy="415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556000" y="458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3" name="Picture 2" descr="小学语文（散文）02-1"/>
          <p:cNvPicPr/>
          <p:nvPr/>
        </p:nvPicPr>
        <p:blipFill>
          <a:blip r:embed="rId16"/>
          <a:stretch/>
        </p:blipFill>
        <p:spPr>
          <a:xfrm>
            <a:off x="1028880" y="1027080"/>
            <a:ext cx="251460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98484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动物王国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7"/>
          <a:stretch/>
        </p:blipFill>
        <p:spPr>
          <a:xfrm>
            <a:off x="1581120" y="2057400"/>
            <a:ext cx="582948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（散文）02-1"/>
          <p:cNvPicPr/>
          <p:nvPr/>
        </p:nvPicPr>
        <p:blipFill>
          <a:blip r:embed="rId2"/>
          <a:stretch/>
        </p:blipFill>
        <p:spPr>
          <a:xfrm>
            <a:off x="1028880" y="1008000"/>
            <a:ext cx="2514600" cy="68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86200" y="1219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000520" y="1600200"/>
            <a:ext cx="444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红花头上戴，彩衣不用裁，清晨唱只歌，千门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万户开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49480" y="2590920"/>
            <a:ext cx="4447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脚像小扇子，嘴像小铲子，下水捉鱼虾，不湿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花褂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93920" y="36576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耳朵长，尾巴短，只吃菜，不吃饭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21240" y="42670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脑袋聪明，手脚灵巧，喜欢爬树，最爱吃桃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43440" y="4822920"/>
            <a:ext cx="444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花冠头上戴，锦袍披身上，尾巴像扇子，展开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很漂亮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566080" y="5867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老鼠，真奇怪，降落伞，随身带。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4" name="Picture 11" descr="公鸡"/>
          <p:cNvPicPr/>
          <p:nvPr/>
        </p:nvPicPr>
        <p:blipFill>
          <a:blip r:embed="rId3"/>
          <a:stretch/>
        </p:blipFill>
        <p:spPr>
          <a:xfrm>
            <a:off x="7391520" y="1828800"/>
            <a:ext cx="777600" cy="86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鸭"/>
          <p:cNvPicPr/>
          <p:nvPr/>
        </p:nvPicPr>
        <p:blipFill>
          <a:blip r:embed="rId4"/>
          <a:stretch/>
        </p:blipFill>
        <p:spPr>
          <a:xfrm>
            <a:off x="7620120" y="2743200"/>
            <a:ext cx="1371600" cy="5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兔子"/>
          <p:cNvPicPr/>
          <p:nvPr/>
        </p:nvPicPr>
        <p:blipFill>
          <a:blip r:embed="rId5"/>
          <a:stretch/>
        </p:blipFill>
        <p:spPr>
          <a:xfrm>
            <a:off x="6095880" y="2895480"/>
            <a:ext cx="1543320" cy="14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猴子"/>
          <p:cNvPicPr/>
          <p:nvPr/>
        </p:nvPicPr>
        <p:blipFill>
          <a:blip r:embed="rId6"/>
          <a:stretch/>
        </p:blipFill>
        <p:spPr>
          <a:xfrm>
            <a:off x="7696080" y="3962520"/>
            <a:ext cx="60984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aaa0001"/>
          <p:cNvPicPr/>
          <p:nvPr/>
        </p:nvPicPr>
        <p:blipFill>
          <a:blip r:embed="rId7"/>
          <a:stretch/>
        </p:blipFill>
        <p:spPr>
          <a:xfrm>
            <a:off x="7696080" y="4648320"/>
            <a:ext cx="129564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松鼠"/>
          <p:cNvPicPr/>
          <p:nvPr/>
        </p:nvPicPr>
        <p:blipFill>
          <a:blip r:embed="rId8"/>
          <a:stretch/>
        </p:blipFill>
        <p:spPr>
          <a:xfrm>
            <a:off x="6553080" y="5486400"/>
            <a:ext cx="99072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图片1"/>
          <p:cNvPicPr/>
          <p:nvPr/>
        </p:nvPicPr>
        <p:blipFill>
          <a:blip r:embed="rId3"/>
          <a:stretch/>
        </p:blipFill>
        <p:spPr>
          <a:xfrm>
            <a:off x="1258920" y="1628640"/>
            <a:ext cx="6632640" cy="460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79200" y="1452600"/>
            <a:ext cx="776988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ch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长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u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短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y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好    像  一 把   伞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-22320" y="1574640"/>
            <a:ext cx="9171360" cy="367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ó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u zi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ch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猴  子 的 尾   巴  长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t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ù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i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u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?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兔 子  的 尾   巴  短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s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ǔ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y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b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s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?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松    鼠   的 尾   巴 好    像  一 把   伞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977400" y="1452600"/>
            <a:ext cx="795276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弯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i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 扁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sh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k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谁   的 尾   巴 好    像   最  好  看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990720" y="1066680"/>
            <a:ext cx="2666880" cy="546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比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5520" y="1596960"/>
            <a:ext cx="9064800" cy="36774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j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ī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公   鸡   的 尾   巴  弯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zi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bi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鸭 子  的 尾   巴  扁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3300"/>
                </a:solidFill>
                <a:latin typeface="Century Gothic"/>
              </a:rPr>
              <a:t>ǒ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q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è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de w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ě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i b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zu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h</a:t>
            </a:r>
            <a:r>
              <a:rPr b="1" lang="en-US" sz="2800" spc="-1" strike="noStrike">
                <a:solidFill>
                  <a:srgbClr val="003300"/>
                </a:solidFill>
                <a:latin typeface="Century Gothic"/>
              </a:rPr>
              <a:t>ǎ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o k</a:t>
            </a:r>
            <a:r>
              <a:rPr b="1" lang="en-US" sz="2400" spc="-1" strike="noStrike">
                <a:solidFill>
                  <a:srgbClr val="00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孔    雀   的 尾   巴 好    像   最  好  看？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8DB-342B-40F1-965A-EDF59DCF7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33Z</dcterms:created>
  <dc:creator/>
  <dc:description/>
  <cp:keywords>幻灯片之家 http:/www.eeppt.com</cp:keywords>
  <dc:language>en-US</dc:language>
  <cp:lastModifiedBy/>
  <dcterms:modified xsi:type="dcterms:W3CDTF">2015-07-18T15:37:24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