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852-DB4E-4EA0-B9DE-3FB09ACC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1F6-67C6-4627-96B9-A81155FF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CF6-B252-4767-89DD-1A48546D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D0C-67A8-4FB7-82F9-3459F593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141-0CDF-46A5-A228-7D962CC6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29D-FA73-452A-9E7C-08B3D96A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3FA-D94E-47BC-854E-D98E9B4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A76-EF26-4C58-8481-3803ED0F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32E-A837-4A63-9EDD-C33DCA3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089-DA4C-427F-88B6-0316120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BA9-2AE2-44C4-969E-6D3A729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B98-88E9-4E2C-8AAB-9B1E11B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C828-15E3-48D6-892F-C253B716360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31"/>
          <p:cNvSpPr/>
          <p:nvPr/>
        </p:nvSpPr>
        <p:spPr>
          <a:xfrm>
            <a:off x="4253760" y="4221000"/>
            <a:ext cx="1399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康体简体"/>
                <a:ea typeface="方正康体简体"/>
              </a:rPr>
              <a:t>余秋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2779560"/>
            <a:ext cx="3897360" cy="352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09400" y="177336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信客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7"/>
          <p:cNvSpPr/>
          <p:nvPr/>
        </p:nvSpPr>
        <p:spPr>
          <a:xfrm>
            <a:off x="684360" y="40464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七嘴八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28600" y="1447920"/>
            <a:ext cx="868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喜欢信客吗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诚信无私、任劳任怨、待人宽容、洁身自好、恪尽职守、善良厚道等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4000" y="32130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21" descr="woman_teacher_blackboard_md_wht"/>
          <p:cNvPicPr/>
          <p:nvPr/>
        </p:nvPicPr>
        <p:blipFill>
          <a:blip r:embed="rId1"/>
          <a:stretch/>
        </p:blipFill>
        <p:spPr>
          <a:xfrm>
            <a:off x="304920" y="5562720"/>
            <a:ext cx="1143000" cy="106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RT_002"/>
          <p:cNvPicPr/>
          <p:nvPr/>
        </p:nvPicPr>
        <p:blipFill>
          <a:blip r:embed="rId2"/>
          <a:stretch/>
        </p:blipFill>
        <p:spPr>
          <a:xfrm>
            <a:off x="7620120" y="5335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3"/>
          <p:cNvSpPr/>
          <p:nvPr/>
        </p:nvSpPr>
        <p:spPr>
          <a:xfrm>
            <a:off x="3691440" y="3213000"/>
            <a:ext cx="17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信客死后，为什么要和老信客葬在一 起？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5280" y="39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因为信客理解老信客，同情他，敬重他，感激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Picture 4" descr="图片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042920" y="13413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87280" y="3141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71640" y="620640"/>
            <a:ext cx="7705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信客为他人付出了很多，自己却落得遭人误解，饱受委屈，按现代某些价值观衡量，似乎很不划算。你认为他这样做傻不傻？假如让你选择，你会当信客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9" descr="B09AAE05DBE37BB77058CEF199965422"/>
          <p:cNvPicPr/>
          <p:nvPr/>
        </p:nvPicPr>
        <p:blipFill>
          <a:blip r:embed="rId3"/>
          <a:stretch/>
        </p:blipFill>
        <p:spPr>
          <a:xfrm>
            <a:off x="3851280" y="5013360"/>
            <a:ext cx="158436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1280" y="1700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我们的生活中，你有没有发现像信客一样默默奉献着而又处在社会下层的平凡人？请举一两例，并谈一谈我们应该如何对待他们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611280" y="189000"/>
            <a:ext cx="28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找“信客”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90000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试一试，发挥你的最大潜能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客死后，有很多人来吊唁，假如你就是其中一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为信客撰写墓志铭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提示：墓志铭就是对死者生平事迹或品质的概述，语言力求简洁、通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62120" y="6858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4" descr="图片10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050920" y="2565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支蜡烛，奉献默默，一生之中，忍辱负重，光芒四射，蜡烛已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332000" y="1052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好人终有好报。愿你的灵魂在地下安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我尊敬的人呐，你辛苦啦，歇一歇吧，我会日日为你祈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5373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</a:t>
            </a:r>
            <a:r>
              <a:rPr b="0" lang="en-US" sz="20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t课件模板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042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走出课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联系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体验反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6560" y="1916280"/>
            <a:ext cx="86774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信客，作为一种职业已经消失了，而作为一辈子默默奉献的一类人，却没有绝迹，也不会绝迹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诚信永是做人之本，请结合现实生活和自己的经历，谈谈你对诚信的理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23880" y="5105520"/>
            <a:ext cx="68421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宋体"/>
              </a:rPr>
              <a:t>聆听你的心声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诚信是我们做人的基本原则，人、群体、社会是不可以不讲诚信的，诚信是我们这个世界得以支撑到今天的基石之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为新一代的学生，我们必须努力做到事事讲诚信，时时讲诚信。让诚信伴我们行天下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979640" y="1052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余秋雨先生的散文语言很有特色，请在笔记本摘抄出你认为精彩的语句，并简要说说它的美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WordArt 7"/>
          <p:cNvSpPr txBox="1"/>
          <p:nvPr/>
        </p:nvSpPr>
        <p:spPr>
          <a:xfrm rot="660600">
            <a:off x="324000" y="188640"/>
            <a:ext cx="158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2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2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258920" y="2565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联络一位朋友或亲人你会采用什么方法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39640" y="54936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前调查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" name="Picture 6" descr="BD14790_"/>
          <p:cNvPicPr/>
          <p:nvPr/>
        </p:nvPicPr>
        <p:blipFill>
          <a:blip r:embed="rId2"/>
          <a:stretch/>
        </p:blipFill>
        <p:spPr>
          <a:xfrm>
            <a:off x="687708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BD14752_"/>
          <p:cNvPicPr/>
          <p:nvPr/>
        </p:nvPicPr>
        <p:blipFill>
          <a:blip r:embed="rId3"/>
          <a:stretch/>
        </p:blipFill>
        <p:spPr>
          <a:xfrm>
            <a:off x="4859280" y="692280"/>
            <a:ext cx="719280" cy="79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D14794_"/>
          <p:cNvPicPr/>
          <p:nvPr/>
        </p:nvPicPr>
        <p:blipFill>
          <a:blip r:embed="rId4"/>
          <a:stretch/>
        </p:blipFill>
        <p:spPr>
          <a:xfrm>
            <a:off x="395280" y="227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BD14795_"/>
          <p:cNvPicPr/>
          <p:nvPr/>
        </p:nvPicPr>
        <p:blipFill>
          <a:blip r:embed="rId5"/>
          <a:stretch/>
        </p:blipFill>
        <p:spPr>
          <a:xfrm>
            <a:off x="421164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D14791_"/>
          <p:cNvPicPr/>
          <p:nvPr/>
        </p:nvPicPr>
        <p:blipFill>
          <a:blip r:embed="rId6"/>
          <a:stretch/>
        </p:blipFill>
        <p:spPr>
          <a:xfrm>
            <a:off x="611280" y="566100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D14790_"/>
          <p:cNvPicPr/>
          <p:nvPr/>
        </p:nvPicPr>
        <p:blipFill>
          <a:blip r:embed="rId7"/>
          <a:stretch/>
        </p:blipFill>
        <p:spPr>
          <a:xfrm>
            <a:off x="8028000" y="573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D14792_"/>
          <p:cNvPicPr/>
          <p:nvPr/>
        </p:nvPicPr>
        <p:blipFill>
          <a:blip r:embed="rId8"/>
          <a:stretch/>
        </p:blipFill>
        <p:spPr>
          <a:xfrm>
            <a:off x="1116000" y="260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图片112"/>
          <p:cNvPicPr/>
          <p:nvPr/>
        </p:nvPicPr>
        <p:blipFill>
          <a:blip r:embed="rId9"/>
          <a:stretch/>
        </p:blipFill>
        <p:spPr>
          <a:xfrm>
            <a:off x="7093080" y="260280"/>
            <a:ext cx="116352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1E6-6DCA-47A0-B8F9-3805627A7456}" type="slidenum">
              <a:t>3</a:t>
            </a:fld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2290680" y="3048120"/>
            <a:ext cx="1633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042920" y="1916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知识与技能：了解信客这种职业的特点，体会信客的为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过程与方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整体把握内容了解信客的“信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围绕“诚信”进行口语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情感、态度和价值观：树立诚信为本的做人理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916360" y="69228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2"/>
          <p:cNvSpPr/>
          <p:nvPr/>
        </p:nvSpPr>
        <p:spPr>
          <a:xfrm>
            <a:off x="5796000" y="5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6804000" y="4869000"/>
            <a:ext cx="2016000" cy="1296720"/>
          </a:xfrm>
          <a:custGeom>
            <a:avLst/>
            <a:gdLst>
              <a:gd name="textAreaLeft" fmla="*/ 504000 w 2016000"/>
              <a:gd name="textAreaRight" fmla="*/ 1512000 w 2016000"/>
              <a:gd name="textAreaTop" fmla="*/ 0 h 1296720"/>
              <a:gd name="textAreaBottom" fmla="*/ 1134720 h 129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余秋雨的主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" name="Picture 13" descr="余作2"/>
          <p:cNvPicPr/>
          <p:nvPr/>
        </p:nvPicPr>
        <p:blipFill>
          <a:blip r:embed="rId2"/>
          <a:stretch/>
        </p:blipFill>
        <p:spPr>
          <a:xfrm>
            <a:off x="3419640" y="4437000"/>
            <a:ext cx="154440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余作3"/>
          <p:cNvPicPr/>
          <p:nvPr/>
        </p:nvPicPr>
        <p:blipFill>
          <a:blip r:embed="rId3"/>
          <a:stretch/>
        </p:blipFill>
        <p:spPr>
          <a:xfrm>
            <a:off x="250920" y="4437000"/>
            <a:ext cx="1512720" cy="20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余作5"/>
          <p:cNvPicPr/>
          <p:nvPr/>
        </p:nvPicPr>
        <p:blipFill>
          <a:blip r:embed="rId4"/>
          <a:stretch/>
        </p:blipFill>
        <p:spPr>
          <a:xfrm>
            <a:off x="183528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走近作者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8" name="Picture 7" descr="余作1"/>
          <p:cNvPicPr/>
          <p:nvPr/>
        </p:nvPicPr>
        <p:blipFill>
          <a:blip r:embed="rId5"/>
          <a:stretch/>
        </p:blipFill>
        <p:spPr>
          <a:xfrm>
            <a:off x="507672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余秋雨，生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4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，浙江余姚人，我国当代著名艺术理论家、文化史学者、散文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主要作品有《文化苦旅》、《山居笔记》、《千年一叹》、《行者无疆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0" name="Picture 18" descr="U3P112T22D2250F829DT20031202131228"/>
          <p:cNvPicPr/>
          <p:nvPr/>
        </p:nvPicPr>
        <p:blipFill>
          <a:blip r:embed="rId6"/>
          <a:stretch/>
        </p:blipFill>
        <p:spPr>
          <a:xfrm>
            <a:off x="5513400" y="0"/>
            <a:ext cx="36306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2776680" y="8049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会读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11280" y="1628640"/>
            <a:ext cx="655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   ）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è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耗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猝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然（    ）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jì liǎng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昏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厥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连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uò nuò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绉绉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）    颠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èi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吊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唁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焦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zhu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诘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问（    ）           时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áo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197080" y="16495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íd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140720" y="164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981080" y="2082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509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伎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10160" y="26575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6589080" y="265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诺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331720" y="3090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hō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22180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836720" y="35942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72508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909800" y="417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5582160" y="416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19" descr="gif002"/>
          <p:cNvPicPr/>
          <p:nvPr/>
        </p:nvPicPr>
        <p:blipFill>
          <a:blip r:embed="rId2"/>
          <a:stretch/>
        </p:blipFill>
        <p:spPr>
          <a:xfrm>
            <a:off x="8101080" y="18900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01268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信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356000" y="260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是一种私人职业，不受任何机构管理。这个地方外出谋生的人多了，少不了要带几封平安家信、带一点衣物食品的，方圆几十里又没有邮局，那就用得着信客了。信客要有一点文化，知道各大码头的情形，还要一副强健的筋骨，背得动重重的行李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为远行者们效力，自己却是最困苦的远行者。一身破衣旧衫，满脸风尘， 状如乞丐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333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走进课文——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187280" y="1413000"/>
            <a:ext cx="635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信客的工作量大吗？你对这份工作的初步印象是怎样的？能用一个字来概括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种“苦”从哪里体现出来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564000" y="3429000"/>
            <a:ext cx="1150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68360" y="2060640"/>
            <a:ext cx="220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信客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苦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771640" y="1700280"/>
            <a:ext cx="71640" cy="2592360"/>
          </a:xfrm>
          <a:custGeom>
            <a:avLst/>
            <a:gdLst>
              <a:gd name="textAreaLeft" fmla="*/ 45720 w 71640"/>
              <a:gd name="textAreaRight" fmla="*/ 72000 w 7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132000" y="1557360"/>
            <a:ext cx="47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劳苦：终年跋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055400" y="22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贫苦：收入微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987640" y="2997360"/>
            <a:ext cx="8393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灵痛苦：蒙受怀疑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欺凌、憎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07:00Z</dcterms:created>
  <dc:creator/>
  <dc:description/>
  <cp:keywords>幻灯片之家 http:/www.eeppt.com</cp:keywords>
  <dc:language>en-US</dc:language>
  <cp:lastModifiedBy/>
  <dcterms:modified xsi:type="dcterms:W3CDTF">2015-07-04T11:58:00Z</dcterms:modified>
  <cp:revision>1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2</vt:r8>
  </property>
</Properties>
</file>