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91D-43FE-402E-A4F5-C4F834EE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B0D-002E-4B13-B2A0-C292B23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25E-4953-481B-ABA5-AAC9D755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5EE-031C-42D5-BE1A-FA71869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2F1-1B20-4685-AB56-D3DDE75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16E-7A24-4698-9E44-F548034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8CF-5E7D-4C83-85CC-B95B503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CD0-5CCE-407C-AAEC-F9812220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132-EFD9-450E-95F9-42FCDF6F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3A2-3F76-432E-8549-C06F102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1FB-61C6-4F1B-B934-93DC5B7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3D8-B698-4F73-83A8-2B6DB95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264-0711-41FE-90E7-F9555198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44000" cy="5359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42600" y="914400"/>
            <a:ext cx="13993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1.MP3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70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440" y="981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春酒》课件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1">
            <a:lum bright="70000" contrast="-70000"/>
          </a:blip>
          <a:srcRect l="15239" t="16883" r="14285" b="12990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4267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4952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092480" y="10666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琦  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589480" y="3036960"/>
            <a:ext cx="460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现当代著名女作家。原名潘希真，浙江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194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年赴台，在司法部门工作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年。曾任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文化学院，中央大学中文系教授。后定居美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是从散文开始自己的写作生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出版了散文集，小说集及儿童文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余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代表作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橘子红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七月的哀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 《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菁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《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琦君寄小读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5800" y="5791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是一个活在童年里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E8C-BC1F-499C-B847-5EDF4E73F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28"/>
          <p:cNvSpPr/>
          <p:nvPr/>
        </p:nvSpPr>
        <p:spPr>
          <a:xfrm>
            <a:off x="2666880" y="1258920"/>
            <a:ext cx="4572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春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29"/>
          <p:cNvSpPr/>
          <p:nvPr/>
        </p:nvSpPr>
        <p:spPr>
          <a:xfrm>
            <a:off x="1042920" y="3168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诗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十月获稻，为此春酒。为此春酒，以介眉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30"/>
          <p:cNvSpPr/>
          <p:nvPr/>
        </p:nvSpPr>
        <p:spPr>
          <a:xfrm>
            <a:off x="3042360" y="373392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曹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曾将家乡亳州产的“九坛春酒”进献给汉献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3"/>
          <p:cNvSpPr/>
          <p:nvPr/>
        </p:nvSpPr>
        <p:spPr>
          <a:xfrm>
            <a:off x="3681000" y="573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关 于 春 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34"/>
          <p:cNvSpPr/>
          <p:nvPr/>
        </p:nvSpPr>
        <p:spPr>
          <a:xfrm>
            <a:off x="3657600" y="171612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6"/>
          <p:cNvSpPr/>
          <p:nvPr/>
        </p:nvSpPr>
        <p:spPr>
          <a:xfrm>
            <a:off x="4604040" y="20210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节时走家串户用来待客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7"/>
          <p:cNvSpPr/>
          <p:nvPr/>
        </p:nvSpPr>
        <p:spPr>
          <a:xfrm>
            <a:off x="2887560" y="436572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雒难县志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·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民俗</a:t>
            </a: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ＣＳ"/>
                <a:ea typeface="楷体ＣＳ"/>
              </a:rPr>
              <a:t>立春之日，人饮春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9"/>
          <p:cNvSpPr/>
          <p:nvPr/>
        </p:nvSpPr>
        <p:spPr>
          <a:xfrm>
            <a:off x="3178080" y="4890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山西民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人饮春酒，春官鞭春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40"/>
          <p:cNvSpPr/>
          <p:nvPr/>
        </p:nvSpPr>
        <p:spPr>
          <a:xfrm>
            <a:off x="9907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喝春酒是从古至今一直流传的为了使春节更加欢庆的一种民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41"/>
          <p:cNvSpPr/>
          <p:nvPr/>
        </p:nvSpPr>
        <p:spPr>
          <a:xfrm>
            <a:off x="4177440" y="1487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正月所酿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43"/>
          <p:cNvSpPr/>
          <p:nvPr/>
        </p:nvSpPr>
        <p:spPr>
          <a:xfrm>
            <a:off x="50306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八宝酒是其中的一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666880" y="1258920"/>
            <a:ext cx="4572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春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42920" y="3168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诗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十月获稻，为此春酒。为此春酒，以介眉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42360" y="373392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曹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曾将家乡亳州产的“九坛春酒”进献给汉献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681000" y="573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关 于 春 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657600" y="171612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04040" y="20210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节时走家串户用来待客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887560" y="436572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雒难县志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·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民俗</a:t>
            </a: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ＣＳ"/>
                <a:ea typeface="楷体ＣＳ"/>
              </a:rPr>
              <a:t>立春之日，人饮春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178080" y="4890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山西民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人饮春酒，春官鞭春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9907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喝春酒是从古至今一直流传的为了使春节更加欢庆的一种民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177440" y="1487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正月所酿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0306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八宝酒是其中的一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2239560" y="266688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同学们找到课文中你最喜欢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出来并且说出你喜欢它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3"/>
          <p:cNvSpPr/>
          <p:nvPr/>
        </p:nvSpPr>
        <p:spPr>
          <a:xfrm>
            <a:off x="1455120" y="847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隶书"/>
              </a:rPr>
              <a:t>品读文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28"/>
          <p:cNvSpPr/>
          <p:nvPr/>
        </p:nvSpPr>
        <p:spPr>
          <a:xfrm>
            <a:off x="2362320" y="1295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30"/>
          <p:cNvSpPr/>
          <p:nvPr/>
        </p:nvSpPr>
        <p:spPr>
          <a:xfrm>
            <a:off x="251460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31"/>
          <p:cNvSpPr/>
          <p:nvPr/>
        </p:nvSpPr>
        <p:spPr>
          <a:xfrm>
            <a:off x="2514600" y="3048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32"/>
          <p:cNvSpPr/>
          <p:nvPr/>
        </p:nvSpPr>
        <p:spPr>
          <a:xfrm>
            <a:off x="533520" y="4402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33"/>
          <p:cNvSpPr/>
          <p:nvPr/>
        </p:nvSpPr>
        <p:spPr>
          <a:xfrm>
            <a:off x="533520" y="4876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4"/>
          <p:cNvSpPr/>
          <p:nvPr/>
        </p:nvSpPr>
        <p:spPr>
          <a:xfrm>
            <a:off x="2133720" y="3557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36"/>
          <p:cNvSpPr/>
          <p:nvPr/>
        </p:nvSpPr>
        <p:spPr>
          <a:xfrm>
            <a:off x="1981080" y="1295280"/>
            <a:ext cx="91440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来到台湾，此心如无根的浮萍，没有了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落，对家乡的苦念，也就与日俱增了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里想，梦里思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楷体Ｃ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昨夜梦魂又飞归故里，躺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双亲的墓园中，拥吻着绿茵覆盖的芬芳泥土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望着悠悠出岫的白云，多年抑郁的情怀得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暂感舒松，可是短梦醒来，泪水又湿透枕边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美丽的家园啊！它依旧是海天一角，水阔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遥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。（琦君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乡思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）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Ｃ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0"/>
          <p:cNvSpPr/>
          <p:nvPr/>
        </p:nvSpPr>
        <p:spPr>
          <a:xfrm>
            <a:off x="1476360" y="412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1143000" y="106668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举杯邀明月，对饮成三人。（李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明月几时有，把酒问青天。（苏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遥知兄弟登高处，遍插茱萸少一人。（王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143000" y="3917880"/>
            <a:ext cx="9144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母亲，倘若你梦 中看见一只很小的白船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不要 惊讶它无端入梦。这是你挚爱的女儿含着泪叠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万水千山，求它载着她的爱和悲哀归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                                   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（冰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纸船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3000" y="3200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借背影表现了对父亲无限的爱和怀念。（朱自清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背影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》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渔舟唱晚.mp3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27160" y="1752480"/>
            <a:ext cx="801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还知道哪些民俗活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经历过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有哪些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609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讨论活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2:21:32Z</dcterms:created>
  <dc:creator/>
  <dc:description/>
  <cp:keywords>幻灯片之家 http:/www.eeppt.com</cp:keywords>
  <dc:language>en-US</dc:language>
  <cp:lastModifiedBy/>
  <dcterms:modified xsi:type="dcterms:W3CDTF">2015-07-04T07:14:13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