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36A-C500-4416-AFC3-F9B98169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134-BBF2-4240-B744-D22FFFF8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76A-E650-443A-8DC4-14F05C78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881-FB3F-41A8-A874-7DED4C50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5D1-19B3-44C7-B206-60C375B5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BCF-A071-4A23-9391-DCFF5E0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15F-53C3-4A0E-B8B2-6E23E33E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938-CFA2-4FBF-B3BE-4524DA0E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508-3243-45FB-B028-386497BD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A07-86A6-456F-969C-E29EAA5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78D-5F06-4130-BD6A-C0CB4EE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F02-8B9B-4FBA-9FF5-7A69E90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6737-8ED1-4E78-896E-465F7AA6B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ytjl.nease.net/msf/1.ht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r?u=http://www.dzu.edu.cn/bumen/xcb/xxzd/&#27611;&#27901;&#19996;&#20027;&#20041;&#32593;-&#27611;&#20027;&#24109;&#29983;&#24179;-.files/1083.jpg&amp;f=http://www.dzu.edu.cn/bumen/xcb/xxzd/mzd.htm&amp;c=baidu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pring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267240" y="189000"/>
            <a:ext cx="1521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吃水不忘挖井人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课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30200" y="836640"/>
            <a:ext cx="8153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难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忘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挖  井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主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席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领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导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革  命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战  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解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放   立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刻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想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13372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18148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5562720" y="2943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895480" y="2943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28600" y="2895480"/>
            <a:ext cx="609480" cy="1976400"/>
          </a:xfrm>
          <a:custGeom>
            <a:avLst/>
            <a:gdLst>
              <a:gd name="textAreaLeft" fmla="*/ 81360 w 609480"/>
              <a:gd name="textAreaRight" fmla="*/ 528120 w 609480"/>
              <a:gd name="textAreaTop" fmla="*/ 345600 h 1976400"/>
              <a:gd name="textAreaBottom" fmla="*/ 1432800 h 197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8077320" y="1523880"/>
            <a:ext cx="733320" cy="1981440"/>
          </a:xfrm>
          <a:custGeom>
            <a:avLst/>
            <a:gdLst>
              <a:gd name="textAreaLeft" fmla="*/ 98280 w 733320"/>
              <a:gd name="textAreaRight" fmla="*/ 635040 w 73332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590920" y="4467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5410080" y="4467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8410680" y="4419720"/>
            <a:ext cx="504720" cy="2057400"/>
          </a:xfrm>
          <a:custGeom>
            <a:avLst/>
            <a:gdLst>
              <a:gd name="textAreaLeft" fmla="*/ 67320 w 504720"/>
              <a:gd name="textAreaRight" fmla="*/ 437400 w 5047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20968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5410080" y="5867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810480" y="10666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念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009800" y="10666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962760" y="538956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962760" y="24224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4295880" y="24382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导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1238400" y="249876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席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1171440" y="40226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4067280" y="40226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3762360" y="10666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挖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6886440" y="40226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士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990960" y="538956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4"/>
          <p:cNvSpPr/>
          <p:nvPr/>
        </p:nvSpPr>
        <p:spPr>
          <a:xfrm>
            <a:off x="380880" y="5334120"/>
            <a:ext cx="1295640" cy="1295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2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台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口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   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游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革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命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席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席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念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书   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坝。毛主席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552492550734"/>
          <p:cNvPicPr/>
          <p:nvPr/>
        </p:nvPicPr>
        <p:blipFill>
          <a:blip r:embed="rId1"/>
          <a:stretch/>
        </p:blipFill>
        <p:spPr>
          <a:xfrm>
            <a:off x="3962520" y="3276720"/>
            <a:ext cx="4647960" cy="309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l5"/>
          <p:cNvPicPr/>
          <p:nvPr/>
        </p:nvPicPr>
        <p:blipFill>
          <a:blip r:embed="rId2"/>
          <a:stretch/>
        </p:blipFill>
        <p:spPr>
          <a:xfrm>
            <a:off x="304920" y="380880"/>
            <a:ext cx="4800600" cy="3124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867280" y="1157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瑞金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38080" y="443376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沙洲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坝。毛主席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932360" y="5229360"/>
            <a:ext cx="21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5364000" y="5229360"/>
            <a:ext cx="22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洲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毛主席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坝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毛主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64000" y="52293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人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468360" y="404640"/>
            <a:ext cx="763272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是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要挖井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不忘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95280" y="1125360"/>
            <a:ext cx="6553080" cy="2287440"/>
            <a:chOff x="395280" y="1125360"/>
            <a:chExt cx="6553080" cy="2287440"/>
          </a:xfrm>
        </p:grpSpPr>
        <p:sp>
          <p:nvSpPr>
            <p:cNvPr id="103" name="Text Box 3"/>
            <p:cNvSpPr/>
            <p:nvPr/>
          </p:nvSpPr>
          <p:spPr>
            <a:xfrm>
              <a:off x="395280" y="1125360"/>
              <a:ext cx="6553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村子里没有井，吃水要到很远的地方去挑。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毛主席就带领</a:t>
              </a:r>
              <a:r>
                <a:rPr b="1" lang="zh-CN" sz="4800" spc="-1" strike="noStrike">
                  <a:solidFill>
                    <a:srgbClr val="009999"/>
                  </a:solidFill>
                  <a:latin typeface="Times New Roman"/>
                </a:rPr>
                <a:t>战士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和乡亲们挖了一口井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"/>
            <p:cNvSpPr/>
            <p:nvPr/>
          </p:nvSpPr>
          <p:spPr>
            <a:xfrm>
              <a:off x="3635280" y="270792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zh</a:t>
              </a:r>
              <a:r>
                <a:rPr b="1" lang="en-US" sz="4000" spc="-1" strike="noStrike">
                  <a:solidFill>
                    <a:srgbClr val="009999"/>
                  </a:solidFill>
                  <a:latin typeface="宋体"/>
                </a:rPr>
                <a:t>à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n  sh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1128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是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不忘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要挖井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341360"/>
            <a:ext cx="767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村子里没有井，吃水要到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很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地方去挑。毛主席就带领战士和乡亲们挖了一口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482400" y="1428840"/>
            <a:ext cx="762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95280" y="1341360"/>
            <a:ext cx="774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村子里没有井，吃水要到很远的地方去挑。毛主席就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带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战士和乡亲们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了一口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b051894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9280" y="189000"/>
            <a:ext cx="7272360" cy="5715360"/>
            <a:chOff x="179280" y="189000"/>
            <a:chExt cx="7272360" cy="5715360"/>
          </a:xfrm>
        </p:grpSpPr>
        <p:sp>
          <p:nvSpPr>
            <p:cNvPr id="110" name="Text Box 3"/>
            <p:cNvSpPr/>
            <p:nvPr/>
          </p:nvSpPr>
          <p:spPr>
            <a:xfrm>
              <a:off x="179280" y="692280"/>
              <a:ext cx="727236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解放以后，乡亲们在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井旁边立了一块石碑，上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面刻着：“吃水不忘挖井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人，时刻想念毛主席。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476360" y="189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jiě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5148000" y="1629000"/>
              <a:ext cx="1535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bē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828720" y="3043440"/>
              <a:ext cx="122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k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3205080" y="4581720"/>
              <a:ext cx="230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ni</a:t>
              </a:r>
              <a:r>
                <a:rPr b="1" lang="en-US" sz="4000" spc="-1" strike="noStrike">
                  <a:solidFill>
                    <a:srgbClr val="009999"/>
                  </a:solidFill>
                  <a:latin typeface="宋体"/>
                </a:rPr>
                <a:t>à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051894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900000" y="0"/>
            <a:ext cx="62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吃水不忘挖井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时刻想念毛主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692280"/>
            <a:ext cx="727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解放以后，乡亲们在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井旁边立了一块石碑，上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面刻着：“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吃水不忘挖井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人，时刻想念毛主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484280"/>
            <a:ext cx="820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吃水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不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挖井人，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刻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想念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毛主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16000" y="9079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我很想念在北京工作的爸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00000" y="1773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鸟十分想念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00000" y="2852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念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例：沙洲坝的乡亲们时刻想念着毛主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71640" y="198900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我们时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16000" y="3284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刻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533520" y="2209320"/>
            <a:ext cx="3199680" cy="3076200"/>
            <a:chOff x="533520" y="2209320"/>
            <a:chExt cx="3199680" cy="3076200"/>
          </a:xfrm>
        </p:grpSpPr>
        <p:sp>
          <p:nvSpPr>
            <p:cNvPr id="127" name="Rectangle 5"/>
            <p:cNvSpPr/>
            <p:nvPr/>
          </p:nvSpPr>
          <p:spPr>
            <a:xfrm>
              <a:off x="53352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53352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213012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>
            <a:off x="1194120" y="191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4267080" y="2209320"/>
            <a:ext cx="3199680" cy="3076200"/>
            <a:chOff x="4267080" y="2209320"/>
            <a:chExt cx="3199680" cy="3076200"/>
          </a:xfrm>
        </p:grpSpPr>
        <p:sp>
          <p:nvSpPr>
            <p:cNvPr id="132" name="Rectangle 10"/>
            <p:cNvSpPr/>
            <p:nvPr/>
          </p:nvSpPr>
          <p:spPr>
            <a:xfrm>
              <a:off x="42670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2670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 flipV="1">
              <a:off x="58636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3"/>
          <p:cNvSpPr/>
          <p:nvPr/>
        </p:nvSpPr>
        <p:spPr>
          <a:xfrm>
            <a:off x="4500720" y="184464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84360" y="522936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井口  水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井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4427640" y="515772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乡下    乡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家乡    同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371600" y="12952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是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7920" y="3824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不忘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47640" y="24922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毛主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47640" y="5029200"/>
            <a:ext cx="51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沙洲坝的乡亲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7524720" y="5661000"/>
            <a:ext cx="863640" cy="587520"/>
          </a:xfrm>
          <a:custGeom>
            <a:avLst/>
            <a:gdLst>
              <a:gd name="textAreaLeft" fmla="*/ 36720 w 863640"/>
              <a:gd name="textAreaRight" fmla="*/ 826920 w 863640"/>
              <a:gd name="textAreaTop" fmla="*/ 36720 h 587520"/>
              <a:gd name="textAreaBottom" fmla="*/ 550800 h 587520"/>
            </a:gdLst>
            <a:ahLst/>
            <a:rect l="textAreaLeft" t="textAreaTop" r="textAreaRight" b="textAreaBottom"/>
            <a:pathLst>
              <a:path w="31745" h="21600">
                <a:moveTo>
                  <a:pt x="0" y="0"/>
                </a:moveTo>
                <a:lnTo>
                  <a:pt x="31745" y="0"/>
                </a:lnTo>
                <a:lnTo>
                  <a:pt x="31745" y="21600"/>
                </a:lnTo>
                <a:lnTo>
                  <a:pt x="0" y="21600"/>
                </a:lnTo>
                <a:close/>
              </a:path>
              <a:path fill="lightenLess" w="31745" h="21600">
                <a:moveTo>
                  <a:pt x="0" y="0"/>
                </a:moveTo>
                <a:lnTo>
                  <a:pt x="31745" y="0"/>
                </a:lnTo>
                <a:lnTo>
                  <a:pt x="30395" y="1350"/>
                </a:lnTo>
                <a:lnTo>
                  <a:pt x="1350" y="1350"/>
                </a:lnTo>
                <a:close/>
              </a:path>
              <a:path fill="darken" w="31745" h="21600">
                <a:moveTo>
                  <a:pt x="31745" y="0"/>
                </a:moveTo>
                <a:lnTo>
                  <a:pt x="31745" y="21600"/>
                </a:lnTo>
                <a:lnTo>
                  <a:pt x="30395" y="20250"/>
                </a:lnTo>
                <a:lnTo>
                  <a:pt x="30395" y="1350"/>
                </a:lnTo>
                <a:close/>
              </a:path>
              <a:path fill="darkenLess" w="31745" h="21600">
                <a:moveTo>
                  <a:pt x="3174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395" y="20250"/>
                </a:lnTo>
                <a:close/>
              </a:path>
              <a:path fill="lighten" w="3174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457200" y="2209320"/>
            <a:ext cx="3199680" cy="3076200"/>
            <a:chOff x="457200" y="2209320"/>
            <a:chExt cx="3199680" cy="3076200"/>
          </a:xfrm>
        </p:grpSpPr>
        <p:sp>
          <p:nvSpPr>
            <p:cNvPr id="141" name="Rectangle 5"/>
            <p:cNvSpPr/>
            <p:nvPr/>
          </p:nvSpPr>
          <p:spPr>
            <a:xfrm>
              <a:off x="4572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4572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0538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8"/>
          <p:cNvSpPr/>
          <p:nvPr/>
        </p:nvSpPr>
        <p:spPr>
          <a:xfrm>
            <a:off x="1366920" y="19652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4191120" y="2209320"/>
            <a:ext cx="3199680" cy="3076200"/>
            <a:chOff x="4191120" y="2209320"/>
            <a:chExt cx="3199680" cy="3076200"/>
          </a:xfrm>
        </p:grpSpPr>
        <p:sp>
          <p:nvSpPr>
            <p:cNvPr id="146" name="Rectangle 10"/>
            <p:cNvSpPr/>
            <p:nvPr/>
          </p:nvSpPr>
          <p:spPr>
            <a:xfrm>
              <a:off x="419112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19112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V="1">
              <a:off x="578772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3"/>
          <p:cNvSpPr/>
          <p:nvPr/>
        </p:nvSpPr>
        <p:spPr>
          <a:xfrm>
            <a:off x="4427640" y="206064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忘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39640" y="544500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面子  会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211640" y="544500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忘了  不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380880" y="2209320"/>
            <a:ext cx="3199680" cy="3076200"/>
            <a:chOff x="380880" y="2209320"/>
            <a:chExt cx="3199680" cy="3076200"/>
          </a:xfrm>
        </p:grpSpPr>
        <p:sp>
          <p:nvSpPr>
            <p:cNvPr id="155" name="Rectangle 5"/>
            <p:cNvSpPr/>
            <p:nvPr/>
          </p:nvSpPr>
          <p:spPr>
            <a:xfrm>
              <a:off x="3808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3808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V="1">
              <a:off x="19774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194120" y="1844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160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3"/>
          <p:cNvSpPr/>
          <p:nvPr/>
        </p:nvSpPr>
        <p:spPr>
          <a:xfrm>
            <a:off x="4427640" y="205740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84360" y="522936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法   想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211640" y="524196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念头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06280" y="184464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井（      ）     想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开（      ）     念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士（      ）     忘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土（      ）     意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00200" y="2286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187280" y="18446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井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230480" y="2852640"/>
            <a:ext cx="13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开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651640" y="19162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想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796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念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187280" y="3716280"/>
            <a:ext cx="13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187280" y="4710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黄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724360" y="37893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忘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796000" y="465300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心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04920" y="4716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5867280" y="6019920"/>
            <a:ext cx="1295640" cy="457200"/>
          </a:xfrm>
          <a:custGeom>
            <a:avLst/>
            <a:gdLst>
              <a:gd name="textAreaLeft" fmla="*/ 28440 w 1295640"/>
              <a:gd name="textAreaRight" fmla="*/ 1267200 w 12956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830" y="1350"/>
                </a:lnTo>
                <a:lnTo>
                  <a:pt x="1350" y="135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830" y="20250"/>
                </a:lnTo>
                <a:lnTo>
                  <a:pt x="59830" y="135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9830" y="2025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1180" h="21600">
                <a:moveTo>
                  <a:pt x="23546" y="3756"/>
                </a:moveTo>
                <a:lnTo>
                  <a:pt x="37634" y="10800"/>
                </a:lnTo>
                <a:lnTo>
                  <a:pt x="23546" y="1784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下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903240"/>
            <a:ext cx="914400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99"/>
                </a:solidFill>
                <a:latin typeface="华文宋体"/>
                <a:ea typeface="华文宋体"/>
              </a:rPr>
              <a:t>连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曹冲        聪明勇敢救出小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毛主席      善于动脑筋想办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司马光      关心爱护人民群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403280" y="2351160"/>
            <a:ext cx="1224000" cy="706320"/>
          </a:xfrm>
          <a:prstGeom prst="line">
            <a:avLst/>
          </a:prstGeom>
          <a:ln cap="sq"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763640" y="3357720"/>
            <a:ext cx="1152720" cy="70956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1905120" y="2492280"/>
            <a:ext cx="1555560" cy="185112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>
            <a:hlinkClick r:id="" action="ppaction://hlinkshowjump?jump=nextslide"/>
          </p:cNvPr>
          <p:cNvSpPr/>
          <p:nvPr/>
        </p:nvSpPr>
        <p:spPr>
          <a:xfrm>
            <a:off x="7308720" y="6093000"/>
            <a:ext cx="1295640" cy="431640"/>
          </a:xfrm>
          <a:custGeom>
            <a:avLst/>
            <a:gdLst>
              <a:gd name="textAreaLeft" fmla="*/ 26640 w 1295640"/>
              <a:gd name="textAreaRight" fmla="*/ 1269000 w 1295640"/>
              <a:gd name="textAreaTop" fmla="*/ 26640 h 431640"/>
              <a:gd name="textAreaBottom" fmla="*/ 405000 h 431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50" y="1350"/>
                </a:lnTo>
                <a:lnTo>
                  <a:pt x="1350" y="135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50" y="20250"/>
                </a:lnTo>
                <a:lnTo>
                  <a:pt x="63450" y="135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50" y="2025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556000" y="2133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想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56000" y="32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河 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56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258920" y="3429000"/>
            <a:ext cx="57636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56000" y="2133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想）  （ 念 ）（ 意）（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56000" y="3284640"/>
            <a:ext cx="62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河  ）（ 海 ）（ 江 ）（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（沙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556000" y="4508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（叫 ）（ 吓 ）（听） （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1258920" y="3429000"/>
            <a:ext cx="57636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212-3795-4D92-A375-C2690395E3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64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5886000" y="52200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 Black"/>
              </a:rPr>
              <a:t>毛主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57200" y="868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毛泽东生平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1557360"/>
            <a:ext cx="374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毛泽东，湖南湘潭人。生于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8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，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去世。他一生为中国人民的解放，为祖国的繁荣富强而奋斗，他是中国人民深深热爱的伟大领袖，中国人民将永远怀念他。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4-01"/>
          <p:cNvPicPr/>
          <p:nvPr/>
        </p:nvPicPr>
        <p:blipFill>
          <a:blip r:embed="rId1"/>
          <a:stretch/>
        </p:blipFill>
        <p:spPr>
          <a:xfrm>
            <a:off x="4879800" y="1143000"/>
            <a:ext cx="334980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毛主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讲述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，毛主席在江西革命时，看到乡亲们吃水困难，带领战士和乡亲们挖了一口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>
            <a:hlinkClick r:id="rId1"/>
          </p:cNvPr>
          <p:cNvSpPr/>
          <p:nvPr/>
        </p:nvSpPr>
        <p:spPr>
          <a:xfrm>
            <a:off x="7740720" y="5950080"/>
            <a:ext cx="1152360" cy="503280"/>
          </a:xfrm>
          <a:custGeom>
            <a:avLst/>
            <a:gdLst>
              <a:gd name="textAreaLeft" fmla="*/ 31320 w 1152360"/>
              <a:gd name="textAreaRight" fmla="*/ 1121040 w 115236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88" y="1350"/>
                </a:lnTo>
                <a:lnTo>
                  <a:pt x="1350" y="135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88" y="20250"/>
                </a:lnTo>
                <a:lnTo>
                  <a:pt x="48088" y="135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088" y="2025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认读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4200" y="549360"/>
            <a:ext cx="892980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wàng  wā  jǐng   xí   dǎo   g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忘   挖   井   席   导    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 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s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jiě  k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ni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命   战    士   解  刻   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95280" y="0"/>
            <a:ext cx="8153280" cy="74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g   w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ā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g         x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í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难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忘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挖  井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主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席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    g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g     zh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 sh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领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导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革  命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战  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ě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è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解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放   立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刻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想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2:38:38Z</dcterms:created>
  <dc:creator/>
  <dc:description/>
  <cp:keywords>幻灯片之家 http:/www.eeppt.com</cp:keywords>
  <dc:language>en-US</dc:language>
  <cp:lastModifiedBy/>
  <dcterms:modified xsi:type="dcterms:W3CDTF">2015-07-20T07:45:01Z</dcterms:modified>
  <cp:revision>1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