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E47-6350-4072-BB59-BF004D9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617-A7A5-43FC-B0B3-40C3400B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101-E7FD-4DEA-8E61-3787BBDF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B1F-A254-4E61-85F5-6C064031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CD2-E6A0-4BF5-917D-4E2EC4E6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762-8CD2-4DF8-A652-9887A82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D83-C9BF-4770-9DE4-219A2A6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ED0-58D4-4D72-B71D-BC975BA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03B-FA5B-4B9E-8F61-1009309D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58E-2D4B-4322-A6AC-7DD1FDD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E26-1913-4BA3-8230-F16FB86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11F-914B-4D54-A152-FD58F07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C0E0-4844-433B-AF20-1779B375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76720" y="44280"/>
            <a:ext cx="1366200" cy="1412640"/>
            <a:chOff x="5076720" y="44280"/>
            <a:chExt cx="1366200" cy="1412640"/>
          </a:xfrm>
        </p:grpSpPr>
        <p:sp>
          <p:nvSpPr>
            <p:cNvPr id="42" name="Rectangle 4"/>
            <p:cNvSpPr/>
            <p:nvPr/>
          </p:nvSpPr>
          <p:spPr>
            <a:xfrm>
              <a:off x="5076720" y="390960"/>
              <a:ext cx="105732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5"/>
            <p:cNvSpPr/>
            <p:nvPr/>
          </p:nvSpPr>
          <p:spPr>
            <a:xfrm>
              <a:off x="5175360" y="44280"/>
              <a:ext cx="126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17_150829_(1)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13000" cy="51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844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9960" y="69228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菜园里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22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0" y="0"/>
            <a:ext cx="4140360" cy="2205000"/>
          </a:xfrm>
          <a:prstGeom prst="wedgeEllipseCallout">
            <a:avLst>
              <a:gd name="adj1" fmla="val 43481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飞到菜园里，看看冬瓜和茄子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5076720" y="0"/>
            <a:ext cx="3888000" cy="2016000"/>
          </a:xfrm>
          <a:prstGeom prst="wedgeEllipseCallout">
            <a:avLst>
              <a:gd name="adj1" fmla="val -33666"/>
              <a:gd name="adj2" fmla="val 68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大的，茄子是小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0" y="189000"/>
            <a:ext cx="4572000" cy="2205000"/>
          </a:xfrm>
          <a:prstGeom prst="wedgeEllipseCallout">
            <a:avLst>
              <a:gd name="adj1" fmla="val 34652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错。可是，你能不能再去看看，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5003640" y="260280"/>
            <a:ext cx="3888000" cy="1916280"/>
          </a:xfrm>
          <a:prstGeom prst="wedgeEllipseCallout">
            <a:avLst>
              <a:gd name="adj1" fmla="val -33666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青的，茄子是紫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0" y="0"/>
            <a:ext cx="4427640" cy="2205000"/>
          </a:xfrm>
          <a:prstGeom prst="wedgeEllipseCallout">
            <a:avLst>
              <a:gd name="adj1" fmla="val 37416"/>
              <a:gd name="adj2" fmla="val 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很好。可是，你能不能再去认真地看看，它们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643280" y="0"/>
            <a:ext cx="4500720" cy="2376360"/>
          </a:xfrm>
          <a:prstGeom prst="wedgeEllipseCallout">
            <a:avLst>
              <a:gd name="adj1" fmla="val -27884"/>
              <a:gd name="adj2" fmla="val 61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妈妈，妈妈，我发现冬瓜的皮上有细毛，茄子的柄上有小刺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03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8000" y="404640"/>
              <a:ext cx="18730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5"/>
          <p:cNvGrpSpPr/>
          <p:nvPr/>
        </p:nvGrpSpPr>
        <p:grpSpPr>
          <a:xfrm>
            <a:off x="179280" y="1484280"/>
            <a:ext cx="8748720" cy="3975840"/>
            <a:chOff x="179280" y="1484280"/>
            <a:chExt cx="8748720" cy="3975840"/>
          </a:xfrm>
        </p:grpSpPr>
        <p:grpSp>
          <p:nvGrpSpPr>
            <p:cNvPr id="106" name="Group 6"/>
            <p:cNvGrpSpPr/>
            <p:nvPr/>
          </p:nvGrpSpPr>
          <p:grpSpPr>
            <a:xfrm>
              <a:off x="179280" y="1484280"/>
              <a:ext cx="8748720" cy="1091520"/>
              <a:chOff x="179280" y="1484280"/>
              <a:chExt cx="8748720" cy="1091520"/>
            </a:xfrm>
          </p:grpSpPr>
          <p:sp>
            <p:nvSpPr>
              <p:cNvPr id="107" name="Text Box 7"/>
              <p:cNvSpPr/>
              <p:nvPr/>
            </p:nvSpPr>
            <p:spPr>
              <a:xfrm>
                <a:off x="179280" y="148428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8"/>
              <p:cNvSpPr/>
              <p:nvPr/>
            </p:nvSpPr>
            <p:spPr>
              <a:xfrm>
                <a:off x="5076720" y="162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9"/>
            <p:cNvGrpSpPr/>
            <p:nvPr/>
          </p:nvGrpSpPr>
          <p:grpSpPr>
            <a:xfrm>
              <a:off x="179280" y="2997000"/>
              <a:ext cx="8748720" cy="1091520"/>
              <a:chOff x="179280" y="2997000"/>
              <a:chExt cx="8748720" cy="1091520"/>
            </a:xfrm>
          </p:grpSpPr>
          <p:sp>
            <p:nvSpPr>
              <p:cNvPr id="110" name="Text Box 10"/>
              <p:cNvSpPr/>
              <p:nvPr/>
            </p:nvSpPr>
            <p:spPr>
              <a:xfrm>
                <a:off x="179280" y="299700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1"/>
              <p:cNvSpPr/>
              <p:nvPr/>
            </p:nvSpPr>
            <p:spPr>
              <a:xfrm>
                <a:off x="5076720" y="314136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2"/>
            <p:cNvGrpSpPr/>
            <p:nvPr/>
          </p:nvGrpSpPr>
          <p:grpSpPr>
            <a:xfrm>
              <a:off x="179280" y="4508640"/>
              <a:ext cx="8748720" cy="951480"/>
              <a:chOff x="179280" y="4508640"/>
              <a:chExt cx="8748720" cy="951480"/>
            </a:xfrm>
          </p:grpSpPr>
          <p:sp>
            <p:nvSpPr>
              <p:cNvPr id="113" name="Text Box 13"/>
              <p:cNvSpPr/>
              <p:nvPr/>
            </p:nvSpPr>
            <p:spPr>
              <a:xfrm>
                <a:off x="179280" y="4512960"/>
                <a:ext cx="388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4"/>
              <p:cNvSpPr/>
              <p:nvPr/>
            </p:nvSpPr>
            <p:spPr>
              <a:xfrm>
                <a:off x="5076720" y="450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4000" y="12034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皮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柄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98764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94036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987640" y="18129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细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987640" y="3141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869080" y="31100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987640" y="38606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5302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C94-1B46-4D27-A055-6D0CA9447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29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8000" y="404640"/>
              <a:ext cx="18730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5"/>
          <p:cNvGrpSpPr/>
          <p:nvPr/>
        </p:nvGrpSpPr>
        <p:grpSpPr>
          <a:xfrm>
            <a:off x="216000" y="1768320"/>
            <a:ext cx="8748720" cy="3975840"/>
            <a:chOff x="216000" y="1768320"/>
            <a:chExt cx="8748720" cy="3975840"/>
          </a:xfrm>
        </p:grpSpPr>
        <p:grpSp>
          <p:nvGrpSpPr>
            <p:cNvPr id="132" name="Group 6"/>
            <p:cNvGrpSpPr/>
            <p:nvPr/>
          </p:nvGrpSpPr>
          <p:grpSpPr>
            <a:xfrm>
              <a:off x="216000" y="1768320"/>
              <a:ext cx="8748720" cy="1091520"/>
              <a:chOff x="216000" y="1768320"/>
              <a:chExt cx="8748720" cy="1091520"/>
            </a:xfrm>
          </p:grpSpPr>
          <p:sp>
            <p:nvSpPr>
              <p:cNvPr id="133" name="Text Box 7"/>
              <p:cNvSpPr/>
              <p:nvPr/>
            </p:nvSpPr>
            <p:spPr>
              <a:xfrm>
                <a:off x="216000" y="176832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8"/>
              <p:cNvSpPr/>
              <p:nvPr/>
            </p:nvSpPr>
            <p:spPr>
              <a:xfrm>
                <a:off x="5113440" y="191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9"/>
            <p:cNvGrpSpPr/>
            <p:nvPr/>
          </p:nvGrpSpPr>
          <p:grpSpPr>
            <a:xfrm>
              <a:off x="216000" y="3281040"/>
              <a:ext cx="8748720" cy="1091520"/>
              <a:chOff x="216000" y="3281040"/>
              <a:chExt cx="8748720" cy="1091520"/>
            </a:xfrm>
          </p:grpSpPr>
          <p:sp>
            <p:nvSpPr>
              <p:cNvPr id="136" name="Text Box 10"/>
              <p:cNvSpPr/>
              <p:nvPr/>
            </p:nvSpPr>
            <p:spPr>
              <a:xfrm>
                <a:off x="216000" y="328104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1"/>
              <p:cNvSpPr/>
              <p:nvPr/>
            </p:nvSpPr>
            <p:spPr>
              <a:xfrm>
                <a:off x="5113440" y="342540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12"/>
            <p:cNvGrpSpPr/>
            <p:nvPr/>
          </p:nvGrpSpPr>
          <p:grpSpPr>
            <a:xfrm>
              <a:off x="216000" y="4792680"/>
              <a:ext cx="8748720" cy="951480"/>
              <a:chOff x="216000" y="4792680"/>
              <a:chExt cx="8748720" cy="951480"/>
            </a:xfrm>
          </p:grpSpPr>
          <p:sp>
            <p:nvSpPr>
              <p:cNvPr id="139" name="Text Box 13"/>
              <p:cNvSpPr/>
              <p:nvPr/>
            </p:nvSpPr>
            <p:spPr>
              <a:xfrm>
                <a:off x="216000" y="4797000"/>
                <a:ext cx="3887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4"/>
              <p:cNvSpPr/>
              <p:nvPr/>
            </p:nvSpPr>
            <p:spPr>
              <a:xfrm>
                <a:off x="5113440" y="479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411280" y="620640"/>
            <a:ext cx="4753080" cy="4176360"/>
            <a:chOff x="2411280" y="620640"/>
            <a:chExt cx="4753080" cy="4176360"/>
          </a:xfrm>
        </p:grpSpPr>
        <p:sp>
          <p:nvSpPr>
            <p:cNvPr id="142" name="Text Box 3"/>
            <p:cNvSpPr/>
            <p:nvPr/>
          </p:nvSpPr>
          <p:spPr>
            <a:xfrm>
              <a:off x="2914560" y="620640"/>
              <a:ext cx="42498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笑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"/>
            <p:cNvGrpSpPr/>
            <p:nvPr/>
          </p:nvGrpSpPr>
          <p:grpSpPr>
            <a:xfrm>
              <a:off x="2411280" y="765000"/>
              <a:ext cx="4032000" cy="4032000"/>
              <a:chOff x="2411280" y="765000"/>
              <a:chExt cx="4032000" cy="4032000"/>
            </a:xfrm>
          </p:grpSpPr>
          <p:sp>
            <p:nvSpPr>
              <p:cNvPr id="144" name="Line 5"/>
              <p:cNvSpPr/>
              <p:nvPr/>
            </p:nvSpPr>
            <p:spPr>
              <a:xfrm>
                <a:off x="2411280" y="2779920"/>
                <a:ext cx="40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"/>
              <p:cNvSpPr/>
              <p:nvPr/>
            </p:nvSpPr>
            <p:spPr>
              <a:xfrm flipV="1">
                <a:off x="4426200" y="765000"/>
                <a:ext cx="0" cy="40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"/>
              <p:cNvSpPr/>
              <p:nvPr/>
            </p:nvSpPr>
            <p:spPr>
              <a:xfrm>
                <a:off x="2411280" y="765000"/>
                <a:ext cx="4032000" cy="4032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8" descr="1"/>
          <p:cNvPicPr/>
          <p:nvPr/>
        </p:nvPicPr>
        <p:blipFill>
          <a:blip r:embed="rId1"/>
          <a:stretch/>
        </p:blipFill>
        <p:spPr>
          <a:xfrm>
            <a:off x="2987640" y="1916280"/>
            <a:ext cx="3097080" cy="2916000"/>
          </a:xfrm>
          <a:prstGeom prst="rect">
            <a:avLst/>
          </a:prstGeom>
          <a:ln w="0">
            <a:noFill/>
          </a:ln>
        </p:spPr>
      </p:pic>
      <p:sp>
        <p:nvSpPr>
          <p:cNvPr id="148" name="Line 9"/>
          <p:cNvSpPr/>
          <p:nvPr/>
        </p:nvSpPr>
        <p:spPr>
          <a:xfrm>
            <a:off x="2916360" y="4149720"/>
            <a:ext cx="32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900000" y="5154480"/>
            <a:ext cx="7704000" cy="1228320"/>
            <a:chOff x="900000" y="5154480"/>
            <a:chExt cx="7704000" cy="1228320"/>
          </a:xfrm>
        </p:grpSpPr>
        <p:sp>
          <p:nvSpPr>
            <p:cNvPr id="150" name="Text Box 11"/>
            <p:cNvSpPr/>
            <p:nvPr/>
          </p:nvSpPr>
          <p:spPr>
            <a:xfrm>
              <a:off x="900000" y="5557680"/>
              <a:ext cx="770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撇捺在字底，撇高捺稍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1116000" y="51577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6445080" y="52257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 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3564000" y="515448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2556000" y="5332320"/>
            <a:ext cx="158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04_5_22_16_40_293"/>
          <p:cNvPicPr/>
          <p:nvPr/>
        </p:nvPicPr>
        <p:blipFill>
          <a:blip r:embed="rId15"/>
          <a:stretch/>
        </p:blipFill>
        <p:spPr>
          <a:xfrm>
            <a:off x="3564000" y="536400"/>
            <a:ext cx="3311640" cy="289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1142"/>
          <p:cNvPicPr/>
          <p:nvPr/>
        </p:nvPicPr>
        <p:blipFill>
          <a:blip r:embed="rId16"/>
          <a:stretch/>
        </p:blipFill>
        <p:spPr>
          <a:xfrm>
            <a:off x="5219640" y="4221000"/>
            <a:ext cx="37432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"/>
          <p:cNvGrpSpPr/>
          <p:nvPr/>
        </p:nvGrpSpPr>
        <p:grpSpPr>
          <a:xfrm>
            <a:off x="688680" y="1052640"/>
            <a:ext cx="1121760" cy="1225080"/>
            <a:chOff x="688680" y="1052640"/>
            <a:chExt cx="1121760" cy="1225080"/>
          </a:xfrm>
        </p:grpSpPr>
        <p:sp>
          <p:nvSpPr>
            <p:cNvPr id="51" name="Text Box 2"/>
            <p:cNvSpPr/>
            <p:nvPr/>
          </p:nvSpPr>
          <p:spPr>
            <a:xfrm>
              <a:off x="688680" y="1452600"/>
              <a:ext cx="97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冬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035360" y="10526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1"/>
          <p:cNvGrpSpPr/>
          <p:nvPr/>
        </p:nvGrpSpPr>
        <p:grpSpPr>
          <a:xfrm>
            <a:off x="252360" y="4581360"/>
            <a:ext cx="1655640" cy="1256760"/>
            <a:chOff x="252360" y="4581360"/>
            <a:chExt cx="1655640" cy="1256760"/>
          </a:xfrm>
        </p:grpSpPr>
        <p:sp>
          <p:nvSpPr>
            <p:cNvPr id="54" name="Text Box 3"/>
            <p:cNvSpPr/>
            <p:nvPr/>
          </p:nvSpPr>
          <p:spPr>
            <a:xfrm>
              <a:off x="252360" y="5013000"/>
              <a:ext cx="165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茄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457560" y="458136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i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9" descr="1152525130_large"/>
          <p:cNvPicPr/>
          <p:nvPr/>
        </p:nvPicPr>
        <p:blipFill>
          <a:blip r:embed="rId17"/>
          <a:stretch/>
        </p:blipFill>
        <p:spPr>
          <a:xfrm>
            <a:off x="2268360" y="4221000"/>
            <a:ext cx="2737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长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长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26480" y="407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984760" y="36306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269760" y="3575160"/>
            <a:ext cx="8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1622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4310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611280" y="2492280"/>
            <a:ext cx="8221680" cy="3139920"/>
            <a:chOff x="611280" y="2492280"/>
            <a:chExt cx="8221680" cy="3139920"/>
          </a:xfrm>
        </p:grpSpPr>
        <p:pic>
          <p:nvPicPr>
            <p:cNvPr id="64" name="Picture 3" descr="2004_5_22_16_40_293"/>
            <p:cNvPicPr/>
            <p:nvPr/>
          </p:nvPicPr>
          <p:blipFill>
            <a:blip r:embed="rId1"/>
            <a:stretch/>
          </p:blipFill>
          <p:spPr>
            <a:xfrm>
              <a:off x="611280" y="2492280"/>
              <a:ext cx="2933640" cy="31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1142"/>
            <p:cNvPicPr/>
            <p:nvPr/>
          </p:nvPicPr>
          <p:blipFill>
            <a:blip r:embed="rId2"/>
            <a:stretch/>
          </p:blipFill>
          <p:spPr>
            <a:xfrm>
              <a:off x="4813560" y="2636640"/>
              <a:ext cx="4019400" cy="28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2564640" y="83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932360" y="285264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4040" y="274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93800" y="2349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17920" y="233352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èn z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3213000"/>
            <a:ext cx="82072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　去　　地看看，它们还有什么不一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387320" y="3321000"/>
            <a:ext cx="662760" cy="1159920"/>
            <a:chOff x="4387320" y="3321000"/>
            <a:chExt cx="662760" cy="1159920"/>
          </a:xfrm>
        </p:grpSpPr>
        <p:sp>
          <p:nvSpPr>
            <p:cNvPr id="73" name="Text Box 4"/>
            <p:cNvSpPr/>
            <p:nvPr/>
          </p:nvSpPr>
          <p:spPr>
            <a:xfrm>
              <a:off x="4425480" y="3655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4387320" y="3321000"/>
              <a:ext cx="6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"/>
          <p:cNvGrpSpPr/>
          <p:nvPr/>
        </p:nvGrpSpPr>
        <p:grpSpPr>
          <a:xfrm>
            <a:off x="5508720" y="3321000"/>
            <a:ext cx="1800000" cy="1134720"/>
            <a:chOff x="5508720" y="3321000"/>
            <a:chExt cx="1800000" cy="1134720"/>
          </a:xfrm>
        </p:grpSpPr>
        <p:sp>
          <p:nvSpPr>
            <p:cNvPr id="76" name="Text Box 7"/>
            <p:cNvSpPr/>
            <p:nvPr/>
          </p:nvSpPr>
          <p:spPr>
            <a:xfrm>
              <a:off x="5508720" y="3630600"/>
              <a:ext cx="180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认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5520960" y="3321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2679840" y="100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74932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570528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9640" y="549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ū   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573800" y="5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567480" y="533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167480" y="2189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78908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63372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900000" y="4146480"/>
            <a:ext cx="76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冬 瓜       茄 子        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9040" y="55166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            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3"/>
          <p:cNvSpPr/>
          <p:nvPr/>
        </p:nvSpPr>
        <p:spPr>
          <a:xfrm>
            <a:off x="-1044720" y="1357200"/>
            <a:ext cx="954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发现冬瓜的皮上有细毛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的柄上有小刺呢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0:20:43Z</dcterms:created>
  <dc:creator/>
  <dc:description/>
  <cp:keywords>幻灯片之家 http:/www.eeppt.com</cp:keywords>
  <dc:language>en-US</dc:language>
  <cp:lastModifiedBy/>
  <dcterms:modified xsi:type="dcterms:W3CDTF">2015-07-18T15:37:00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