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F29A-7B32-4ED3-8AF4-4139D630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07D-5F6B-41F1-A54C-A5E55C56F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06C-A084-47FE-A75F-A90F1107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9174-F6E3-486D-ADA2-79218914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8C29-4997-4848-8F3B-AACA8D10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5FD-697D-492F-9308-086E39D6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9C2D-6BDD-4B5B-A667-DD534B31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D6B1-BDDE-4438-AEFC-72E75C431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6560" y="274320"/>
            <a:ext cx="7859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4EC2-1B42-4A5D-A450-64BB7696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282-6CCD-4DA9-9CE3-823193AF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CD3-524C-4957-80E3-BF04108E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0688-FEBA-4FCD-97C6-3B44627A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c9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  <a:p>
            <a:pPr lvl="1" marL="743040" indent="-28584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  <a:p>
            <a:pPr lvl="2" marL="1143000" indent="-228600">
              <a:spcBef>
                <a:spcPts val="799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  <a:p>
            <a:pPr lvl="3" marL="1600200" indent="-228600">
              <a:spcBef>
                <a:spcPts val="799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  <a:p>
            <a:pPr lvl="4" marL="2057400" indent="-228600">
              <a:spcBef>
                <a:spcPts val="799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74E0-CA18-4782-920C-AA4501503D8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01AD-B6C9-49E1-9414-9278C04B9C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2560" y="1328760"/>
            <a:ext cx="7561440" cy="271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餐饮牛奶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-1440" y="439272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"/>
          <p:cNvPicPr/>
          <p:nvPr/>
        </p:nvPicPr>
        <p:blipFill>
          <a:blip r:embed="rId2"/>
          <a:stretch/>
        </p:blipFill>
        <p:spPr>
          <a:xfrm>
            <a:off x="9360" y="5533920"/>
            <a:ext cx="9144000" cy="1324080"/>
          </a:xfrm>
          <a:prstGeom prst="rect">
            <a:avLst/>
          </a:prstGeom>
          <a:ln w="0">
            <a:noFill/>
          </a:ln>
        </p:spPr>
      </p:pic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5" descr=""/>
          <p:cNvPicPr/>
          <p:nvPr/>
        </p:nvPicPr>
        <p:blipFill>
          <a:blip r:embed="rId1"/>
          <a:stretch/>
        </p:blipFill>
        <p:spPr>
          <a:xfrm>
            <a:off x="-6480" y="55656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411120" y="333360"/>
            <a:ext cx="560520" cy="8748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在此录入文字标题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8" name="圆角矩形 19"/>
          <p:cNvSpPr/>
          <p:nvPr/>
        </p:nvSpPr>
        <p:spPr>
          <a:xfrm>
            <a:off x="539640" y="1546200"/>
            <a:ext cx="7777440" cy="3745080"/>
          </a:xfrm>
          <a:prstGeom prst="roundRect">
            <a:avLst>
              <a:gd name="adj" fmla="val 737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20"/>
          <p:cNvSpPr/>
          <p:nvPr/>
        </p:nvSpPr>
        <p:spPr>
          <a:xfrm>
            <a:off x="522360" y="1546200"/>
            <a:ext cx="7816680" cy="504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21"/>
          <p:cNvSpPr/>
          <p:nvPr/>
        </p:nvSpPr>
        <p:spPr>
          <a:xfrm rot="10800000">
            <a:off x="522000" y="4787640"/>
            <a:ext cx="7816680" cy="503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同心圆 10"/>
          <p:cNvSpPr/>
          <p:nvPr/>
        </p:nvSpPr>
        <p:spPr>
          <a:xfrm>
            <a:off x="6227640" y="1030320"/>
            <a:ext cx="1065240" cy="534960"/>
          </a:xfrm>
          <a:custGeom>
            <a:avLst/>
            <a:gdLst>
              <a:gd name="textAreaLeft" fmla="*/ 0 w 1065240"/>
              <a:gd name="textAreaRight" fmla="*/ 1065600 w 106524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979784" h="991836">
                <a:moveTo>
                  <a:pt x="1979783" y="991796"/>
                </a:moveTo>
                <a:cubicBezTo>
                  <a:pt x="1979784" y="991803"/>
                  <a:pt x="1979784" y="991809"/>
                  <a:pt x="1979784" y="991816"/>
                </a:cubicBezTo>
                <a:lnTo>
                  <a:pt x="1979783" y="991836"/>
                </a:lnTo>
                <a:lnTo>
                  <a:pt x="1979783" y="991796"/>
                </a:lnTo>
                <a:close/>
                <a:moveTo>
                  <a:pt x="987968" y="0"/>
                </a:moveTo>
                <a:cubicBezTo>
                  <a:pt x="1510069" y="0"/>
                  <a:pt x="1937947" y="403416"/>
                  <a:pt x="1975936" y="915615"/>
                </a:cubicBezTo>
                <a:lnTo>
                  <a:pt x="1770114" y="915615"/>
                </a:lnTo>
                <a:cubicBezTo>
                  <a:pt x="1731983" y="517268"/>
                  <a:pt x="1396346" y="205822"/>
                  <a:pt x="987968" y="205822"/>
                </a:cubicBezTo>
                <a:cubicBezTo>
                  <a:pt x="579590" y="205822"/>
                  <a:pt x="243953" y="517268"/>
                  <a:pt x="205822" y="915615"/>
                </a:cubicBezTo>
                <a:lnTo>
                  <a:pt x="0" y="915615"/>
                </a:lnTo>
                <a:cubicBezTo>
                  <a:pt x="37989" y="403416"/>
                  <a:pt x="465867" y="0"/>
                  <a:pt x="9879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同心圆 10"/>
          <p:cNvSpPr/>
          <p:nvPr/>
        </p:nvSpPr>
        <p:spPr>
          <a:xfrm flipV="1">
            <a:off x="1017720" y="5272200"/>
            <a:ext cx="961920" cy="480960"/>
          </a:xfrm>
          <a:custGeom>
            <a:avLst/>
            <a:gdLst>
              <a:gd name="textAreaLeft" fmla="*/ 0 w 961920"/>
              <a:gd name="textAreaRight" fmla="*/ 962280 w 961920"/>
              <a:gd name="textAreaTop" fmla="*/ 360 h 480960"/>
              <a:gd name="textAreaBottom" fmla="*/ 481680 h 480960"/>
            </a:gdLst>
            <a:ahLst/>
            <a:rect l="textAreaLeft" t="textAreaTop" r="textAreaRight" b="textAreaBottom"/>
            <a:pathLst>
              <a:path w="1979784" h="991836">
                <a:moveTo>
                  <a:pt x="1979783" y="991796"/>
                </a:moveTo>
                <a:cubicBezTo>
                  <a:pt x="1979784" y="991803"/>
                  <a:pt x="1979784" y="991809"/>
                  <a:pt x="1979784" y="991816"/>
                </a:cubicBezTo>
                <a:lnTo>
                  <a:pt x="1979783" y="991836"/>
                </a:lnTo>
                <a:lnTo>
                  <a:pt x="1979783" y="991796"/>
                </a:lnTo>
                <a:close/>
                <a:moveTo>
                  <a:pt x="987968" y="0"/>
                </a:moveTo>
                <a:cubicBezTo>
                  <a:pt x="1510069" y="0"/>
                  <a:pt x="1937947" y="403416"/>
                  <a:pt x="1975936" y="915615"/>
                </a:cubicBezTo>
                <a:lnTo>
                  <a:pt x="1770114" y="915615"/>
                </a:lnTo>
                <a:cubicBezTo>
                  <a:pt x="1731983" y="517268"/>
                  <a:pt x="1396346" y="205822"/>
                  <a:pt x="987968" y="205822"/>
                </a:cubicBezTo>
                <a:cubicBezTo>
                  <a:pt x="579590" y="205822"/>
                  <a:pt x="243953" y="517268"/>
                  <a:pt x="205822" y="915615"/>
                </a:cubicBezTo>
                <a:lnTo>
                  <a:pt x="0" y="915615"/>
                </a:lnTo>
                <a:cubicBezTo>
                  <a:pt x="37989" y="403416"/>
                  <a:pt x="465867" y="0"/>
                  <a:pt x="9879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5" descr=""/>
          <p:cNvPicPr/>
          <p:nvPr/>
        </p:nvPicPr>
        <p:blipFill>
          <a:blip r:embed="rId1"/>
          <a:stretch/>
        </p:blipFill>
        <p:spPr>
          <a:xfrm>
            <a:off x="-6480" y="556560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411120" y="333360"/>
            <a:ext cx="560520" cy="8748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c9ff"/>
            </a:gs>
            <a:gs pos="100000">
              <a:srgbClr val="da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6" descr="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11120" y="333360"/>
            <a:ext cx="560520" cy="874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17200" y="117000"/>
            <a:ext cx="30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市场环境分析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9" name="同心圆 8"/>
          <p:cNvSpPr/>
          <p:nvPr/>
        </p:nvSpPr>
        <p:spPr>
          <a:xfrm>
            <a:off x="4324320" y="4973760"/>
            <a:ext cx="720720" cy="720720"/>
          </a:xfrm>
          <a:custGeom>
            <a:avLst/>
            <a:gdLst>
              <a:gd name="textAreaLeft" fmla="*/ 105480 w 720720"/>
              <a:gd name="textAreaRight" fmla="*/ 615240 w 720720"/>
              <a:gd name="textAreaTop" fmla="*/ 105480 h 720720"/>
              <a:gd name="textAreaBottom" fmla="*/ 615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22"/>
          <p:cNvGrpSpPr/>
          <p:nvPr/>
        </p:nvGrpSpPr>
        <p:grpSpPr>
          <a:xfrm>
            <a:off x="709200" y="1415880"/>
            <a:ext cx="3258000" cy="3843360"/>
            <a:chOff x="709200" y="1415880"/>
            <a:chExt cx="3258000" cy="3843360"/>
          </a:xfrm>
        </p:grpSpPr>
        <p:sp>
          <p:nvSpPr>
            <p:cNvPr id="61" name="圆角矩形 23"/>
            <p:cNvSpPr/>
            <p:nvPr/>
          </p:nvSpPr>
          <p:spPr>
            <a:xfrm>
              <a:off x="725040" y="1415880"/>
              <a:ext cx="3240720" cy="3843360"/>
            </a:xfrm>
            <a:custGeom>
              <a:avLst/>
              <a:gdLst>
                <a:gd name="textAreaLeft" fmla="*/ 69840 w 3240720"/>
                <a:gd name="textAreaRight" fmla="*/ 3170880 w 3240720"/>
                <a:gd name="textAreaTop" fmla="*/ 69840 h 3843360"/>
                <a:gd name="textAreaBottom" fmla="*/ 3773520 h 3843360"/>
              </a:gdLst>
              <a:ahLst/>
              <a:rect l="textAreaLeft" t="textAreaTop" r="textAreaRight" b="textAreaBottom"/>
              <a:pathLst>
                <a:path w="21600" h="25616">
                  <a:moveTo>
                    <a:pt x="1593" y="0"/>
                  </a:moveTo>
                  <a:arcTo wR="1593" hR="1593" stAng="16200000" swAng="-5400000"/>
                  <a:lnTo>
                    <a:pt x="0" y="24023"/>
                  </a:lnTo>
                  <a:arcTo wR="1593" hR="1593" stAng="10800000" swAng="-5400000"/>
                  <a:lnTo>
                    <a:pt x="20007" y="25616"/>
                  </a:lnTo>
                  <a:arcTo wR="1593" hR="1593" stAng="5400000" swAng="-5400000"/>
                  <a:lnTo>
                    <a:pt x="21600" y="1593"/>
                  </a:lnTo>
                  <a:arcTo wR="1593" hR="1593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 24"/>
            <p:cNvSpPr/>
            <p:nvPr/>
          </p:nvSpPr>
          <p:spPr>
            <a:xfrm>
              <a:off x="709560" y="1415880"/>
              <a:ext cx="3257640" cy="51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圆角矩形 25"/>
            <p:cNvSpPr/>
            <p:nvPr/>
          </p:nvSpPr>
          <p:spPr>
            <a:xfrm rot="10800000">
              <a:off x="709200" y="4741560"/>
              <a:ext cx="3257640" cy="5173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27"/>
          <p:cNvGrpSpPr/>
          <p:nvPr/>
        </p:nvGrpSpPr>
        <p:grpSpPr>
          <a:xfrm>
            <a:off x="4811400" y="1425600"/>
            <a:ext cx="3692880" cy="3970440"/>
            <a:chOff x="4811400" y="1425600"/>
            <a:chExt cx="3692880" cy="3970440"/>
          </a:xfrm>
        </p:grpSpPr>
        <p:sp>
          <p:nvSpPr>
            <p:cNvPr id="65" name="圆角矩形 28"/>
            <p:cNvSpPr/>
            <p:nvPr/>
          </p:nvSpPr>
          <p:spPr>
            <a:xfrm>
              <a:off x="4829400" y="1425600"/>
              <a:ext cx="3673440" cy="3970440"/>
            </a:xfrm>
            <a:custGeom>
              <a:avLst/>
              <a:gdLst>
                <a:gd name="textAreaLeft" fmla="*/ 79200 w 3673440"/>
                <a:gd name="textAreaRight" fmla="*/ 3594240 w 3673440"/>
                <a:gd name="textAreaTop" fmla="*/ 79200 h 3970440"/>
                <a:gd name="textAreaBottom" fmla="*/ 3891240 h 3970440"/>
              </a:gdLst>
              <a:ahLst/>
              <a:rect l="textAreaLeft" t="textAreaTop" r="textAreaRight" b="textAreaBottom"/>
              <a:pathLst>
                <a:path w="21600" h="23346">
                  <a:moveTo>
                    <a:pt x="1593" y="0"/>
                  </a:moveTo>
                  <a:arcTo wR="1593" hR="1593" stAng="16200000" swAng="-5400000"/>
                  <a:lnTo>
                    <a:pt x="0" y="21753"/>
                  </a:lnTo>
                  <a:arcTo wR="1593" hR="1593" stAng="10800000" swAng="-5400000"/>
                  <a:lnTo>
                    <a:pt x="20007" y="23346"/>
                  </a:lnTo>
                  <a:arcTo wR="1593" hR="1593" stAng="5400000" swAng="-5400000"/>
                  <a:lnTo>
                    <a:pt x="21600" y="1593"/>
                  </a:lnTo>
                  <a:arcTo wR="1593" hR="1593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圆角矩形 29"/>
            <p:cNvSpPr/>
            <p:nvPr/>
          </p:nvSpPr>
          <p:spPr>
            <a:xfrm>
              <a:off x="4811760" y="1425600"/>
              <a:ext cx="3692520" cy="53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圆角矩形 30"/>
            <p:cNvSpPr/>
            <p:nvPr/>
          </p:nvSpPr>
          <p:spPr>
            <a:xfrm rot="10800000">
              <a:off x="4811400" y="4861800"/>
              <a:ext cx="3692520" cy="534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同心圆 10"/>
          <p:cNvSpPr/>
          <p:nvPr/>
        </p:nvSpPr>
        <p:spPr>
          <a:xfrm>
            <a:off x="6719760" y="1052640"/>
            <a:ext cx="876600" cy="439560"/>
          </a:xfrm>
          <a:custGeom>
            <a:avLst/>
            <a:gdLst>
              <a:gd name="textAreaLeft" fmla="*/ 0 w 876600"/>
              <a:gd name="textAreaRight" fmla="*/ 876960 w 87660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1979784" h="991836">
                <a:moveTo>
                  <a:pt x="1979783" y="991796"/>
                </a:moveTo>
                <a:cubicBezTo>
                  <a:pt x="1979784" y="991803"/>
                  <a:pt x="1979784" y="991809"/>
                  <a:pt x="1979784" y="991816"/>
                </a:cubicBezTo>
                <a:lnTo>
                  <a:pt x="1979783" y="991836"/>
                </a:lnTo>
                <a:lnTo>
                  <a:pt x="1979783" y="991796"/>
                </a:lnTo>
                <a:close/>
                <a:moveTo>
                  <a:pt x="987968" y="0"/>
                </a:moveTo>
                <a:cubicBezTo>
                  <a:pt x="1510069" y="0"/>
                  <a:pt x="1937947" y="403416"/>
                  <a:pt x="1975936" y="915615"/>
                </a:cubicBezTo>
                <a:lnTo>
                  <a:pt x="1770114" y="915615"/>
                </a:lnTo>
                <a:cubicBezTo>
                  <a:pt x="1731983" y="517268"/>
                  <a:pt x="1396346" y="205822"/>
                  <a:pt x="987968" y="205822"/>
                </a:cubicBezTo>
                <a:cubicBezTo>
                  <a:pt x="579590" y="205822"/>
                  <a:pt x="243953" y="517268"/>
                  <a:pt x="205822" y="915615"/>
                </a:cubicBezTo>
                <a:lnTo>
                  <a:pt x="0" y="915615"/>
                </a:lnTo>
                <a:cubicBezTo>
                  <a:pt x="37989" y="403416"/>
                  <a:pt x="465867" y="0"/>
                  <a:pt x="987968" y="0"/>
                </a:cubicBezTo>
                <a:close/>
              </a:path>
            </a:pathLst>
          </a:custGeom>
          <a:solidFill>
            <a:srgbClr val="ffffff">
              <a:alpha val="9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同心圆 10"/>
          <p:cNvSpPr/>
          <p:nvPr/>
        </p:nvSpPr>
        <p:spPr>
          <a:xfrm flipV="1">
            <a:off x="949320" y="5259240"/>
            <a:ext cx="657360" cy="330480"/>
          </a:xfrm>
          <a:custGeom>
            <a:avLst/>
            <a:gdLst>
              <a:gd name="textAreaLeft" fmla="*/ 0 w 657360"/>
              <a:gd name="textAreaRight" fmla="*/ 657720 w 657360"/>
              <a:gd name="textAreaTop" fmla="*/ 360 h 330480"/>
              <a:gd name="textAreaBottom" fmla="*/ 331200 h 330480"/>
            </a:gdLst>
            <a:ahLst/>
            <a:rect l="textAreaLeft" t="textAreaTop" r="textAreaRight" b="textAreaBottom"/>
            <a:pathLst>
              <a:path w="1979784" h="991836">
                <a:moveTo>
                  <a:pt x="1979783" y="991796"/>
                </a:moveTo>
                <a:cubicBezTo>
                  <a:pt x="1979784" y="991803"/>
                  <a:pt x="1979784" y="991809"/>
                  <a:pt x="1979784" y="991816"/>
                </a:cubicBezTo>
                <a:lnTo>
                  <a:pt x="1979783" y="991836"/>
                </a:lnTo>
                <a:lnTo>
                  <a:pt x="1979783" y="991796"/>
                </a:lnTo>
                <a:close/>
                <a:moveTo>
                  <a:pt x="987968" y="0"/>
                </a:moveTo>
                <a:cubicBezTo>
                  <a:pt x="1510069" y="0"/>
                  <a:pt x="1937947" y="403416"/>
                  <a:pt x="1975936" y="915615"/>
                </a:cubicBezTo>
                <a:lnTo>
                  <a:pt x="1770114" y="915615"/>
                </a:lnTo>
                <a:cubicBezTo>
                  <a:pt x="1731983" y="517268"/>
                  <a:pt x="1396346" y="205822"/>
                  <a:pt x="987968" y="205822"/>
                </a:cubicBezTo>
                <a:cubicBezTo>
                  <a:pt x="579590" y="205822"/>
                  <a:pt x="243953" y="517268"/>
                  <a:pt x="205822" y="915615"/>
                </a:cubicBezTo>
                <a:lnTo>
                  <a:pt x="0" y="915615"/>
                </a:lnTo>
                <a:cubicBezTo>
                  <a:pt x="37989" y="403416"/>
                  <a:pt x="465867" y="0"/>
                  <a:pt x="98796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c9ff"/>
            </a:gs>
            <a:gs pos="100000">
              <a:srgbClr val="da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FA75-7CBE-4341-80EF-18F1BEB28A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图片 6" descr="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411120" y="333360"/>
            <a:ext cx="560520" cy="8748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8840" y="48960"/>
            <a:ext cx="30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市场环境分析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74" name="图片 3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75" name="同心圆 6"/>
          <p:cNvSpPr/>
          <p:nvPr/>
        </p:nvSpPr>
        <p:spPr>
          <a:xfrm>
            <a:off x="3965400" y="2986200"/>
            <a:ext cx="1440000" cy="1439640"/>
          </a:xfrm>
          <a:custGeom>
            <a:avLst/>
            <a:gdLst>
              <a:gd name="textAreaLeft" fmla="*/ 210600 w 1440000"/>
              <a:gd name="textAreaRight" fmla="*/ 1229400 w 1440000"/>
              <a:gd name="textAreaTop" fmla="*/ 210600 h 1439640"/>
              <a:gd name="textAreaBottom" fmla="*/ 122904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51" y="10800"/>
                </a:moveTo>
                <a:cubicBezTo>
                  <a:pt x="1751" y="15798"/>
                  <a:pt x="5802" y="19849"/>
                  <a:pt x="10800" y="19849"/>
                </a:cubicBezTo>
                <a:cubicBezTo>
                  <a:pt x="15798" y="19849"/>
                  <a:pt x="19849" y="15798"/>
                  <a:pt x="19849" y="10800"/>
                </a:cubicBezTo>
                <a:cubicBezTo>
                  <a:pt x="19849" y="5802"/>
                  <a:pt x="15798" y="1751"/>
                  <a:pt x="10800" y="1751"/>
                </a:cubicBezTo>
                <a:cubicBezTo>
                  <a:pt x="5802" y="1751"/>
                  <a:pt x="1751" y="5802"/>
                  <a:pt x="175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同心圆 7"/>
          <p:cNvSpPr/>
          <p:nvPr/>
        </p:nvSpPr>
        <p:spPr>
          <a:xfrm>
            <a:off x="4145040" y="1901880"/>
            <a:ext cx="1079280" cy="1079280"/>
          </a:xfrm>
          <a:custGeom>
            <a:avLst/>
            <a:gdLst>
              <a:gd name="textAreaLeft" fmla="*/ 158040 w 1079280"/>
              <a:gd name="textAreaRight" fmla="*/ 921240 w 1079280"/>
              <a:gd name="textAreaTop" fmla="*/ 158040 h 1079280"/>
              <a:gd name="textAreaBottom" fmla="*/ 9212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同心圆 8"/>
          <p:cNvSpPr/>
          <p:nvPr/>
        </p:nvSpPr>
        <p:spPr>
          <a:xfrm>
            <a:off x="4324320" y="5514840"/>
            <a:ext cx="720720" cy="720720"/>
          </a:xfrm>
          <a:custGeom>
            <a:avLst/>
            <a:gdLst>
              <a:gd name="textAreaLeft" fmla="*/ 105480 w 720720"/>
              <a:gd name="textAreaRight" fmla="*/ 615240 w 720720"/>
              <a:gd name="textAreaTop" fmla="*/ 105480 h 720720"/>
              <a:gd name="textAreaBottom" fmla="*/ 615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同心圆 9"/>
          <p:cNvSpPr/>
          <p:nvPr/>
        </p:nvSpPr>
        <p:spPr>
          <a:xfrm>
            <a:off x="4145040" y="4430880"/>
            <a:ext cx="1079280" cy="1081080"/>
          </a:xfrm>
          <a:custGeom>
            <a:avLst/>
            <a:gdLst>
              <a:gd name="textAreaLeft" fmla="*/ 158040 w 1079280"/>
              <a:gd name="textAreaRight" fmla="*/ 921240 w 1079280"/>
              <a:gd name="textAreaTop" fmla="*/ 158040 h 1081080"/>
              <a:gd name="textAreaBottom" fmla="*/ 923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同心圆 11"/>
          <p:cNvSpPr/>
          <p:nvPr/>
        </p:nvSpPr>
        <p:spPr>
          <a:xfrm>
            <a:off x="4324320" y="1176480"/>
            <a:ext cx="720720" cy="720720"/>
          </a:xfrm>
          <a:custGeom>
            <a:avLst/>
            <a:gdLst>
              <a:gd name="textAreaLeft" fmla="*/ 105480 w 720720"/>
              <a:gd name="textAreaRight" fmla="*/ 615240 w 720720"/>
              <a:gd name="textAreaTop" fmla="*/ 105480 h 720720"/>
              <a:gd name="textAreaBottom" fmla="*/ 6152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2"/>
          <p:cNvSpPr/>
          <p:nvPr/>
        </p:nvSpPr>
        <p:spPr>
          <a:xfrm>
            <a:off x="2968560" y="2381400"/>
            <a:ext cx="1120680" cy="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13"/>
          <p:cNvSpPr/>
          <p:nvPr/>
        </p:nvSpPr>
        <p:spPr>
          <a:xfrm>
            <a:off x="5045040" y="1536840"/>
            <a:ext cx="1120680" cy="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14"/>
          <p:cNvSpPr/>
          <p:nvPr/>
        </p:nvSpPr>
        <p:spPr>
          <a:xfrm>
            <a:off x="5605560" y="3632040"/>
            <a:ext cx="1120680" cy="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15"/>
          <p:cNvSpPr/>
          <p:nvPr/>
        </p:nvSpPr>
        <p:spPr>
          <a:xfrm>
            <a:off x="5224320" y="4971960"/>
            <a:ext cx="1121040" cy="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16"/>
          <p:cNvSpPr/>
          <p:nvPr/>
        </p:nvSpPr>
        <p:spPr>
          <a:xfrm>
            <a:off x="3035160" y="4971960"/>
            <a:ext cx="1121040" cy="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1319400" y="192240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6419160" y="112068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9"/>
          <p:cNvSpPr/>
          <p:nvPr/>
        </p:nvSpPr>
        <p:spPr>
          <a:xfrm>
            <a:off x="6969240" y="321624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6781320" y="458460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2"/>
          <p:cNvSpPr/>
          <p:nvPr/>
        </p:nvSpPr>
        <p:spPr>
          <a:xfrm>
            <a:off x="1428840" y="443088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c9ff"/>
            </a:gs>
            <a:gs pos="100000">
              <a:srgbClr val="da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796A-7EC0-47B8-9150-B2E82481E55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图片 6" descr="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411120" y="333360"/>
            <a:ext cx="560520" cy="874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17200" y="117000"/>
            <a:ext cx="3033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在此录入文字标题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94" name="图片 6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sp>
        <p:nvSpPr>
          <p:cNvPr id="95" name="直接连接符 7"/>
          <p:cNvSpPr/>
          <p:nvPr/>
        </p:nvSpPr>
        <p:spPr>
          <a:xfrm>
            <a:off x="1835280" y="3429000"/>
            <a:ext cx="496872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8"/>
          <p:cNvSpPr/>
          <p:nvPr/>
        </p:nvSpPr>
        <p:spPr>
          <a:xfrm>
            <a:off x="4356000" y="1413000"/>
            <a:ext cx="0" cy="453708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9"/>
          <p:cNvSpPr/>
          <p:nvPr/>
        </p:nvSpPr>
        <p:spPr>
          <a:xfrm>
            <a:off x="5172120" y="1508040"/>
            <a:ext cx="1023840" cy="1024200"/>
          </a:xfrm>
          <a:custGeom>
            <a:avLst/>
            <a:gdLst>
              <a:gd name="textAreaLeft" fmla="*/ 149760 w 1023840"/>
              <a:gd name="textAreaRight" fmla="*/ 874080 w 1023840"/>
              <a:gd name="textAreaTop" fmla="*/ 149760 h 1024200"/>
              <a:gd name="textAreaBottom" fmla="*/ 874440 h 102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51" y="10800"/>
                </a:moveTo>
                <a:cubicBezTo>
                  <a:pt x="1751" y="15798"/>
                  <a:pt x="5802" y="19849"/>
                  <a:pt x="10800" y="19849"/>
                </a:cubicBezTo>
                <a:cubicBezTo>
                  <a:pt x="15798" y="19849"/>
                  <a:pt x="19849" y="15798"/>
                  <a:pt x="19849" y="10800"/>
                </a:cubicBezTo>
                <a:cubicBezTo>
                  <a:pt x="19849" y="5802"/>
                  <a:pt x="15798" y="1751"/>
                  <a:pt x="10800" y="1751"/>
                </a:cubicBezTo>
                <a:cubicBezTo>
                  <a:pt x="5802" y="1751"/>
                  <a:pt x="1751" y="5802"/>
                  <a:pt x="175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10"/>
          <p:cNvSpPr/>
          <p:nvPr/>
        </p:nvSpPr>
        <p:spPr>
          <a:xfrm>
            <a:off x="4629240" y="2532240"/>
            <a:ext cx="596880" cy="596880"/>
          </a:xfrm>
          <a:custGeom>
            <a:avLst/>
            <a:gdLst>
              <a:gd name="textAreaLeft" fmla="*/ 87120 w 596880"/>
              <a:gd name="textAreaRight" fmla="*/ 509760 w 596880"/>
              <a:gd name="textAreaTop" fmla="*/ 87120 h 596880"/>
              <a:gd name="textAreaBottom" fmla="*/ 509760 h 596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同心圆 11"/>
          <p:cNvSpPr/>
          <p:nvPr/>
        </p:nvSpPr>
        <p:spPr>
          <a:xfrm>
            <a:off x="2443320" y="2290680"/>
            <a:ext cx="1081080" cy="1079640"/>
          </a:xfrm>
          <a:custGeom>
            <a:avLst/>
            <a:gdLst>
              <a:gd name="textAreaLeft" fmla="*/ 158040 w 1081080"/>
              <a:gd name="textAreaRight" fmla="*/ 923040 w 1081080"/>
              <a:gd name="textAreaTop" fmla="*/ 158040 h 1079640"/>
              <a:gd name="textAreaBottom" fmla="*/ 9216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12"/>
          <p:cNvSpPr/>
          <p:nvPr/>
        </p:nvSpPr>
        <p:spPr>
          <a:xfrm>
            <a:off x="3403440" y="4005360"/>
            <a:ext cx="809640" cy="807840"/>
          </a:xfrm>
          <a:custGeom>
            <a:avLst/>
            <a:gdLst>
              <a:gd name="textAreaLeft" fmla="*/ 118440 w 809640"/>
              <a:gd name="textAreaRight" fmla="*/ 691200 w 809640"/>
              <a:gd name="textAreaTop" fmla="*/ 118080 h 807840"/>
              <a:gd name="textAreaBottom" fmla="*/ 689760 h 807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13"/>
          <p:cNvSpPr/>
          <p:nvPr/>
        </p:nvSpPr>
        <p:spPr>
          <a:xfrm>
            <a:off x="4821120" y="3681360"/>
            <a:ext cx="808200" cy="808200"/>
          </a:xfrm>
          <a:custGeom>
            <a:avLst/>
            <a:gdLst>
              <a:gd name="textAreaLeft" fmla="*/ 118080 w 808200"/>
              <a:gd name="textAreaRight" fmla="*/ 690120 w 808200"/>
              <a:gd name="textAreaTop" fmla="*/ 118080 h 808200"/>
              <a:gd name="textAreaBottom" fmla="*/ 690120 h 808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14"/>
          <p:cNvSpPr/>
          <p:nvPr/>
        </p:nvSpPr>
        <p:spPr>
          <a:xfrm>
            <a:off x="5143680" y="4813200"/>
            <a:ext cx="809280" cy="808200"/>
          </a:xfrm>
          <a:custGeom>
            <a:avLst/>
            <a:gdLst>
              <a:gd name="textAreaLeft" fmla="*/ 118440 w 809280"/>
              <a:gd name="textAreaRight" fmla="*/ 690840 w 809280"/>
              <a:gd name="textAreaTop" fmla="*/ 118080 h 808200"/>
              <a:gd name="textAreaBottom" fmla="*/ 690120 h 808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5"/>
          <p:cNvSpPr/>
          <p:nvPr/>
        </p:nvSpPr>
        <p:spPr>
          <a:xfrm>
            <a:off x="6262560" y="1998720"/>
            <a:ext cx="720720" cy="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6"/>
          <p:cNvSpPr/>
          <p:nvPr/>
        </p:nvSpPr>
        <p:spPr>
          <a:xfrm>
            <a:off x="2541600" y="4408560"/>
            <a:ext cx="720720" cy="144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869760" y="416412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7279920" y="163512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c9ff"/>
            </a:gs>
            <a:gs pos="100000">
              <a:srgbClr val="daf5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6" descr=""/>
          <p:cNvPicPr/>
          <p:nvPr/>
        </p:nvPicPr>
        <p:blipFill>
          <a:blip r:embed="rId1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411120" y="333360"/>
            <a:ext cx="560520" cy="874800"/>
          </a:xfrm>
          <a:prstGeom prst="rect">
            <a:avLst/>
          </a:prstGeom>
          <a:ln w="0">
            <a:noFill/>
          </a:ln>
        </p:spPr>
      </p:pic>
      <p:sp>
        <p:nvSpPr>
          <p:cNvPr id="109" name="椭圆 15"/>
          <p:cNvSpPr/>
          <p:nvPr/>
        </p:nvSpPr>
        <p:spPr>
          <a:xfrm>
            <a:off x="-20520" y="5084640"/>
            <a:ext cx="9164520" cy="1773360"/>
          </a:xfrm>
          <a:custGeom>
            <a:avLst/>
            <a:gdLst>
              <a:gd name="textAreaLeft" fmla="*/ 0 w 9164520"/>
              <a:gd name="textAreaRight" fmla="*/ 9164880 w 9164520"/>
              <a:gd name="textAreaTop" fmla="*/ 0 h 1773360"/>
              <a:gd name="textAreaBottom" fmla="*/ 1773720 h 1773360"/>
            </a:gdLst>
            <a:ahLst/>
            <a:rect l="textAreaLeft" t="textAreaTop" r="textAreaRight" b="textAreaBottom"/>
            <a:pathLst>
              <a:path w="9491028" h="1152128">
                <a:moveTo>
                  <a:pt x="4745514" y="0"/>
                </a:moveTo>
                <a:cubicBezTo>
                  <a:pt x="7113597" y="0"/>
                  <a:pt x="9083189" y="496562"/>
                  <a:pt x="9491028" y="1152128"/>
                </a:cubicBezTo>
                <a:lnTo>
                  <a:pt x="0" y="1152128"/>
                </a:lnTo>
                <a:cubicBezTo>
                  <a:pt x="407839" y="496562"/>
                  <a:pt x="2377432" y="0"/>
                  <a:pt x="4745514" y="0"/>
                </a:cubicBezTo>
                <a:close/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同心圆 20"/>
          <p:cNvSpPr/>
          <p:nvPr/>
        </p:nvSpPr>
        <p:spPr>
          <a:xfrm>
            <a:off x="576360" y="4789440"/>
            <a:ext cx="971280" cy="973080"/>
          </a:xfrm>
          <a:custGeom>
            <a:avLst/>
            <a:gdLst>
              <a:gd name="textAreaLeft" fmla="*/ 142200 w 971280"/>
              <a:gd name="textAreaRight" fmla="*/ 829080 w 971280"/>
              <a:gd name="textAreaTop" fmla="*/ 142200 h 973080"/>
              <a:gd name="textAreaBottom" fmla="*/ 830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同心圆 21"/>
          <p:cNvSpPr/>
          <p:nvPr/>
        </p:nvSpPr>
        <p:spPr>
          <a:xfrm>
            <a:off x="2195640" y="4105440"/>
            <a:ext cx="1152360" cy="1152360"/>
          </a:xfrm>
          <a:custGeom>
            <a:avLst/>
            <a:gdLst>
              <a:gd name="textAreaLeft" fmla="*/ 168480 w 1152360"/>
              <a:gd name="textAreaRight" fmla="*/ 983880 w 1152360"/>
              <a:gd name="textAreaTop" fmla="*/ 168480 h 1152360"/>
              <a:gd name="textAreaBottom" fmla="*/ 9838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同心圆 22"/>
          <p:cNvSpPr/>
          <p:nvPr/>
        </p:nvSpPr>
        <p:spPr>
          <a:xfrm>
            <a:off x="3924360" y="3789360"/>
            <a:ext cx="1295280" cy="1295280"/>
          </a:xfrm>
          <a:custGeom>
            <a:avLst/>
            <a:gdLst>
              <a:gd name="textAreaLeft" fmla="*/ 189720 w 1295280"/>
              <a:gd name="textAreaRight" fmla="*/ 1105560 w 1295280"/>
              <a:gd name="textAreaTop" fmla="*/ 189720 h 1295280"/>
              <a:gd name="textAreaBottom" fmla="*/ 11055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同心圆 23"/>
          <p:cNvSpPr/>
          <p:nvPr/>
        </p:nvSpPr>
        <p:spPr>
          <a:xfrm>
            <a:off x="5724360" y="4076640"/>
            <a:ext cx="1151280" cy="1152720"/>
          </a:xfrm>
          <a:custGeom>
            <a:avLst/>
            <a:gdLst>
              <a:gd name="textAreaLeft" fmla="*/ 168480 w 1151280"/>
              <a:gd name="textAreaRight" fmla="*/ 982800 w 1151280"/>
              <a:gd name="textAreaTop" fmla="*/ 168840 h 1152720"/>
              <a:gd name="textAreaBottom" fmla="*/ 9838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同心圆 24"/>
          <p:cNvSpPr/>
          <p:nvPr/>
        </p:nvSpPr>
        <p:spPr>
          <a:xfrm>
            <a:off x="7632720" y="4789440"/>
            <a:ext cx="971640" cy="973080"/>
          </a:xfrm>
          <a:custGeom>
            <a:avLst/>
            <a:gdLst>
              <a:gd name="textAreaLeft" fmla="*/ 142200 w 971640"/>
              <a:gd name="textAreaRight" fmla="*/ 829440 w 971640"/>
              <a:gd name="textAreaTop" fmla="*/ 142200 h 973080"/>
              <a:gd name="textAreaBottom" fmla="*/ 830880 h 9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241" y="10800"/>
                </a:moveTo>
                <a:cubicBezTo>
                  <a:pt x="2241" y="15527"/>
                  <a:pt x="6073" y="19359"/>
                  <a:pt x="10800" y="19359"/>
                </a:cubicBezTo>
                <a:cubicBezTo>
                  <a:pt x="15527" y="19359"/>
                  <a:pt x="19359" y="15527"/>
                  <a:pt x="19359" y="10800"/>
                </a:cubicBezTo>
                <a:cubicBezTo>
                  <a:pt x="19359" y="6073"/>
                  <a:pt x="15527" y="2241"/>
                  <a:pt x="10800" y="2241"/>
                </a:cubicBezTo>
                <a:cubicBezTo>
                  <a:pt x="6073" y="2241"/>
                  <a:pt x="2241" y="6073"/>
                  <a:pt x="2241" y="108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5"/>
          <p:cNvSpPr/>
          <p:nvPr/>
        </p:nvSpPr>
        <p:spPr>
          <a:xfrm>
            <a:off x="2771640" y="3130560"/>
            <a:ext cx="0" cy="94608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6"/>
          <p:cNvSpPr/>
          <p:nvPr/>
        </p:nvSpPr>
        <p:spPr>
          <a:xfrm>
            <a:off x="1003320" y="3706920"/>
            <a:ext cx="0" cy="94608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7"/>
          <p:cNvSpPr/>
          <p:nvPr/>
        </p:nvSpPr>
        <p:spPr>
          <a:xfrm>
            <a:off x="4560840" y="2809800"/>
            <a:ext cx="1800" cy="94608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28"/>
          <p:cNvSpPr/>
          <p:nvPr/>
        </p:nvSpPr>
        <p:spPr>
          <a:xfrm>
            <a:off x="6321600" y="3130560"/>
            <a:ext cx="0" cy="94608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29"/>
          <p:cNvSpPr/>
          <p:nvPr/>
        </p:nvSpPr>
        <p:spPr>
          <a:xfrm>
            <a:off x="8169120" y="3789360"/>
            <a:ext cx="0" cy="946080"/>
          </a:xfrm>
          <a:prstGeom prst="line">
            <a:avLst/>
          </a:prstGeom>
          <a:ln w="9360">
            <a:solidFill>
              <a:srgbClr val="ffffff">
                <a:alpha val="68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30"/>
          <p:cNvSpPr/>
          <p:nvPr/>
        </p:nvSpPr>
        <p:spPr>
          <a:xfrm>
            <a:off x="7513200" y="288612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31"/>
          <p:cNvSpPr/>
          <p:nvPr/>
        </p:nvSpPr>
        <p:spPr>
          <a:xfrm>
            <a:off x="5641560" y="230976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2"/>
          <p:cNvSpPr/>
          <p:nvPr/>
        </p:nvSpPr>
        <p:spPr>
          <a:xfrm>
            <a:off x="3885480" y="175896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3"/>
          <p:cNvSpPr/>
          <p:nvPr/>
        </p:nvSpPr>
        <p:spPr>
          <a:xfrm>
            <a:off x="2152080" y="230976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4"/>
          <p:cNvSpPr/>
          <p:nvPr/>
        </p:nvSpPr>
        <p:spPr>
          <a:xfrm>
            <a:off x="397080" y="2886120"/>
            <a:ext cx="1198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录入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88840" y="259920"/>
            <a:ext cx="303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</a:rPr>
              <a:t>在此录入文字标题</a:t>
            </a:r>
            <a:endParaRPr b="1" lang="en-US" sz="2800" spc="-1" strike="noStrike">
              <a:solidFill>
                <a:srgbClr val="ffffff"/>
              </a:solidFill>
              <a:latin typeface="微软雅黑"/>
            </a:endParaRPr>
          </a:p>
        </p:txBody>
      </p:sp>
      <p:pic>
        <p:nvPicPr>
          <p:cNvPr id="126" name="图片 6" descr=""/>
          <p:cNvPicPr/>
          <p:nvPr/>
        </p:nvPicPr>
        <p:blipFill>
          <a:blip r:embed="rId3"/>
          <a:stretch/>
        </p:blipFill>
        <p:spPr>
          <a:xfrm>
            <a:off x="0" y="5589720"/>
            <a:ext cx="914400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使用规范说明</a:t>
            </a:r>
            <a:endParaRPr b="1" lang="en-US" sz="40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4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微软雅黑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7-20T11:42:26Z</dcterms:modified>
  <cp:revision>1</cp:revision>
  <dc:subject/>
  <dc:title>餐饮牛奶PPT模板下载</dc:title>
</cp:coreProperties>
</file>