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F88-E577-4C9E-9515-89C6A87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F0F-9E69-44D1-BF94-8CB9080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A60-C6DC-4B8E-8880-175C2632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C07-8489-4B5C-8CC8-E8D16C66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ED2-D797-42EF-AEBC-4E9323D6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F02-F9D2-430D-9C02-8060CF62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E42A-C2C1-4D2C-A675-937AEA1E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2485-9C3C-4AD1-BA5D-74E04167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0E3-2565-42B7-9AD8-B810B700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C245-3C2B-455F-8650-983C9E7B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823E-FF13-4952-94D5-BFD272E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FC2-0026-4B7F-A00C-398D3E6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A9A1-C5A1-46B1-9B51-411790B1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2A6-6848-4117-9E1C-CF66DB6C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327-4CCA-4AF5-9EB9-3E6B702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3CD-31F2-4F6C-8808-4C8C25E2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C84B-DE23-4651-8B7F-2B1EAA56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FF7-70C7-4B8D-B10C-5B0FFDB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32B-049E-483F-84E1-DE4B5D40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67D-C47F-4573-AB74-084E00F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9A1-C557-4BF6-9577-1ED7C243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CF9-935A-4B64-BD1F-320774C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308-1217-4441-87B4-3E12DEC0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5A5-6540-46D2-988A-D621A5F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4A1-41B0-4C30-94BB-8AC500E53B30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2A8B-CD7B-49B8-9402-FC76BA70FF9A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700-F80B-4C0A-AF59-5BD2285F0B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48211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9632"/>
                </a:solidFill>
                <a:latin typeface="华文隶书"/>
                <a:ea typeface="华文隶书"/>
              </a:rPr>
              <a:t>感谢您的关注！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1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3:08:41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