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3A8-393A-4F99-91D6-3DAE0CD18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1D8-398E-4A52-AB52-D9EBA6DC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F96-5123-435A-9C47-1184BBE0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EEF-BB7C-424C-9C51-4EFB98E0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BCA0-6660-4125-838C-338E05E4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97B-DA2E-4010-9B9F-25B8B9E4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EF39-876E-419B-ACB1-EF37D606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B685-E634-45DC-A42C-ECF53C07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BA9-7C41-4479-B39B-ABC41FB4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058-4454-4B76-8940-F41A5D09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0235-ABD3-464A-87DA-07F600D3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C95-48C1-4DEC-B535-EBBEAF35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1204-7D31-4C52-820A-3FC00846E2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003446"/>
                </a:solidFill>
                <a:latin typeface="Arial"/>
              </a:rPr>
              <a:t>淡雅</a:t>
            </a:r>
            <a:r>
              <a:rPr b="0" lang="zh-CN" sz="4000" spc="-1" strike="noStrike">
                <a:solidFill>
                  <a:srgbClr val="003446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3446"/>
                </a:solidFill>
                <a:latin typeface="Arial"/>
              </a:rPr>
              <a:t>模板完整版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华文行楷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D89-B11E-4B8F-B6E4-4A6CDE7679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2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2:50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