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8C2-B752-4577-85B3-A01FDA05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EB8-B49D-4454-A1C4-BC7B9A57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9EB-ED87-4A03-8677-0ACBBF3E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311-9500-4B8C-BCF0-AB6DC65CD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62D0-0775-440C-A036-B9CD2ED0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80AA-55F2-4FA9-9C31-7C5BA4D8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0F50-1C34-450B-A04A-45F13F43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7F79-84B2-4C2E-ADDB-668E26A7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D7F8-3000-4ACF-B868-414981B6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D4B5-F353-4AC6-9071-886E4E90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4D50-9E16-4326-B49A-B215A59B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D07-9315-412D-8154-41AAD34C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882B-18B6-4944-8D6E-1ED36C9B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6B4C-E102-43B7-B07A-9D7A244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8864-D097-4AAB-AEF6-5B3319E6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42F9-716B-401C-BF73-69391D83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917D-87AA-4C74-8FB6-97E02BAD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0F17-1482-4E61-B88B-FE1939EB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A5E-1A66-48A7-8000-43043C9B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776-5C0C-4A8A-979D-093576AE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E5A-8778-4A0B-8ED7-5483184E2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EED-B5B9-433C-97A8-2F837953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B2C-92AB-432B-B716-20314EA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D4D-83BD-4196-A9C2-E002A62E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33BA-6A5E-4184-A534-05D52E140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F095-4176-4B5E-BC68-6FB1F01EAF69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aihuayuan.com/peony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gscn.com/jqkk/Print.asp?ArticleID=154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.baidu.com/i?ct=503316480&amp;z=380802752&amp;tn=baiduimagedetail&amp;word=&#26494;&#19979;&#24184;&#20043;&#21161;&amp;in=3" TargetMode="External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.baidu.com/i?ct=503316480&amp;z=882017851&amp;tn=baiduimagedetail&amp;word=&#32511;&#21494;&amp;in=10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image.baidu.com/i?ct=503316480&amp;z=310588453&amp;tn=baiduimagedetail&amp;word=&#23567;&#33457;&#23567;&#40479;&amp;in=5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image.baidu.com/i?ct=503316480&amp;z=527480403&amp;tn=baiduimagedetail&amp;word=&#23567;&#40479;&amp;in=11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.baidu.com/i?ct=503316480&amp;z=620300650&amp;tn=baiduimagedetail&amp;word=&#27744;&#22616;&amp;in=4" TargetMode="External"/><Relationship Id="rId9" Type="http://schemas.openxmlformats.org/officeDocument/2006/relationships/image" Target="../media/image8.jpe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tlearner.net/desk/desk_1389.htm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dabaoku.com/sucai/ziran/baiyunxilie/web/013am.htm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ir.chinadiary.com/website1/126341/content/200601/pic80238.s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ucai.dabaoku.com/ziran/baiyunxilie/web/026az.htm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9" descr="f2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18960" y="9097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自然的启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Xuridongshe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640" y="622620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62D-87CB-41A5-912D-F81DEFC9AF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200410081605237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468360" y="62064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黄果树大瀑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684360" y="2421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从高处跌落，往往气短神伤；水从高处跌落，偏偏神采飞扬。看看我们的黄果树吧，看看我们的大瀑布吧。飞流直下，悬崖万丈；没有犹豫，不可阻挡。跌落的水在这里变成了强中之强。人有所短，水有所长，水也可以成为人的榜样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066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"/>
          <p:cNvSpPr/>
          <p:nvPr/>
        </p:nvSpPr>
        <p:spPr>
          <a:xfrm>
            <a:off x="3851280" y="40464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松下幸之助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94-198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日本著名的松下电器集团的创始人，他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元投资起家，被誉为日本“经营之神”，在企业界他以独有的用人管理方式著称，提倡人们从广阔的自然界吸取有益的启示，从而提升人生的意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u=1492106873,2411076293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907920"/>
            <a:ext cx="3240000" cy="496908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33"/>
          <p:cNvSpPr/>
          <p:nvPr/>
        </p:nvSpPr>
        <p:spPr>
          <a:xfrm>
            <a:off x="8476200" y="0"/>
            <a:ext cx="6678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，思考：文章在我们面前展现了哪几幅画面？请用一句话概括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43"/>
          <p:cNvGrpSpPr/>
          <p:nvPr/>
        </p:nvGrpSpPr>
        <p:grpSpPr>
          <a:xfrm>
            <a:off x="3962520" y="0"/>
            <a:ext cx="3657600" cy="3278880"/>
            <a:chOff x="3962520" y="0"/>
            <a:chExt cx="3657600" cy="3278880"/>
          </a:xfrm>
        </p:grpSpPr>
        <p:pic>
          <p:nvPicPr>
            <p:cNvPr id="91" name="Picture 1041" descr="u=3405774504,494804538&amp;gp=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3962520" y="0"/>
              <a:ext cx="365760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42"/>
            <p:cNvSpPr/>
            <p:nvPr/>
          </p:nvSpPr>
          <p:spPr>
            <a:xfrm>
              <a:off x="4648320" y="25146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7a77"/>
                  </a:solidFill>
                  <a:latin typeface="Arial"/>
                </a:rPr>
                <a:t>嫩芽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054"/>
          <p:cNvGrpSpPr/>
          <p:nvPr/>
        </p:nvGrpSpPr>
        <p:grpSpPr>
          <a:xfrm>
            <a:off x="0" y="0"/>
            <a:ext cx="3962520" cy="6858000"/>
            <a:chOff x="0" y="0"/>
            <a:chExt cx="3962520" cy="6858000"/>
          </a:xfrm>
        </p:grpSpPr>
        <p:pic>
          <p:nvPicPr>
            <p:cNvPr id="94" name="Picture 1045" descr="u=3201619913,1398917856&amp;gp=3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9625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Group 1049"/>
            <p:cNvGrpSpPr/>
            <p:nvPr/>
          </p:nvGrpSpPr>
          <p:grpSpPr>
            <a:xfrm>
              <a:off x="0" y="2971800"/>
              <a:ext cx="3962520" cy="3886200"/>
              <a:chOff x="0" y="2971800"/>
              <a:chExt cx="3962520" cy="3886200"/>
            </a:xfrm>
          </p:grpSpPr>
          <p:pic>
            <p:nvPicPr>
              <p:cNvPr id="96" name="Picture 1047" descr="u=2894968793,2841118638&amp;gp=3">
                <a:hlinkClick r:id="rId6"/>
              </p:cNvPr>
              <p:cNvPicPr/>
              <p:nvPr/>
            </p:nvPicPr>
            <p:blipFill>
              <a:blip r:embed="rId7"/>
              <a:stretch/>
            </p:blipFill>
            <p:spPr>
              <a:xfrm>
                <a:off x="0" y="3657600"/>
                <a:ext cx="3962520" cy="320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Text Box 1048"/>
              <p:cNvSpPr/>
              <p:nvPr/>
            </p:nvSpPr>
            <p:spPr>
              <a:xfrm>
                <a:off x="0" y="2971800"/>
                <a:ext cx="39625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7a77"/>
                    </a:solidFill>
                    <a:latin typeface="Arial"/>
                  </a:rPr>
                  <a:t>小花小鸟图</a:t>
                </a:r>
                <a:endParaRPr b="1" lang="en-US" sz="4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053"/>
          <p:cNvGrpSpPr/>
          <p:nvPr/>
        </p:nvGrpSpPr>
        <p:grpSpPr>
          <a:xfrm>
            <a:off x="3962520" y="3581280"/>
            <a:ext cx="4038480" cy="3276720"/>
            <a:chOff x="3962520" y="3581280"/>
            <a:chExt cx="4038480" cy="3276720"/>
          </a:xfrm>
        </p:grpSpPr>
        <p:pic>
          <p:nvPicPr>
            <p:cNvPr id="99" name="Picture 1051" descr="u=2901991005,1183903080&amp;gp=0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3962520" y="3581280"/>
              <a:ext cx="40384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52"/>
            <p:cNvSpPr/>
            <p:nvPr/>
          </p:nvSpPr>
          <p:spPr>
            <a:xfrm>
              <a:off x="4724640" y="3809880"/>
              <a:ext cx="228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7a77"/>
                  </a:solidFill>
                  <a:latin typeface="Arial"/>
                </a:rPr>
                <a:t>池塘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  <p:sndAc>
      <p:stSnd>
        <p:snd r:embed="rId10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29" descr="01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31" descr="013a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32"/>
          <p:cNvSpPr/>
          <p:nvPr/>
        </p:nvSpPr>
        <p:spPr>
          <a:xfrm>
            <a:off x="468360" y="5013360"/>
            <a:ext cx="23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白云图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静湖"/>
          <p:cNvPicPr/>
          <p:nvPr/>
        </p:nvPicPr>
        <p:blipFill>
          <a:blip r:embed="rId2"/>
          <a:stretch/>
        </p:blipFill>
        <p:spPr>
          <a:xfrm>
            <a:off x="457200" y="380880"/>
            <a:ext cx="7308720" cy="6120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5"/>
          <p:cNvSpPr txBox="1"/>
          <p:nvPr/>
        </p:nvSpPr>
        <p:spPr>
          <a:xfrm rot="5400000">
            <a:off x="5544720" y="2960640"/>
            <a:ext cx="568800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隶书"/>
              </a:rPr>
              <a:t>局部细节探究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84360" y="31417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e519c8"/>
                </a:solidFill>
                <a:latin typeface="Arial"/>
              </a:rPr>
              <a:t>、作者是如何描绘小花小鸟景物在风雨中的变化的？这些景物的变化又给作者以怎样的感受？作者由此得到了什么的人生启示</a:t>
            </a: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85800" y="5335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e519c8"/>
                </a:solidFill>
                <a:latin typeface="Arial"/>
              </a:rPr>
              <a:t>、在嫩芽图中作者是怎样向我们描写了嫩芽的？作者由此得到了什么样的人生启示</a:t>
            </a:r>
            <a:r>
              <a:rPr b="1" lang="en-US" sz="3600" spc="-1" strike="noStrike">
                <a:solidFill>
                  <a:srgbClr val="e519c8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200" y="644040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5" name="chimes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2006012215265612634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0" y="5425920"/>
            <a:ext cx="9144000" cy="76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找出“水池图”中的描写和议论句，并说说作者得到的启发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9" descr="026az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250920" y="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找出写云变化的句子和人心、命运变化的句子，说说作者得到的启示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  <p:sndAc>
      <p:stSnd>
        <p:snd r:embed="rId3" name="chimes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80880" y="266688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课文最后两段揭示了什么道理？告诉我们什么启示呢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304920" y="432756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、从表达方式上看，嫩芽图、小花小鸟图、水池图、白云图，作者的写作思路都是相同的，即先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后</a:t>
            </a:r>
            <a:r>
              <a:rPr b="1" lang="en-US" sz="4000" spc="-1" strike="noStrike" u="sng">
                <a:solidFill>
                  <a:srgbClr val="0000ff"/>
                </a:solidFill>
                <a:uFillTx/>
                <a:latin typeface="Arial"/>
                <a:ea typeface="华文新魏"/>
              </a:rPr>
              <a:t>……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457200" y="228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21"/>
          <p:cNvSpPr/>
          <p:nvPr/>
        </p:nvSpPr>
        <p:spPr>
          <a:xfrm>
            <a:off x="609480" y="304920"/>
            <a:ext cx="7772400" cy="167616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1763640" y="6094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感悟思路、主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2"/>
          <p:cNvSpPr/>
          <p:nvPr/>
        </p:nvSpPr>
        <p:spPr>
          <a:xfrm>
            <a:off x="304920" y="3808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体验拓展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09480" y="16002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大自然是我们的老师，只要你真心地关注大自然，用心体验大自然，它定会给你无穷无尽的启示与激励！以“</a:t>
            </a: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……”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</a:rPr>
              <a:t>的启示为题说一段话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39640" y="537372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欣赏有关自然现象给人们带来的哲理思考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6T04:50:17Z</dcterms:created>
  <dc:creator/>
  <dc:description/>
  <cp:keywords>幻灯片之家 http:/www.eeppt.com</cp:keywords>
  <dc:language>en-US</dc:language>
  <cp:lastModifiedBy/>
  <dcterms:modified xsi:type="dcterms:W3CDTF">2015-07-18T15:22:55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