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gif" ContentType="image/gif"/>
  <Override PartName="/ppt/media/image16.png" ContentType="image/png"/>
  <Override PartName="/ppt/media/image15.gif" ContentType="image/gif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F04-BAE6-4FB9-8606-CCFFA2A1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313-EA10-42FB-AFDF-DFACEC8E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F0E-1ACF-4139-8D7C-A9EC8DD9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597-3635-4D94-96C6-10DACCAD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030-35B7-45ED-8F00-F0D7E1C5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7D5-0384-4BFC-ABC1-3E6F8DA5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A58-729D-40EC-8E16-7E19B10D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9AC-ED26-44D8-9540-10C1BD14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8CF-355F-41F7-A463-07690CC6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D46-3861-47A5-B6E5-DD28C034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724-C7D3-4C46-A75A-97FEB1E3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D06-795E-4FF8-AE41-02B2EEFD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C321-9AA6-4743-8BCA-3A48C91E6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476280"/>
            <a:ext cx="770436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06600" y="549360"/>
            <a:ext cx="33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乘加乘减教学课件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6"/>
          <p:cNvSpPr/>
          <p:nvPr/>
        </p:nvSpPr>
        <p:spPr>
          <a:xfrm>
            <a:off x="2371680" y="171144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835280" y="4797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835280" y="5805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×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539640" y="260280"/>
            <a:ext cx="1008000" cy="719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690560" y="2602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共有多少个小朋友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701800" y="1270080"/>
            <a:ext cx="1656000" cy="12970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7"/>
          <p:cNvGrpSpPr/>
          <p:nvPr/>
        </p:nvGrpSpPr>
        <p:grpSpPr>
          <a:xfrm>
            <a:off x="1763640" y="1054080"/>
            <a:ext cx="5400720" cy="3743280"/>
            <a:chOff x="1763640" y="1054080"/>
            <a:chExt cx="5400720" cy="3743280"/>
          </a:xfrm>
        </p:grpSpPr>
        <p:sp>
          <p:nvSpPr>
            <p:cNvPr id="52" name="Rectangle 8"/>
            <p:cNvSpPr/>
            <p:nvPr/>
          </p:nvSpPr>
          <p:spPr>
            <a:xfrm>
              <a:off x="1763640" y="1054080"/>
              <a:ext cx="5400720" cy="374328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9" descr=""/>
            <p:cNvPicPr/>
            <p:nvPr/>
          </p:nvPicPr>
          <p:blipFill>
            <a:blip r:embed="rId2"/>
            <a:stretch/>
          </p:blipFill>
          <p:spPr>
            <a:xfrm>
              <a:off x="5148000" y="1341720"/>
              <a:ext cx="1224000" cy="88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0" descr=""/>
            <p:cNvPicPr/>
            <p:nvPr/>
          </p:nvPicPr>
          <p:blipFill>
            <a:blip r:embed="rId3"/>
            <a:stretch/>
          </p:blipFill>
          <p:spPr>
            <a:xfrm>
              <a:off x="4572720" y="1342080"/>
              <a:ext cx="57564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1" descr=""/>
            <p:cNvPicPr/>
            <p:nvPr/>
          </p:nvPicPr>
          <p:blipFill>
            <a:blip r:embed="rId4"/>
            <a:stretch/>
          </p:blipFill>
          <p:spPr>
            <a:xfrm>
              <a:off x="5436360" y="1917360"/>
              <a:ext cx="43164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2" descr=""/>
            <p:cNvPicPr/>
            <p:nvPr/>
          </p:nvPicPr>
          <p:blipFill>
            <a:blip r:embed="rId5"/>
            <a:stretch/>
          </p:blipFill>
          <p:spPr>
            <a:xfrm>
              <a:off x="4644000" y="2854080"/>
              <a:ext cx="172836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3" descr=""/>
            <p:cNvPicPr/>
            <p:nvPr/>
          </p:nvPicPr>
          <p:blipFill>
            <a:blip r:embed="rId6"/>
            <a:stretch/>
          </p:blipFill>
          <p:spPr>
            <a:xfrm>
              <a:off x="2627640" y="2854080"/>
              <a:ext cx="1656000" cy="1605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1692360" y="333360"/>
            <a:ext cx="6119640" cy="1224000"/>
          </a:xfrm>
          <a:prstGeom prst="cloudCallout">
            <a:avLst>
              <a:gd name="adj1" fmla="val 47689"/>
              <a:gd name="adj2" fmla="val 462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 堂 活 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2007415184814801"/>
          <p:cNvPicPr/>
          <p:nvPr/>
        </p:nvPicPr>
        <p:blipFill>
          <a:blip r:embed="rId2"/>
          <a:stretch/>
        </p:blipFill>
        <p:spPr>
          <a:xfrm>
            <a:off x="6732720" y="476280"/>
            <a:ext cx="1557360" cy="11127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"/>
          <p:cNvGrpSpPr/>
          <p:nvPr/>
        </p:nvGrpSpPr>
        <p:grpSpPr>
          <a:xfrm>
            <a:off x="1329480" y="2489040"/>
            <a:ext cx="7055640" cy="1365120"/>
            <a:chOff x="1329480" y="2489040"/>
            <a:chExt cx="7055640" cy="1365120"/>
          </a:xfrm>
        </p:grpSpPr>
        <p:grpSp>
          <p:nvGrpSpPr>
            <p:cNvPr id="61" name="Group 5"/>
            <p:cNvGrpSpPr/>
            <p:nvPr/>
          </p:nvGrpSpPr>
          <p:grpSpPr>
            <a:xfrm>
              <a:off x="1329480" y="2489040"/>
              <a:ext cx="1660680" cy="1293480"/>
              <a:chOff x="1329480" y="2489040"/>
              <a:chExt cx="1660680" cy="1293480"/>
            </a:xfrm>
          </p:grpSpPr>
          <p:sp>
            <p:nvSpPr>
              <p:cNvPr id="62" name="AutoShape 6"/>
              <p:cNvSpPr/>
              <p:nvPr/>
            </p:nvSpPr>
            <p:spPr>
              <a:xfrm rot="2032800">
                <a:off x="1698120" y="2420640"/>
                <a:ext cx="144000" cy="136800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7"/>
              <p:cNvSpPr/>
              <p:nvPr/>
            </p:nvSpPr>
            <p:spPr>
              <a:xfrm rot="19653600">
                <a:off x="2490120" y="2421000"/>
                <a:ext cx="144000" cy="136800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8"/>
              <p:cNvSpPr/>
              <p:nvPr/>
            </p:nvSpPr>
            <p:spPr>
              <a:xfrm rot="5400000">
                <a:off x="2088000" y="3026160"/>
                <a:ext cx="144360" cy="136836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9"/>
            <p:cNvGrpSpPr/>
            <p:nvPr/>
          </p:nvGrpSpPr>
          <p:grpSpPr>
            <a:xfrm>
              <a:off x="3129480" y="2559960"/>
              <a:ext cx="1661040" cy="1294200"/>
              <a:chOff x="3129480" y="2559960"/>
              <a:chExt cx="1661040" cy="1294200"/>
            </a:xfrm>
          </p:grpSpPr>
          <p:sp>
            <p:nvSpPr>
              <p:cNvPr id="66" name="AutoShape 10"/>
              <p:cNvSpPr/>
              <p:nvPr/>
            </p:nvSpPr>
            <p:spPr>
              <a:xfrm rot="2032800">
                <a:off x="3498480" y="2491560"/>
                <a:ext cx="144000" cy="136836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11"/>
              <p:cNvSpPr/>
              <p:nvPr/>
            </p:nvSpPr>
            <p:spPr>
              <a:xfrm rot="19653600">
                <a:off x="4290840" y="2491920"/>
                <a:ext cx="144000" cy="136836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12"/>
              <p:cNvSpPr/>
              <p:nvPr/>
            </p:nvSpPr>
            <p:spPr>
              <a:xfrm rot="5400000">
                <a:off x="3888000" y="3097440"/>
                <a:ext cx="144720" cy="136836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3"/>
            <p:cNvGrpSpPr/>
            <p:nvPr/>
          </p:nvGrpSpPr>
          <p:grpSpPr>
            <a:xfrm>
              <a:off x="4929840" y="2489040"/>
              <a:ext cx="1660680" cy="1293480"/>
              <a:chOff x="4929840" y="2489040"/>
              <a:chExt cx="1660680" cy="1293480"/>
            </a:xfrm>
          </p:grpSpPr>
          <p:sp>
            <p:nvSpPr>
              <p:cNvPr id="70" name="AutoShape 14"/>
              <p:cNvSpPr/>
              <p:nvPr/>
            </p:nvSpPr>
            <p:spPr>
              <a:xfrm rot="2032800">
                <a:off x="5298480" y="2420640"/>
                <a:ext cx="144000" cy="136800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15"/>
              <p:cNvSpPr/>
              <p:nvPr/>
            </p:nvSpPr>
            <p:spPr>
              <a:xfrm rot="19653600">
                <a:off x="6090480" y="2421000"/>
                <a:ext cx="144000" cy="136800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16"/>
              <p:cNvSpPr/>
              <p:nvPr/>
            </p:nvSpPr>
            <p:spPr>
              <a:xfrm rot="5400000">
                <a:off x="5688360" y="3026160"/>
                <a:ext cx="144360" cy="136836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AutoShape 17"/>
            <p:cNvSpPr/>
            <p:nvPr/>
          </p:nvSpPr>
          <p:spPr>
            <a:xfrm rot="2032800">
              <a:off x="7092720" y="2421000"/>
              <a:ext cx="144360" cy="1368000"/>
            </a:xfrm>
            <a:prstGeom prst="can">
              <a:avLst>
                <a:gd name="adj" fmla="val 1206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18"/>
            <p:cNvSpPr/>
            <p:nvPr/>
          </p:nvSpPr>
          <p:spPr>
            <a:xfrm rot="19653600">
              <a:off x="7884720" y="2420640"/>
              <a:ext cx="144360" cy="1368000"/>
            </a:xfrm>
            <a:prstGeom prst="can">
              <a:avLst>
                <a:gd name="adj" fmla="val 1206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19"/>
          <p:cNvSpPr/>
          <p:nvPr/>
        </p:nvSpPr>
        <p:spPr>
          <a:xfrm>
            <a:off x="1547640" y="472428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1906560" y="4653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×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1906560" y="5661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×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6381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2"/>
          <p:cNvSpPr/>
          <p:nvPr/>
        </p:nvSpPr>
        <p:spPr>
          <a:xfrm>
            <a:off x="1692360" y="0"/>
            <a:ext cx="6119640" cy="1197000"/>
          </a:xfrm>
          <a:prstGeom prst="cloudCallout">
            <a:avLst>
              <a:gd name="adj1" fmla="val 47689"/>
              <a:gd name="adj2" fmla="val 76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 堂 活 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547640" y="472428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906560" y="4653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×6-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906560" y="5661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×5+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2007415184814801"/>
          <p:cNvPicPr/>
          <p:nvPr/>
        </p:nvPicPr>
        <p:blipFill>
          <a:blip r:embed="rId2"/>
          <a:stretch/>
        </p:blipFill>
        <p:spPr>
          <a:xfrm>
            <a:off x="6732720" y="549360"/>
            <a:ext cx="1557360" cy="111276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7"/>
          <p:cNvGrpSpPr/>
          <p:nvPr/>
        </p:nvGrpSpPr>
        <p:grpSpPr>
          <a:xfrm>
            <a:off x="1476360" y="1917720"/>
            <a:ext cx="6410160" cy="1798200"/>
            <a:chOff x="1476360" y="1917720"/>
            <a:chExt cx="6410160" cy="1798200"/>
          </a:xfrm>
        </p:grpSpPr>
        <p:grpSp>
          <p:nvGrpSpPr>
            <p:cNvPr id="85" name="Group 8"/>
            <p:cNvGrpSpPr/>
            <p:nvPr/>
          </p:nvGrpSpPr>
          <p:grpSpPr>
            <a:xfrm>
              <a:off x="2457360" y="1918080"/>
              <a:ext cx="982440" cy="1797840"/>
              <a:chOff x="2457360" y="1918080"/>
              <a:chExt cx="982440" cy="1797840"/>
            </a:xfrm>
          </p:grpSpPr>
          <p:sp>
            <p:nvSpPr>
              <p:cNvPr id="86" name="AutoShape 9"/>
              <p:cNvSpPr/>
              <p:nvPr/>
            </p:nvSpPr>
            <p:spPr>
              <a:xfrm>
                <a:off x="2457720" y="1918080"/>
                <a:ext cx="982080" cy="8636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utoShape 10"/>
              <p:cNvSpPr/>
              <p:nvPr/>
            </p:nvSpPr>
            <p:spPr>
              <a:xfrm>
                <a:off x="2457360" y="2852640"/>
                <a:ext cx="981720" cy="86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11"/>
            <p:cNvGrpSpPr/>
            <p:nvPr/>
          </p:nvGrpSpPr>
          <p:grpSpPr>
            <a:xfrm>
              <a:off x="3567960" y="1917720"/>
              <a:ext cx="982800" cy="1797840"/>
              <a:chOff x="3567960" y="1917720"/>
              <a:chExt cx="982800" cy="1797840"/>
            </a:xfrm>
          </p:grpSpPr>
          <p:sp>
            <p:nvSpPr>
              <p:cNvPr id="89" name="AutoShape 12"/>
              <p:cNvSpPr/>
              <p:nvPr/>
            </p:nvSpPr>
            <p:spPr>
              <a:xfrm>
                <a:off x="3568320" y="1917720"/>
                <a:ext cx="982440" cy="8636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AutoShape 13"/>
              <p:cNvSpPr/>
              <p:nvPr/>
            </p:nvSpPr>
            <p:spPr>
              <a:xfrm>
                <a:off x="3567960" y="2852280"/>
                <a:ext cx="982080" cy="86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14"/>
            <p:cNvGrpSpPr/>
            <p:nvPr/>
          </p:nvGrpSpPr>
          <p:grpSpPr>
            <a:xfrm>
              <a:off x="4681080" y="1917720"/>
              <a:ext cx="982440" cy="1797840"/>
              <a:chOff x="4681080" y="1917720"/>
              <a:chExt cx="982440" cy="1797840"/>
            </a:xfrm>
          </p:grpSpPr>
          <p:sp>
            <p:nvSpPr>
              <p:cNvPr id="92" name="AutoShape 15"/>
              <p:cNvSpPr/>
              <p:nvPr/>
            </p:nvSpPr>
            <p:spPr>
              <a:xfrm>
                <a:off x="4681440" y="1917720"/>
                <a:ext cx="982080" cy="8636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16"/>
              <p:cNvSpPr/>
              <p:nvPr/>
            </p:nvSpPr>
            <p:spPr>
              <a:xfrm>
                <a:off x="4681080" y="2852280"/>
                <a:ext cx="981720" cy="86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17"/>
            <p:cNvGrpSpPr/>
            <p:nvPr/>
          </p:nvGrpSpPr>
          <p:grpSpPr>
            <a:xfrm>
              <a:off x="5792760" y="1917720"/>
              <a:ext cx="982800" cy="1797840"/>
              <a:chOff x="5792760" y="1917720"/>
              <a:chExt cx="982800" cy="1797840"/>
            </a:xfrm>
          </p:grpSpPr>
          <p:sp>
            <p:nvSpPr>
              <p:cNvPr id="95" name="AutoShape 18"/>
              <p:cNvSpPr/>
              <p:nvPr/>
            </p:nvSpPr>
            <p:spPr>
              <a:xfrm>
                <a:off x="5793120" y="1917720"/>
                <a:ext cx="982440" cy="8636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9"/>
              <p:cNvSpPr/>
              <p:nvPr/>
            </p:nvSpPr>
            <p:spPr>
              <a:xfrm>
                <a:off x="5792760" y="2852280"/>
                <a:ext cx="982080" cy="86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20"/>
            <p:cNvSpPr/>
            <p:nvPr/>
          </p:nvSpPr>
          <p:spPr>
            <a:xfrm>
              <a:off x="6904800" y="1917720"/>
              <a:ext cx="981720" cy="862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6"/>
                  </a:moveTo>
                  <a:lnTo>
                    <a:pt x="3819" y="3816"/>
                  </a:lnTo>
                  <a:lnTo>
                    <a:pt x="5000" y="0"/>
                  </a:lnTo>
                  <a:lnTo>
                    <a:pt x="6181" y="3816"/>
                  </a:lnTo>
                  <a:lnTo>
                    <a:pt x="10000" y="3816"/>
                  </a:lnTo>
                  <a:lnTo>
                    <a:pt x="6910" y="6184"/>
                  </a:lnTo>
                  <a:lnTo>
                    <a:pt x="8090" y="10000"/>
                  </a:lnTo>
                  <a:lnTo>
                    <a:pt x="5000" y="7640"/>
                  </a:lnTo>
                  <a:lnTo>
                    <a:pt x="1910" y="10000"/>
                  </a:lnTo>
                  <a:lnTo>
                    <a:pt x="3090" y="6184"/>
                  </a:lnTo>
                  <a:lnTo>
                    <a:pt x="0" y="38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1"/>
            <p:cNvGrpSpPr/>
            <p:nvPr/>
          </p:nvGrpSpPr>
          <p:grpSpPr>
            <a:xfrm>
              <a:off x="1476360" y="1917720"/>
              <a:ext cx="982800" cy="1797840"/>
              <a:chOff x="1476360" y="1917720"/>
              <a:chExt cx="982800" cy="1797840"/>
            </a:xfrm>
          </p:grpSpPr>
          <p:sp>
            <p:nvSpPr>
              <p:cNvPr id="99" name="AutoShape 22"/>
              <p:cNvSpPr/>
              <p:nvPr/>
            </p:nvSpPr>
            <p:spPr>
              <a:xfrm>
                <a:off x="1476720" y="1917720"/>
                <a:ext cx="982440" cy="8636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23"/>
              <p:cNvSpPr/>
              <p:nvPr/>
            </p:nvSpPr>
            <p:spPr>
              <a:xfrm>
                <a:off x="1476360" y="2852280"/>
                <a:ext cx="982080" cy="86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1692360" y="0"/>
            <a:ext cx="6597720" cy="1662120"/>
            <a:chOff x="1692360" y="0"/>
            <a:chExt cx="6597720" cy="1662120"/>
          </a:xfrm>
        </p:grpSpPr>
        <p:sp>
          <p:nvSpPr>
            <p:cNvPr id="103" name="AutoShape 3"/>
            <p:cNvSpPr/>
            <p:nvPr/>
          </p:nvSpPr>
          <p:spPr>
            <a:xfrm>
              <a:off x="1692360" y="0"/>
              <a:ext cx="6119640" cy="1197000"/>
            </a:xfrm>
            <a:prstGeom prst="cloudCallout">
              <a:avLst>
                <a:gd name="adj1" fmla="val 47689"/>
                <a:gd name="adj2" fmla="val 7625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当堂检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2007415184814801"/>
            <p:cNvPicPr/>
            <p:nvPr/>
          </p:nvPicPr>
          <p:blipFill>
            <a:blip r:embed="rId2"/>
            <a:stretch/>
          </p:blipFill>
          <p:spPr>
            <a:xfrm>
              <a:off x="6732720" y="549360"/>
              <a:ext cx="155736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Text Box 5"/>
          <p:cNvSpPr/>
          <p:nvPr/>
        </p:nvSpPr>
        <p:spPr>
          <a:xfrm>
            <a:off x="468360" y="1628640"/>
            <a:ext cx="712944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     4×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    5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     5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   8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87280" y="1557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共有多少台电脑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1692360" y="0"/>
            <a:ext cx="6597720" cy="1662120"/>
            <a:chOff x="1692360" y="0"/>
            <a:chExt cx="6597720" cy="1662120"/>
          </a:xfrm>
        </p:grpSpPr>
        <p:sp>
          <p:nvSpPr>
            <p:cNvPr id="108" name="AutoShape 4"/>
            <p:cNvSpPr/>
            <p:nvPr/>
          </p:nvSpPr>
          <p:spPr>
            <a:xfrm>
              <a:off x="1692360" y="0"/>
              <a:ext cx="6119640" cy="1197000"/>
            </a:xfrm>
            <a:prstGeom prst="cloudCallout">
              <a:avLst>
                <a:gd name="adj1" fmla="val 47689"/>
                <a:gd name="adj2" fmla="val 7625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当堂检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5" descr="2007415184814801"/>
            <p:cNvPicPr/>
            <p:nvPr/>
          </p:nvPicPr>
          <p:blipFill>
            <a:blip r:embed="rId2"/>
            <a:stretch/>
          </p:blipFill>
          <p:spPr>
            <a:xfrm>
              <a:off x="6732720" y="549360"/>
              <a:ext cx="155736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Text Box 6"/>
          <p:cNvSpPr/>
          <p:nvPr/>
        </p:nvSpPr>
        <p:spPr>
          <a:xfrm>
            <a:off x="1835280" y="4797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835280" y="5805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3"/>
          <a:stretch/>
        </p:blipFill>
        <p:spPr>
          <a:xfrm>
            <a:off x="2629080" y="2349360"/>
            <a:ext cx="2471400" cy="21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9A4-E653-4D4E-9E53-BCAD879008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1692360" y="0"/>
            <a:ext cx="6597720" cy="1662120"/>
            <a:chOff x="1692360" y="0"/>
            <a:chExt cx="6597720" cy="1662120"/>
          </a:xfrm>
        </p:grpSpPr>
        <p:sp>
          <p:nvSpPr>
            <p:cNvPr id="117" name="AutoShape 3"/>
            <p:cNvSpPr/>
            <p:nvPr/>
          </p:nvSpPr>
          <p:spPr>
            <a:xfrm>
              <a:off x="1692360" y="0"/>
              <a:ext cx="6119640" cy="1197000"/>
            </a:xfrm>
            <a:prstGeom prst="cloudCallout">
              <a:avLst>
                <a:gd name="adj1" fmla="val 47689"/>
                <a:gd name="adj2" fmla="val 7625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当堂检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4" descr="2007415184814801"/>
            <p:cNvPicPr/>
            <p:nvPr/>
          </p:nvPicPr>
          <p:blipFill>
            <a:blip r:embed="rId2"/>
            <a:stretch/>
          </p:blipFill>
          <p:spPr>
            <a:xfrm>
              <a:off x="6732720" y="549360"/>
              <a:ext cx="155736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5"/>
          <p:cNvSpPr/>
          <p:nvPr/>
        </p:nvSpPr>
        <p:spPr>
          <a:xfrm>
            <a:off x="1187280" y="1557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算一算，连一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1187280" y="2349360"/>
            <a:ext cx="7056720" cy="3681720"/>
            <a:chOff x="1187280" y="2349360"/>
            <a:chExt cx="7056720" cy="3681720"/>
          </a:xfrm>
        </p:grpSpPr>
        <p:pic>
          <p:nvPicPr>
            <p:cNvPr id="121" name="Picture 7" descr="28"/>
            <p:cNvPicPr/>
            <p:nvPr/>
          </p:nvPicPr>
          <p:blipFill>
            <a:blip r:embed="rId3"/>
            <a:srcRect l="30669" t="73256" r="10722" b="6552"/>
            <a:stretch/>
          </p:blipFill>
          <p:spPr>
            <a:xfrm>
              <a:off x="1187280" y="2349360"/>
              <a:ext cx="705672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8"/>
            <p:cNvSpPr/>
            <p:nvPr/>
          </p:nvSpPr>
          <p:spPr>
            <a:xfrm>
              <a:off x="1490760" y="3248280"/>
              <a:ext cx="128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3×3</a:t>
              </a:r>
              <a:r>
                <a:rPr b="0" lang="zh-CN" sz="2000" spc="-1" strike="noStrike">
                  <a:solidFill>
                    <a:srgbClr val="ff00ff"/>
                  </a:solidFill>
                  <a:latin typeface="Arial Black"/>
                </a:rPr>
                <a:t>＋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3289680" y="3284640"/>
              <a:ext cx="128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2×4</a:t>
              </a:r>
              <a:r>
                <a:rPr b="0" lang="zh-CN" sz="2000" spc="-1" strike="noStrike">
                  <a:solidFill>
                    <a:srgbClr val="ff00ff"/>
                  </a:solidFill>
                  <a:latin typeface="Arial Black"/>
                </a:rPr>
                <a:t>＋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5004360" y="3285720"/>
              <a:ext cx="128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3×4</a:t>
              </a:r>
              <a:r>
                <a:rPr b="0" lang="zh-CN" sz="2000" spc="-1" strike="noStrike">
                  <a:solidFill>
                    <a:srgbClr val="ff00ff"/>
                  </a:solidFill>
                  <a:latin typeface="Arial Black"/>
                </a:rPr>
                <a:t>－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6530760" y="3285720"/>
              <a:ext cx="128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6×3</a:t>
              </a:r>
              <a:r>
                <a:rPr b="0" lang="zh-CN" sz="2000" spc="-1" strike="noStrike">
                  <a:solidFill>
                    <a:srgbClr val="ff00ff"/>
                  </a:solidFill>
                  <a:latin typeface="Arial Black"/>
                </a:rPr>
                <a:t>－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2"/>
            <p:cNvSpPr/>
            <p:nvPr/>
          </p:nvSpPr>
          <p:spPr>
            <a:xfrm>
              <a:off x="1402920" y="5227560"/>
              <a:ext cx="128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5×3</a:t>
              </a:r>
              <a:r>
                <a:rPr b="0" lang="zh-CN" sz="2000" spc="-1" strike="noStrike">
                  <a:solidFill>
                    <a:srgbClr val="ff00ff"/>
                  </a:solidFill>
                  <a:latin typeface="Arial Black"/>
                </a:rPr>
                <a:t>＋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3"/>
            <p:cNvSpPr/>
            <p:nvPr/>
          </p:nvSpPr>
          <p:spPr>
            <a:xfrm>
              <a:off x="3201840" y="5263200"/>
              <a:ext cx="128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3×3</a:t>
              </a:r>
              <a:r>
                <a:rPr b="0" lang="zh-CN" sz="2000" spc="-1" strike="noStrike">
                  <a:solidFill>
                    <a:srgbClr val="ff00ff"/>
                  </a:solidFill>
                  <a:latin typeface="Arial Black"/>
                </a:rPr>
                <a:t>＋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4"/>
            <p:cNvSpPr/>
            <p:nvPr/>
          </p:nvSpPr>
          <p:spPr>
            <a:xfrm>
              <a:off x="4916520" y="5158440"/>
              <a:ext cx="128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3×4</a:t>
              </a:r>
              <a:r>
                <a:rPr b="0" lang="zh-CN" sz="2000" spc="-1" strike="noStrike">
                  <a:solidFill>
                    <a:srgbClr val="ff00ff"/>
                  </a:solidFill>
                  <a:latin typeface="Arial Black"/>
                </a:rPr>
                <a:t>－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5"/>
            <p:cNvSpPr/>
            <p:nvPr/>
          </p:nvSpPr>
          <p:spPr>
            <a:xfrm>
              <a:off x="6530760" y="5157720"/>
              <a:ext cx="128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5×2</a:t>
              </a:r>
              <a:r>
                <a:rPr b="0" lang="zh-CN" sz="2000" spc="-1" strike="noStrike">
                  <a:solidFill>
                    <a:srgbClr val="ff00ff"/>
                  </a:solidFill>
                  <a:latin typeface="Arial Black"/>
                </a:rPr>
                <a:t>－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Line 16"/>
          <p:cNvSpPr/>
          <p:nvPr/>
        </p:nvSpPr>
        <p:spPr>
          <a:xfrm>
            <a:off x="2270160" y="3790800"/>
            <a:ext cx="3309840" cy="1295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>
            <a:off x="3924360" y="3790800"/>
            <a:ext cx="3241440" cy="1295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 flipH="1">
            <a:off x="3779640" y="3719520"/>
            <a:ext cx="2089080" cy="1438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 flipH="1">
            <a:off x="2052720" y="3790800"/>
            <a:ext cx="4897440" cy="1295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111960" y="657000"/>
            <a:ext cx="10007280" cy="6047640"/>
            <a:chOff x="-111960" y="657000"/>
            <a:chExt cx="10007280" cy="6047640"/>
          </a:xfrm>
        </p:grpSpPr>
        <p:pic>
          <p:nvPicPr>
            <p:cNvPr id="136" name="Picture 3" descr="20060206231519984"/>
            <p:cNvPicPr/>
            <p:nvPr/>
          </p:nvPicPr>
          <p:blipFill>
            <a:blip r:embed="rId2"/>
            <a:stretch/>
          </p:blipFill>
          <p:spPr>
            <a:xfrm>
              <a:off x="4952880" y="3175200"/>
              <a:ext cx="914400" cy="28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4"/>
            <p:cNvSpPr txBox="1"/>
            <p:nvPr/>
          </p:nvSpPr>
          <p:spPr>
            <a:xfrm rot="1339800">
              <a:off x="0" y="2421000"/>
              <a:ext cx="9783720" cy="2519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64976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4062000"/>
                  </a:gradFill>
                  <a:latin typeface="隶书"/>
                </a:rPr>
                <a:t>再 见 ！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062000"/>
                </a:gradFill>
                <a:latin typeface="隶书"/>
                <a:ea typeface="隶书"/>
              </a:endParaRPr>
            </a:p>
          </p:txBody>
        </p:sp>
      </p:grpSp>
      <p:pic>
        <p:nvPicPr>
          <p:cNvPr id="138" name="Picture 5" descr="xs03gif071"/>
          <p:cNvPicPr/>
          <p:nvPr/>
        </p:nvPicPr>
        <p:blipFill>
          <a:blip r:embed="rId3"/>
          <a:stretch/>
        </p:blipFill>
        <p:spPr>
          <a:xfrm>
            <a:off x="3564000" y="1557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0:09:20Z</dcterms:created>
  <dc:creator/>
  <dc:description/>
  <cp:keywords>幻灯片之家 http:/www.eeppt.com</cp:keywords>
  <dc:language>en-US</dc:language>
  <cp:lastModifiedBy/>
  <cp:lastPrinted>1900-01-01T05:08:28Z</cp:lastPrinted>
  <dcterms:modified xsi:type="dcterms:W3CDTF">2015-07-04T10:44:47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