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B24-F294-467C-B9B9-DFC2C4A9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C85-FC15-4BE4-9D5B-10C9E86E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E47-5712-4B52-A736-39A8453E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70E-82B2-42B5-84A8-5E4F4CB8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3ACE-0EE0-405B-BF92-ACC46BB3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2D88-D956-4B53-AE62-8838B6DE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27D0-774E-41A5-8FB4-8A2D0660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CA62-98C9-463F-9341-BC4BA7D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1DB-0B95-47B5-88CD-A34A638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634A-214A-412C-A24E-8B5E9B3E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51F-EC38-471A-87D9-682961D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805-32AB-4FB4-AEC1-E4C09E92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7EDC-4C49-46DC-8ACB-A09A563B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D026-A833-4F61-A3C8-A916206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F06-8DEC-4928-B371-9E58D264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61F1-E763-47AF-B66F-5915DA3C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6488-6454-4717-B03C-2F0EE74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799-9C03-428A-A2A6-F9EBD53C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0EBD-ACD9-469C-A73F-5551BE9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D1F1-B317-4CC4-9001-6BD6974A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793-295B-4FB2-ACA3-CE264CE2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B70-1F2E-4A32-9083-F192106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76A-1248-4002-A8BA-32531BF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B93-A81D-4B94-9484-24078527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CDBA-9430-4B54-8911-C62DA347FB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09C-1566-4A95-9461-EF32140A5B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矩形 14"/>
          <p:cNvGrpSpPr/>
          <p:nvPr/>
        </p:nvGrpSpPr>
        <p:grpSpPr>
          <a:xfrm>
            <a:off x="139680" y="646200"/>
            <a:ext cx="8839080" cy="6035760"/>
            <a:chOff x="139680" y="646200"/>
            <a:chExt cx="8839080" cy="6035760"/>
          </a:xfrm>
        </p:grpSpPr>
        <p:pic>
          <p:nvPicPr>
            <p:cNvPr id="83" name="矩形 14" descr=""/>
            <p:cNvPicPr/>
            <p:nvPr/>
          </p:nvPicPr>
          <p:blipFill>
            <a:blip r:embed="rId1"/>
            <a:stretch/>
          </p:blipFill>
          <p:spPr>
            <a:xfrm>
              <a:off x="139680" y="646200"/>
              <a:ext cx="8839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5520" y="662040"/>
              <a:ext cx="8809200" cy="60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C:\Documents and Settings\Administrator.WWW-D1797C5692D\桌面\2商务礼仪\素材\3D设计 第三辑\3D设计-3-7.jpg"/>
          <p:cNvPicPr/>
          <p:nvPr/>
        </p:nvPicPr>
        <p:blipFill>
          <a:blip r:embed="rId2"/>
          <a:stretch/>
        </p:blipFill>
        <p:spPr>
          <a:xfrm>
            <a:off x="1806480" y="1484280"/>
            <a:ext cx="6226200" cy="5083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9640" y="2309760"/>
            <a:ext cx="3578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5520" y="9097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符号疑问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93B-83BF-4514-9D97-06EF9E1AA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8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ae01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