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783-BE02-4576-A2EC-FB6B277D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300B-44D0-4909-AEE4-37543B49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3DDF-C5E8-4A25-AA68-9998421F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E49C-3456-42C4-8DE6-E2D5D06B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C170-94DF-478C-8B07-9421A915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DEFD-CC30-49E4-BEE0-4A0ACCE4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C102-9A40-4869-98A6-482E6754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83C0-1F9F-40DB-8F08-E9EACBD8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B6CF-E010-4AE5-ADD6-F0AA6F46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E878-426E-4594-9968-4C308473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ED3C-4BEA-4035-B1E8-71F420C1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886E-3046-4EFD-990B-A35E2177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4443-C57A-4F96-9E5C-31606961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0AE6-6599-4828-A0A9-E23A5554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386B-5EA3-4FDE-B4D7-324AFDED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79DE-3EBF-4CE7-BB9D-A07FF9AB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FB25-950C-441F-BB7F-8ADA5EE2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CFFD-0F8F-4D2C-A161-2ADCB0CF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7FC5-4726-4457-B76B-837A16F2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3C8F-3ADE-45B0-8EA8-AD57F533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C07-057B-4DDB-8557-72A44BCD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39DC-A0DD-4C22-9EDC-578EC5D8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A0B3-03DD-4571-B803-BF60C068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767E-7D08-4D04-99BE-2D850B15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 Narrow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73B4-7589-419D-83A0-0E896E96E3C0}" type="slidenum">
              <a:rPr b="0" lang="zh-CN" sz="9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2546-816D-4A2E-9B28-1B209D1A520D}" type="slidenum">
              <a:rPr b="0" lang="zh-CN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3"/>
          <p:cNvSpPr/>
          <p:nvPr/>
        </p:nvSpPr>
        <p:spPr>
          <a:xfrm>
            <a:off x="0" y="5289480"/>
            <a:ext cx="9144000" cy="114300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文本框 1"/>
          <p:cNvSpPr/>
          <p:nvPr/>
        </p:nvSpPr>
        <p:spPr>
          <a:xfrm>
            <a:off x="1521000" y="2079720"/>
            <a:ext cx="61722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9bd5"/>
                </a:solidFill>
                <a:latin typeface="微软雅黑"/>
                <a:ea typeface="微软雅黑"/>
              </a:rPr>
              <a:t>感谢聆听的</a:t>
            </a:r>
            <a:r>
              <a:rPr b="0" lang="en-US" sz="4000" spc="-1" strike="noStrike">
                <a:solidFill>
                  <a:srgbClr val="5b9bd5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5b9bd5"/>
                </a:solidFill>
                <a:latin typeface="微软雅黑"/>
                <a:ea typeface="微软雅黑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椭圆 4"/>
          <p:cNvSpPr/>
          <p:nvPr/>
        </p:nvSpPr>
        <p:spPr>
          <a:xfrm>
            <a:off x="4603680" y="3189240"/>
            <a:ext cx="54000" cy="54000"/>
          </a:xfrm>
          <a:prstGeom prst="ellipse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直接连接符 6"/>
          <p:cNvSpPr/>
          <p:nvPr/>
        </p:nvSpPr>
        <p:spPr>
          <a:xfrm>
            <a:off x="2774880" y="3211560"/>
            <a:ext cx="1725840" cy="0"/>
          </a:xfrm>
          <a:prstGeom prst="line">
            <a:avLst/>
          </a:prstGeom>
          <a:ln w="12600">
            <a:solidFill>
              <a:srgbClr val="9dc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直接连接符 7"/>
          <p:cNvSpPr/>
          <p:nvPr/>
        </p:nvSpPr>
        <p:spPr>
          <a:xfrm>
            <a:off x="4761000" y="3211560"/>
            <a:ext cx="1727280" cy="0"/>
          </a:xfrm>
          <a:prstGeom prst="line">
            <a:avLst/>
          </a:prstGeom>
          <a:ln w="12600">
            <a:solidFill>
              <a:srgbClr val="9dc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文本框 13"/>
          <p:cNvSpPr/>
          <p:nvPr/>
        </p:nvSpPr>
        <p:spPr>
          <a:xfrm>
            <a:off x="2971800" y="3305160"/>
            <a:ext cx="3230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dc3e6"/>
                </a:solidFill>
                <a:latin typeface="Tempus Sans ITC"/>
                <a:ea typeface="微软雅黑"/>
              </a:rPr>
              <a:t>THANK YOU FOR YOUR ATTEN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 Narrow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FF63-A0DF-4558-BFFC-5AE4DA0576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5T02:11:0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6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fileid">
    <vt:lpwstr>519678</vt:lpwstr>
  </property>
  <property fmtid="{D5CDD505-2E9C-101B-9397-08002B2CF9AE}" pid="4" name="name">
    <vt:lpwstr>A000420141125A76PPTS.ppt</vt:lpwstr>
  </property>
  <property fmtid="{D5CDD505-2E9C-101B-9397-08002B2CF9AE}" pid="5" name="关键字">
    <vt:lpwstr/>
  </property>
  <property fmtid="{D5CDD505-2E9C-101B-9397-08002B2CF9AE}" pid="6" name="标题">
    <vt:lpwstr/>
  </property>
  <property fmtid="{D5CDD505-2E9C-101B-9397-08002B2CF9AE}" pid="7" name="模板文件">
    <vt:lpwstr>A000420141125A76PPTS.pptx</vt:lpwstr>
  </property>
</Properties>
</file>