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3B3-D30B-4F4F-A804-515EA094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0E9-5454-4B8F-B35E-BB5D8F6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B9F-DDC3-44EA-9C17-6BC03647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1A0-C31D-42F1-ABED-456B7AF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4117-3629-4DF5-B03E-15CC7502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8082-7A70-40BC-B053-37690797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B534-83A6-459D-8DE3-023421B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A2AC-4E5B-4053-B06B-17CD85A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4472-9D9A-4BDB-BA25-11639346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1FD-6C31-44C5-90F8-D7F41DE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E89-4632-44B2-B0D3-B3B084C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94D-9713-4E59-BD67-CBF15DC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CBE-2464-4BA0-95EA-5056AD1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E888-96FC-47A4-87A4-4AAB5F0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52D0-819B-4792-9FA3-5B916258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8F4-ED0C-4A79-85BD-9DE2A17B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148B-D7DD-439B-8F1F-CCAEB05F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E5F-C318-4CE4-A88D-41D801E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E83-341A-44D0-B31A-84093FA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7ED-EB03-4F58-9B96-21297F9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E39-9AB4-41B8-A7DA-C6C757F8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531-4C9C-450A-84B5-5E5CADF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D99-8B3C-4DFF-A8E4-FBABE85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3CE-2ABD-4DE2-B379-6D70836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48F-9DE2-407A-BF85-6FD7EB0E41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CB4-218C-4457-A4E0-26E14E9856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506D-07E9-468C-B723-3BDADF6DBC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5641920" y="1339920"/>
            <a:ext cx="3357720" cy="4797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"/>
          <p:cNvPicPr/>
          <p:nvPr/>
        </p:nvPicPr>
        <p:blipFill>
          <a:blip r:embed="rId2"/>
          <a:stretch/>
        </p:blipFill>
        <p:spPr>
          <a:xfrm>
            <a:off x="146160" y="206064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1280" y="62064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掌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165-9845-4F4E-8D55-D80E9D023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9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