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036-EABC-45A0-AE3F-04E0894B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0AB-03E1-48DB-99A3-E5B8ED3D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7DF-5A48-45C5-A666-1FE9BF4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9B6-69EF-4CBE-8E64-3EF3CA83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974-1B4D-4F03-AD02-80E7AF7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D52-5DE9-4B3A-8C96-60AA7DC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43B-EE84-4724-B0EF-4C53605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521-6ABD-4F98-935A-CFE935BF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439-08AE-4D59-BF1D-40C79C4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5B7-21C4-4098-8472-9FE84C0F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C22-229F-42F4-8617-B5D7C48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8AB-35B1-45CB-A78D-190893B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6A30-1E37-4A36-BDB2-932D07DAD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66,4,&#24187;&#28783;&#29255; 4" TargetMode="External"/><Relationship Id="rId4" Type="http://schemas.openxmlformats.org/officeDocument/2006/relationships/hyperlink" Target="256,5,&#24187;&#28783;&#29255; 5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7,2,&#33258;&#23398;&#35201;&#27714;&#65306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7,&#24187;&#28783;&#29255; 7" TargetMode="External"/><Relationship Id="rId3" Type="http://schemas.openxmlformats.org/officeDocument/2006/relationships/hyperlink" Target="259,7,&#24187;&#28783;&#29255; 7" TargetMode="External"/><Relationship Id="rId4" Type="http://schemas.openxmlformats.org/officeDocument/2006/relationships/hyperlink" Target="259,7,&#24187;&#28783;&#29255; 7" TargetMode="External"/><Relationship Id="rId5" Type="http://schemas.openxmlformats.org/officeDocument/2006/relationships/hyperlink" Target="260,8,&#24187;&#28783;&#29255; 8" TargetMode="External"/><Relationship Id="rId6" Type="http://schemas.openxmlformats.org/officeDocument/2006/relationships/hyperlink" Target="260,8,&#24187;&#28783;&#29255; 8" TargetMode="External"/><Relationship Id="rId7" Type="http://schemas.openxmlformats.org/officeDocument/2006/relationships/hyperlink" Target="260,8,&#24187;&#28783;&#29255; 8" TargetMode="External"/><Relationship Id="rId8" Type="http://schemas.openxmlformats.org/officeDocument/2006/relationships/hyperlink" Target="262,9,&#24187;&#28783;&#29255; 9" TargetMode="External"/><Relationship Id="rId9" Type="http://schemas.openxmlformats.org/officeDocument/2006/relationships/hyperlink" Target="262,9,&#24187;&#28783;&#29255; 9" TargetMode="External"/><Relationship Id="rId10" Type="http://schemas.openxmlformats.org/officeDocument/2006/relationships/hyperlink" Target="262,9,&#24187;&#28783;&#29255; 9" TargetMode="External"/><Relationship Id="rId11" Type="http://schemas.openxmlformats.org/officeDocument/2006/relationships/hyperlink" Target="263,10,&#24187;&#28783;&#29255; 10" TargetMode="External"/><Relationship Id="rId12" Type="http://schemas.openxmlformats.org/officeDocument/2006/relationships/hyperlink" Target="263,10,&#24187;&#28783;&#29255; 10" TargetMode="External"/><Relationship Id="rId13" Type="http://schemas.openxmlformats.org/officeDocument/2006/relationships/hyperlink" Target="263,10,&#24187;&#28783;&#29255; 10" TargetMode="External"/><Relationship Id="rId14" Type="http://schemas.openxmlformats.org/officeDocument/2006/relationships/hyperlink" Target="264,11,&#24187;&#28783;&#29255; 11" TargetMode="External"/><Relationship Id="rId15" Type="http://schemas.openxmlformats.org/officeDocument/2006/relationships/hyperlink" Target="264,11,&#24187;&#28783;&#29255; 11" TargetMode="External"/><Relationship Id="rId16" Type="http://schemas.openxmlformats.org/officeDocument/2006/relationships/hyperlink" Target="264,11,&#24187;&#28783;&#29255; 11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68,9,&#24187;&#28783;&#29255; 9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835280" y="1768320"/>
            <a:ext cx="58197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28960" y="11970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海底世界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83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33336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海里的动物，已经知道的大约有三万种。它们各有各的活动方法。海参靠肌肉伸缩爬行，每小时只能前进四米。有一种鱼身体像梭子，每小时能游几十公里。乌贼和章鱼能突然向前方喷水，利用水的反推力迅速后退。还有些贝类自己不动，能巴在轮船底下做免费的长途旅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55640" y="620640"/>
          <a:ext cx="7772400" cy="5726160"/>
        </p:xfrm>
        <a:graphic>
          <a:graphicData uri="http://schemas.openxmlformats.org/drawingml/2006/table">
            <a:tbl>
              <a:tblPr/>
              <a:tblGrid>
                <a:gridCol w="3814920"/>
                <a:gridCol w="39574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方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海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靠肌肉收缩爬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乌贼和章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些贝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30"/>
          <p:cNvSpPr/>
          <p:nvPr/>
        </p:nvSpPr>
        <p:spPr>
          <a:xfrm>
            <a:off x="1835280" y="26028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4643280" y="35733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利用水的反推力迅速后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2124000" y="260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4572000" y="4797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巴在轮船底下作免费的长途旅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604360" y="6237360"/>
            <a:ext cx="539640" cy="620640"/>
          </a:xfrm>
          <a:custGeom>
            <a:avLst/>
            <a:gdLst>
              <a:gd name="textAreaLeft" fmla="*/ 33480 w 539640"/>
              <a:gd name="textAreaRight" fmla="*/ 506160 w 539640"/>
              <a:gd name="textAreaTop" fmla="*/ 33480 h 620640"/>
              <a:gd name="textAreaBottom" fmla="*/ 58716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50" y="23490"/>
                </a:lnTo>
                <a:lnTo>
                  <a:pt x="20250" y="135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350" y="23490"/>
                </a:lnTo>
                <a:lnTo>
                  <a:pt x="20250" y="2349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350" y="1350"/>
                </a:lnTo>
                <a:lnTo>
                  <a:pt x="1350" y="234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037-449D-487F-824D-713D14F6F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3520" y="1371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有山，有峡谷，也有森林和草地。植物的色彩多种多样，有褐色的，有紫色的，还有红色的。最小的单细胞海藻，要用显微镜才能看清楚。最大的海藻长达二三百米，是地球上最长的生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8172360" y="6021360"/>
            <a:ext cx="576360" cy="83664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836640"/>
              <a:gd name="textAreaBottom" fmla="*/ 800640 h 836640"/>
            </a:gdLst>
            <a:ahLst/>
            <a:rect l="textAreaLeft" t="textAreaTop" r="textAreaRight" b="textAreaBottom"/>
            <a:pathLst>
              <a:path w="21600" h="31348">
                <a:moveTo>
                  <a:pt x="0" y="0"/>
                </a:moveTo>
                <a:lnTo>
                  <a:pt x="21600" y="0"/>
                </a:lnTo>
                <a:lnTo>
                  <a:pt x="21600" y="31348"/>
                </a:lnTo>
                <a:lnTo>
                  <a:pt x="0" y="31348"/>
                </a:lnTo>
                <a:close/>
              </a:path>
              <a:path fill="lightenLess" w="21600" h="3134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1348">
                <a:moveTo>
                  <a:pt x="21600" y="0"/>
                </a:moveTo>
                <a:lnTo>
                  <a:pt x="21600" y="31348"/>
                </a:lnTo>
                <a:lnTo>
                  <a:pt x="20250" y="29998"/>
                </a:lnTo>
                <a:lnTo>
                  <a:pt x="20250" y="1350"/>
                </a:lnTo>
                <a:close/>
              </a:path>
              <a:path fill="darkenLess" w="21600" h="31348">
                <a:moveTo>
                  <a:pt x="21600" y="31348"/>
                </a:moveTo>
                <a:lnTo>
                  <a:pt x="0" y="31348"/>
                </a:lnTo>
                <a:lnTo>
                  <a:pt x="1350" y="29998"/>
                </a:lnTo>
                <a:lnTo>
                  <a:pt x="20250" y="29998"/>
                </a:lnTo>
                <a:close/>
              </a:path>
              <a:path fill="lighten" w="21600" h="31348">
                <a:moveTo>
                  <a:pt x="0" y="31348"/>
                </a:moveTo>
                <a:lnTo>
                  <a:pt x="0" y="0"/>
                </a:lnTo>
                <a:lnTo>
                  <a:pt x="1350" y="1350"/>
                </a:lnTo>
                <a:lnTo>
                  <a:pt x="1350" y="2999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16765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蕴藏着丰富的煤、铁、石油和天然气，还有陆地上蕴藏量很少的稀有金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8101080" y="5950080"/>
            <a:ext cx="574560" cy="718920"/>
          </a:xfrm>
          <a:custGeom>
            <a:avLst/>
            <a:gdLst>
              <a:gd name="textAreaLeft" fmla="*/ 35640 w 574560"/>
              <a:gd name="textAreaRight" fmla="*/ 538920 w 574560"/>
              <a:gd name="textAreaTop" fmla="*/ 35640 h 718920"/>
              <a:gd name="textAreaBottom" fmla="*/ 683280 h 7189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50" y="25674"/>
                </a:lnTo>
                <a:lnTo>
                  <a:pt x="20250" y="135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350" y="25674"/>
                </a:lnTo>
                <a:lnTo>
                  <a:pt x="20250" y="2567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7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1042920" y="836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0002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学要求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读准字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认清字形。在喜欢的词语和生字下面标上记号，不懂的地方加上小问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想一想，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第一小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个怎样的句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完课文后你知道海底世界是怎样的吗？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用课文中的一句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来说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00000" y="476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学一学下列生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4920" y="1052640"/>
            <a:ext cx="875016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ā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é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í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    金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闪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u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肉     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è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     免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iǎ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i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谷     细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ā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ù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i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窃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       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i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ē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18920" cy="576000"/>
          </a:xfrm>
          <a:custGeom>
            <a:avLst/>
            <a:gdLst>
              <a:gd name="textAreaLeft" fmla="*/ 36000 w 718920"/>
              <a:gd name="textAreaRight" fmla="*/ 682920 w 718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606" y="1350"/>
                </a:lnTo>
                <a:lnTo>
                  <a:pt x="1350" y="135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606" y="20250"/>
                </a:lnTo>
                <a:lnTo>
                  <a:pt x="25606" y="135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06" y="2025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56" h="21600">
                <a:moveTo>
                  <a:pt x="6434" y="10800"/>
                </a:moveTo>
                <a:lnTo>
                  <a:pt x="20522" y="3756"/>
                </a:lnTo>
                <a:lnTo>
                  <a:pt x="20522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aiyang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50920" y="98100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可知道，大海深处是怎样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356000" y="4437000"/>
            <a:ext cx="45370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设问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468360" y="3068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海底真是景色奇异、物产丰富的世界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79640" y="404640"/>
            <a:ext cx="5310000" cy="85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2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3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8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9"/>
              </a:rPr>
              <a:t>4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0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1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2"/>
              </a:rPr>
              <a:t>5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3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4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5"/>
              </a:rPr>
              <a:t>6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6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71640" y="404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40464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面上波涛澎湃的时候，海底依然很宁静。最大的风浪，也只能影响到海面以下几十米深。阳光射不到海底，水越深光线越暗，五百米以下就全黑了。在这一片黑暗的深海里，却有许多光点像闪烁的星星，那是有发光器官的深海鱼在游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7812000" y="5877000"/>
            <a:ext cx="576360" cy="64764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647640"/>
              <a:gd name="textAreaBottom" fmla="*/ 6116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50" y="22920"/>
                </a:lnTo>
                <a:lnTo>
                  <a:pt x="20250" y="135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350" y="22920"/>
                </a:lnTo>
                <a:lnTo>
                  <a:pt x="20250" y="2292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81532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是否没有一点声音呢？不是的。海底的动物常常在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窃窃私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有的像蜜蜂一样嗡嗡，有的像小鸟一样啾啾，有的像小狗一样汪汪，有的还好像在打鼾。它们吃东西的时候发出一种声音，行进的时候发出另一种声音，遇到危险还会发出警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468360" y="40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海底动物吃东西的时候，行进的时候，遇到危险的时候，会发出各种声音，有的像（         ）一样（          ），有的像（        ）一样（         ） ，有的还好像（           ）一样（         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812000" y="5734080"/>
            <a:ext cx="863640" cy="79056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90560"/>
              <a:gd name="textAreaBottom" fmla="*/ 741240 h 790560"/>
            </a:gdLst>
            <a:ahLst/>
            <a:rect l="textAreaLeft" t="textAreaTop" r="textAreaRight" b="textAreaBottom"/>
            <a:pathLst>
              <a:path w="23596" h="21600">
                <a:moveTo>
                  <a:pt x="0" y="0"/>
                </a:moveTo>
                <a:lnTo>
                  <a:pt x="23596" y="0"/>
                </a:lnTo>
                <a:lnTo>
                  <a:pt x="23596" y="21600"/>
                </a:lnTo>
                <a:lnTo>
                  <a:pt x="0" y="21600"/>
                </a:lnTo>
                <a:close/>
              </a:path>
              <a:path fill="lightenLess" w="23596" h="21600">
                <a:moveTo>
                  <a:pt x="0" y="0"/>
                </a:moveTo>
                <a:lnTo>
                  <a:pt x="23596" y="0"/>
                </a:lnTo>
                <a:lnTo>
                  <a:pt x="22246" y="1350"/>
                </a:lnTo>
                <a:lnTo>
                  <a:pt x="1350" y="1350"/>
                </a:lnTo>
                <a:close/>
              </a:path>
              <a:path fill="darken" w="23596" h="21600">
                <a:moveTo>
                  <a:pt x="23596" y="0"/>
                </a:moveTo>
                <a:lnTo>
                  <a:pt x="23596" y="21600"/>
                </a:lnTo>
                <a:lnTo>
                  <a:pt x="22246" y="20250"/>
                </a:lnTo>
                <a:lnTo>
                  <a:pt x="22246" y="1350"/>
                </a:lnTo>
                <a:close/>
              </a:path>
              <a:path fill="darkenLess" w="23596" h="21600">
                <a:moveTo>
                  <a:pt x="235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246" y="20250"/>
                </a:lnTo>
                <a:close/>
              </a:path>
              <a:path fill="lighten" w="235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9:45:50Z</dcterms:created>
  <dc:creator/>
  <dc:description/>
  <cp:keywords>幻灯片之家 http:/www.eeppt.com</cp:keywords>
  <dc:language>en-US</dc:language>
  <cp:lastModifiedBy/>
  <dcterms:modified xsi:type="dcterms:W3CDTF">2015-07-04T13:06:48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