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EFE27-C1B3-4D5A-AA1F-10344E46B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11DEE-8C05-45C6-929D-F45F9B853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433ED-D7C4-4565-9F61-281040F56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D2D97-C873-4920-A907-D71BE7787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B2BE9-D573-4064-BEAB-DBF9F0670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E923E-81F6-4ABA-BDED-C265B5F22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E990C-7383-4DD5-9118-3FB6D6D86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E0ABA-C3B1-4B82-AAA6-C695337EC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24684-D304-4779-9F15-8FD851825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AC9B7-B690-4754-96D1-91D190FB4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191BC-EE6B-42D9-9B3D-FA2DBAB5A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9C8C4-5FBB-4B3F-B105-4113FAE5D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93553-4032-4EDB-8AAE-635CA9A5FD8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sucai/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35440" y="909720"/>
            <a:ext cx="3452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花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图片素材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08000" y="645336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8179A-DA17-418A-A645-D0C9980C4B0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940040" y="6407280"/>
            <a:ext cx="66960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ppt图片素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12:33:40Z</dcterms:modified>
  <cp:revision>5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