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818-26D1-4B7D-8C98-338D55A2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768-EF20-48E9-9175-F84DA1C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80D-F5D2-46B4-AABE-2003F80F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E98-5154-4D20-943A-27E337B1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93D-035F-47DE-896E-754533B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700-7629-499C-95E8-4A4A3EE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706-5D53-468F-B7FA-77C0DB3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F87-76CB-45CA-982A-991EC8B4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7CC-8EE3-4234-8057-9FCEBB6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C5A-3B1F-4DC5-8A45-22C4FCE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4B2-C97C-48F8-BD6F-54EDAA2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AE3-1C84-4BBE-88B4-2148DF1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6FCB-BD8A-4CE7-9A07-952993AE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..\..\&#21407;&#22987;--&#31119;&#24030;&#23398;&#38498;&#35838;&#20363;\&#23567;&#23398;&#25968;&#23398;\&#23567;&#23398;&#25968;&#23398;&#31532;&#19977;&#23567;&#32452;\w" TargetMode="External"/><Relationship Id="rId5" Type="http://schemas.openxmlformats.org/officeDocument/2006/relationships/hyperlink" Target="..\..\&#21407;&#22987;--&#31119;&#24030;&#23398;&#38498;&#35838;&#20363;\&#23567;&#23398;&#25968;&#23398;\&#23567;&#23398;&#25968;&#23398;&#31532;&#19977;&#23567;&#32452;\w" TargetMode="External"/><Relationship Id="rId6" Type="http://schemas.openxmlformats.org/officeDocument/2006/relationships/hyperlink" Target="..\..\&#21407;&#22987;--&#31119;&#24030;&#23398;&#38498;&#35838;&#20363;\&#23567;&#23398;&#25968;&#23398;\&#23567;&#23398;&#25968;&#23398;&#31532;&#19977;&#23567;&#32452;\q" TargetMode="External"/><Relationship Id="rId7" Type="http://schemas.openxmlformats.org/officeDocument/2006/relationships/hyperlink" Target="..\..\&#21407;&#22987;--&#31119;&#24030;&#23398;&#38498;&#35838;&#20363;\&#23567;&#23398;&#25968;&#23398;\&#23567;&#23398;&#25968;&#23398;&#31532;&#19977;&#23567;&#32452;\q" TargetMode="External"/><Relationship Id="rId8" Type="http://schemas.openxmlformats.org/officeDocument/2006/relationships/hyperlink" Target="..\..\&#21407;&#22987;--&#31119;&#24030;&#23398;&#38498;&#35838;&#20363;\&#23567;&#23398;&#25968;&#23398;\&#23567;&#23398;&#25968;&#23398;&#31532;&#19977;&#23567;&#32452;\s" TargetMode="External"/><Relationship Id="rId9" Type="http://schemas.openxmlformats.org/officeDocument/2006/relationships/hyperlink" Target="..\..\&#21407;&#22987;--&#31119;&#24030;&#23398;&#38498;&#35838;&#20363;\&#23567;&#23398;&#25968;&#23398;\&#23567;&#23398;&#25968;&#23398;&#31532;&#19977;&#23567;&#32452;\s" TargetMode="External"/><Relationship Id="rId10" Type="http://schemas.openxmlformats.org/officeDocument/2006/relationships/hyperlink" Target="..\..\&#21407;&#22987;--&#31119;&#24030;&#23398;&#38498;&#35838;&#20363;\&#23567;&#23398;&#25968;&#23398;\&#23567;&#23398;&#25968;&#23398;&#31532;&#19977;&#23567;&#32452;\b" TargetMode="External"/><Relationship Id="rId11" Type="http://schemas.openxmlformats.org/officeDocument/2006/relationships/hyperlink" Target="..\..\&#21407;&#22987;--&#31119;&#24030;&#23398;&#38498;&#35838;&#20363;\&#23567;&#23398;&#25968;&#23398;\&#23567;&#23398;&#25968;&#23398;&#31532;&#19977;&#23567;&#32452;\b" TargetMode="External"/><Relationship Id="rId12" Type="http://schemas.openxmlformats.org/officeDocument/2006/relationships/hyperlink" Target="..\..\&#21407;&#22987;--&#31119;&#24030;&#23398;&#38498;&#35838;&#20363;\&#23567;&#23398;&#25968;&#23398;\&#23567;&#23398;&#25968;&#23398;&#31532;&#19977;&#23567;&#32452;\ d" TargetMode="External"/><Relationship Id="rId13" Type="http://schemas.openxmlformats.org/officeDocument/2006/relationships/hyperlink" Target="..\..\&#21407;&#22987;--&#31119;&#24030;&#23398;&#38498;&#35838;&#20363;\&#23567;&#23398;&#25968;&#23398;\&#23567;&#23398;&#25968;&#23398;&#31532;&#19977;&#23567;&#32452;\ d" TargetMode="External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34920" y="-27000"/>
          <a:ext cx="9296280" cy="69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27000"/>
                    <a:ext cx="929628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8040" y="47628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角的分类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6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613872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838080" y="76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华文楷体"/>
              </a:rPr>
              <a:t>（从上一张图抽象出以下的六个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43000" y="1295280"/>
            <a:ext cx="6858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二、引导分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每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为一小组合作探究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学具袋中所提供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学生可以进行个性化分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小组汇报，说说为什么这样分    （只要合理都予以肯定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90720" y="838080"/>
            <a:ext cx="6553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众多分类方法中，让学生自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一种分法，但要说明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这种分法？教师则向学生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荐一种较常用的分法（比直角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，比直角小的，和直角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），也向学生解释这种分法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优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23880" y="1143000"/>
            <a:ext cx="609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47920" y="114300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引导学生自学课本中的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知识，认识角的名称并在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组中互相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7920" y="373392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回到演示动画课件，让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课件中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14400" y="1143000"/>
            <a:ext cx="6858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三、练习提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折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用纸折出一个直角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是怎么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任意折出一个角，先估计是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么角，再用三角板量一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00200" y="1371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摸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把卡纸剪成带角的形状后放入布袋里，每个小组一份，以小组为单位，摸一摸，并猜一猜摸到的是什么角，帮助学生建立表象，激发学生的学习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90720" y="533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四、交互式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914400" y="47577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21932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利用因特网网络资源，学生在计算机上自行进行角的判断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00200" y="6019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Object 12" descr=""/>
          <p:cNvPicPr/>
          <p:nvPr/>
        </p:nvPicPr>
        <p:blipFill>
          <a:blip r:embed="rId4"/>
          <a:stretch/>
        </p:blipFill>
        <p:spPr>
          <a:xfrm>
            <a:off x="2133720" y="251460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43000" y="990720"/>
            <a:ext cx="708660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、提高性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一找生活中哪些地方分别有什么角。使学生意识到数学知识与生活的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5CA-3D1B-460F-BA55-ED1F5CE2A6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76520" y="1219320"/>
            <a:ext cx="57909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有哪些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觉得本节课哪些地方最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引你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858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23880" y="2057400"/>
            <a:ext cx="57150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4"/>
              </a:rPr>
              <a:t>1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5"/>
              </a:rPr>
              <a:t>、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6"/>
              </a:rPr>
              <a:t>2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7"/>
              </a:rPr>
              <a:t>、课前需掌握的知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8"/>
              </a:rPr>
              <a:t>3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9"/>
              </a:rPr>
              <a:t>、资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0"/>
              </a:rPr>
              <a:t>4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1"/>
              </a:rPr>
              <a:t>、课前准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2"/>
              </a:rPr>
              <a:t>5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3"/>
              </a:rPr>
              <a:t>、教学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90720" y="2362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44792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教案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1676520" y="2133720"/>
            <a:ext cx="1752480" cy="380880"/>
          </a:xfrm>
          <a:custGeom>
            <a:avLst/>
            <a:gdLst>
              <a:gd name="textAreaLeft" fmla="*/ 23760 w 1752480"/>
              <a:gd name="textAreaRight" fmla="*/ 1728720 w 1752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61" y="1350"/>
                </a:lnTo>
                <a:lnTo>
                  <a:pt x="1350" y="135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61" y="20250"/>
                </a:lnTo>
                <a:lnTo>
                  <a:pt x="97961" y="135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97961" y="2025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99311" h="21600">
                <a:moveTo>
                  <a:pt x="42612" y="3756"/>
                </a:moveTo>
                <a:lnTo>
                  <a:pt x="56699" y="10800"/>
                </a:lnTo>
                <a:lnTo>
                  <a:pt x="4261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52480" y="2819520"/>
            <a:ext cx="3733920" cy="533160"/>
          </a:xfrm>
          <a:custGeom>
            <a:avLst/>
            <a:gdLst>
              <a:gd name="textAreaLeft" fmla="*/ 33120 w 3733920"/>
              <a:gd name="textAreaRight" fmla="*/ 3700800 w 37339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151185" h="21600">
                <a:moveTo>
                  <a:pt x="0" y="0"/>
                </a:moveTo>
                <a:lnTo>
                  <a:pt x="151185" y="0"/>
                </a:lnTo>
                <a:lnTo>
                  <a:pt x="151185" y="21600"/>
                </a:lnTo>
                <a:lnTo>
                  <a:pt x="0" y="21600"/>
                </a:lnTo>
                <a:close/>
              </a:path>
              <a:path fill="lightenLess" w="151185" h="21600">
                <a:moveTo>
                  <a:pt x="0" y="0"/>
                </a:moveTo>
                <a:lnTo>
                  <a:pt x="151185" y="0"/>
                </a:lnTo>
                <a:lnTo>
                  <a:pt x="149835" y="1350"/>
                </a:lnTo>
                <a:lnTo>
                  <a:pt x="1350" y="1350"/>
                </a:lnTo>
                <a:close/>
              </a:path>
              <a:path fill="darken" w="151185" h="21600">
                <a:moveTo>
                  <a:pt x="151185" y="0"/>
                </a:moveTo>
                <a:lnTo>
                  <a:pt x="151185" y="21600"/>
                </a:lnTo>
                <a:lnTo>
                  <a:pt x="149835" y="20250"/>
                </a:lnTo>
                <a:lnTo>
                  <a:pt x="149835" y="1350"/>
                </a:lnTo>
                <a:close/>
              </a:path>
              <a:path fill="darkenLess" w="151185" h="21600">
                <a:moveTo>
                  <a:pt x="1511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49835" y="20250"/>
                </a:lnTo>
                <a:close/>
              </a:path>
              <a:path fill="lighten" w="1511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151185" h="21600">
                <a:moveTo>
                  <a:pt x="68549" y="3756"/>
                </a:moveTo>
                <a:lnTo>
                  <a:pt x="82636" y="10800"/>
                </a:lnTo>
                <a:lnTo>
                  <a:pt x="6854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1600200" y="3505320"/>
            <a:ext cx="1981080" cy="533160"/>
          </a:xfrm>
          <a:custGeom>
            <a:avLst/>
            <a:gdLst>
              <a:gd name="textAreaLeft" fmla="*/ 33120 w 1981080"/>
              <a:gd name="textAreaRight" fmla="*/ 1947960 w 198108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80220" h="21600">
                <a:moveTo>
                  <a:pt x="0" y="0"/>
                </a:moveTo>
                <a:lnTo>
                  <a:pt x="80220" y="0"/>
                </a:lnTo>
                <a:lnTo>
                  <a:pt x="80220" y="21600"/>
                </a:lnTo>
                <a:lnTo>
                  <a:pt x="0" y="21600"/>
                </a:lnTo>
                <a:close/>
              </a:path>
              <a:path fill="lightenLess" w="80220" h="21600">
                <a:moveTo>
                  <a:pt x="0" y="0"/>
                </a:moveTo>
                <a:lnTo>
                  <a:pt x="80220" y="0"/>
                </a:lnTo>
                <a:lnTo>
                  <a:pt x="78870" y="1350"/>
                </a:lnTo>
                <a:lnTo>
                  <a:pt x="1350" y="1350"/>
                </a:lnTo>
                <a:close/>
              </a:path>
              <a:path fill="darken" w="80220" h="21600">
                <a:moveTo>
                  <a:pt x="80220" y="0"/>
                </a:moveTo>
                <a:lnTo>
                  <a:pt x="80220" y="21600"/>
                </a:lnTo>
                <a:lnTo>
                  <a:pt x="78870" y="20250"/>
                </a:lnTo>
                <a:lnTo>
                  <a:pt x="78870" y="1350"/>
                </a:lnTo>
                <a:close/>
              </a:path>
              <a:path fill="darkenLess" w="80220" h="21600">
                <a:moveTo>
                  <a:pt x="802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8870" y="20250"/>
                </a:lnTo>
                <a:close/>
              </a:path>
              <a:path fill="lighten" w="802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0220" h="21600">
                <a:moveTo>
                  <a:pt x="33066" y="3756"/>
                </a:moveTo>
                <a:lnTo>
                  <a:pt x="47154" y="10800"/>
                </a:lnTo>
                <a:lnTo>
                  <a:pt x="3306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600200" y="4343400"/>
            <a:ext cx="2438280" cy="380880"/>
          </a:xfrm>
          <a:custGeom>
            <a:avLst/>
            <a:gdLst>
              <a:gd name="textAreaLeft" fmla="*/ 23760 w 2438280"/>
              <a:gd name="textAreaRight" fmla="*/ 2414520 w 24382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138167" h="21600">
                <a:moveTo>
                  <a:pt x="0" y="0"/>
                </a:moveTo>
                <a:lnTo>
                  <a:pt x="138167" y="0"/>
                </a:lnTo>
                <a:lnTo>
                  <a:pt x="138167" y="21600"/>
                </a:lnTo>
                <a:lnTo>
                  <a:pt x="0" y="21600"/>
                </a:lnTo>
                <a:close/>
              </a:path>
              <a:path fill="lightenLess" w="138167" h="21600">
                <a:moveTo>
                  <a:pt x="0" y="0"/>
                </a:moveTo>
                <a:lnTo>
                  <a:pt x="138167" y="0"/>
                </a:lnTo>
                <a:lnTo>
                  <a:pt x="136817" y="1350"/>
                </a:lnTo>
                <a:lnTo>
                  <a:pt x="1350" y="1350"/>
                </a:lnTo>
                <a:close/>
              </a:path>
              <a:path fill="darken" w="138167" h="21600">
                <a:moveTo>
                  <a:pt x="138167" y="0"/>
                </a:moveTo>
                <a:lnTo>
                  <a:pt x="138167" y="21600"/>
                </a:lnTo>
                <a:lnTo>
                  <a:pt x="136817" y="20250"/>
                </a:lnTo>
                <a:lnTo>
                  <a:pt x="136817" y="1350"/>
                </a:lnTo>
                <a:close/>
              </a:path>
              <a:path fill="darkenLess" w="138167" h="21600">
                <a:moveTo>
                  <a:pt x="13816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136817" y="20250"/>
                </a:lnTo>
                <a:close/>
              </a:path>
              <a:path fill="lighten" w="13816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138167" h="21600">
                <a:moveTo>
                  <a:pt x="62040" y="3756"/>
                </a:moveTo>
                <a:lnTo>
                  <a:pt x="76127" y="10800"/>
                </a:lnTo>
                <a:lnTo>
                  <a:pt x="62040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1600200" y="4952880"/>
            <a:ext cx="2514600" cy="609840"/>
          </a:xfrm>
          <a:custGeom>
            <a:avLst/>
            <a:gdLst>
              <a:gd name="textAreaLeft" fmla="*/ 37800 w 2514600"/>
              <a:gd name="textAreaRight" fmla="*/ 2476800 w 25146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89025" h="21600">
                <a:moveTo>
                  <a:pt x="0" y="0"/>
                </a:moveTo>
                <a:lnTo>
                  <a:pt x="89025" y="0"/>
                </a:lnTo>
                <a:lnTo>
                  <a:pt x="89025" y="21600"/>
                </a:lnTo>
                <a:lnTo>
                  <a:pt x="0" y="21600"/>
                </a:lnTo>
                <a:close/>
              </a:path>
              <a:path fill="lightenLess" w="89025" h="21600">
                <a:moveTo>
                  <a:pt x="0" y="0"/>
                </a:moveTo>
                <a:lnTo>
                  <a:pt x="89025" y="0"/>
                </a:lnTo>
                <a:lnTo>
                  <a:pt x="87675" y="1350"/>
                </a:lnTo>
                <a:lnTo>
                  <a:pt x="1350" y="1350"/>
                </a:lnTo>
                <a:close/>
              </a:path>
              <a:path fill="darken" w="89025" h="21600">
                <a:moveTo>
                  <a:pt x="89025" y="0"/>
                </a:moveTo>
                <a:lnTo>
                  <a:pt x="89025" y="21600"/>
                </a:lnTo>
                <a:lnTo>
                  <a:pt x="87675" y="20250"/>
                </a:lnTo>
                <a:lnTo>
                  <a:pt x="87675" y="1350"/>
                </a:lnTo>
                <a:close/>
              </a:path>
              <a:path fill="darkenLess" w="89025" h="21600">
                <a:moveTo>
                  <a:pt x="890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7675" y="20250"/>
                </a:lnTo>
                <a:close/>
              </a:path>
              <a:path fill="lighten" w="890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9025" h="21600">
                <a:moveTo>
                  <a:pt x="37469" y="3756"/>
                </a:moveTo>
                <a:lnTo>
                  <a:pt x="51556" y="10800"/>
                </a:lnTo>
                <a:lnTo>
                  <a:pt x="37469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10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1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52480" y="198108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谢谢您的阅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希望能给予指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7910640" y="49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5800" y="609480"/>
            <a:ext cx="7086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知识技能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认识直角、锐角、钝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区分这些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情感态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通过折、量、比等活动，培养学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操作的能力和科学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初步感受数学问题的探索性和挑战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发展学生的主动探索精神和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在探究的过程中感受到学习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143000" y="990720"/>
            <a:ext cx="6172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课前需要掌握的知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初步认识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会比较角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学生对直角已有初步的认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914400"/>
            <a:ext cx="71629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在上课之前，必须仔细阅读并会使用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www.shodor.org/interactivate/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ctivities/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登载的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JAVA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插件检查教室里的所有学生电脑，保证课上学生能正常上网操作，把活动的网址书签和练习纸复制给学生。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www.shodor.org/interactivate/activitie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66680" y="990720"/>
            <a:ext cx="67057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资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学校具备多媒体网络教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演示课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互动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1066680"/>
            <a:ext cx="69339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课前准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大小不同的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若干张形状不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一盒用卡纸剪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各种带有角的不同图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1066680"/>
            <a:ext cx="685800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教学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创设情境、谈话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上一课时学生已经初步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角的基础上，让学生说说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角的知识已经有了哪些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10800"/>
                </a:moveTo>
                <a:lnTo>
                  <a:pt x="17854" y="3756"/>
                </a:lnTo>
                <a:lnTo>
                  <a:pt x="17854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70" y="1350"/>
                </a:lnTo>
                <a:lnTo>
                  <a:pt x="1350" y="135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70" y="20250"/>
                </a:lnTo>
                <a:lnTo>
                  <a:pt x="20270" y="135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0" y="2025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0" h="21600">
                <a:moveTo>
                  <a:pt x="3766" y="3756"/>
                </a:moveTo>
                <a:lnTo>
                  <a:pt x="17854" y="10800"/>
                </a:lnTo>
                <a:lnTo>
                  <a:pt x="3766" y="17844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5" descr=""/>
          <p:cNvPicPr/>
          <p:nvPr/>
        </p:nvPicPr>
        <p:blipFill>
          <a:blip r:embed="rId4"/>
          <a:stretch/>
        </p:blipFill>
        <p:spPr>
          <a:xfrm>
            <a:off x="1371600" y="2816280"/>
            <a:ext cx="5867280" cy="3155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066680" y="99072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播放课件创设情境，让学生找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课件画面中的角。（下图为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制作的演示动画软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2:47:16Z</dcterms:created>
  <dc:creator/>
  <dc:description/>
  <cp:keywords>幻灯片之家 http:/www.eeppt.com</cp:keywords>
  <dc:language>en-US</dc:language>
  <cp:lastModifiedBy/>
  <dcterms:modified xsi:type="dcterms:W3CDTF">2015-07-18T14:10:0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