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CF38-29DF-4A8D-AA43-601AAC6E5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E3FB-470D-43B2-8F28-C6FBD2F9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24A4-2384-45C2-8B0C-4149BCF9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7973-10ED-4F5D-84DA-C6E6215AA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861F-6BB8-4F81-BBC3-C04EAC9C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4D66-B489-410D-B48E-EEA9C8E4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39C9-F6E7-4A46-9932-AFE35031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6B0C-5EDC-47ED-9F5D-FA8B7DC6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C9F8-3C7A-4505-B3DE-BD913CEF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D207-6B13-4C52-988A-9E975324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187B-ABAA-48EB-9FFA-FD5D237D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263D-D07B-4845-AE3B-3075EEF4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EC64-BC64-4544-AC6C-AAA75C24B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beijing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12"/>
          <p:cNvPicPr/>
          <p:nvPr/>
        </p:nvPicPr>
        <p:blipFill>
          <a:blip r:embed="rId16"/>
          <a:stretch/>
        </p:blipFill>
        <p:spPr>
          <a:xfrm>
            <a:off x="0" y="-69840"/>
            <a:ext cx="9144000" cy="69976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6630840" y="1028880"/>
            <a:ext cx="1189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67480" y="1052640"/>
            <a:ext cx="343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金色的草地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课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762120" y="609480"/>
            <a:ext cx="76197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教学目标：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理解课文的第三、四自然段的内容，重点了解蒲公英一天的变化，理解“草地为什么会变色？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有感情地朗读课文，体会作者的感情，感受蒲公英的有趣。感受大自然给我们生活带来的乐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积累好词好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914400" y="990720"/>
            <a:ext cx="7620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朗读课文，思考问题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文中的“我”先发现什么？又发现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草地为什么会变色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5" descr="F:\新建文件夹\11.jpg"/>
          <p:cNvPicPr/>
          <p:nvPr/>
        </p:nvPicPr>
        <p:blipFill>
          <a:blip r:embed="rId1"/>
          <a:stretch/>
        </p:blipFill>
        <p:spPr>
          <a:xfrm>
            <a:off x="6629400" y="304920"/>
            <a:ext cx="2286000" cy="17492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"/>
          <p:cNvSpPr/>
          <p:nvPr/>
        </p:nvSpPr>
        <p:spPr>
          <a:xfrm>
            <a:off x="0" y="3808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一天，我起得很早去钓鱼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发现草地并不是金色的，而是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色的。中午回家的时候，我看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草地是金色的。傍晚的时候，草地又变绿了。这是为什么呢？我来到草地上，仔细观察，发现蒲公英的花瓣是合拢的。原来，蒲公英的花就像我们的手掌，可以张开、合上。花朵张开时，它是金色的，草地也是金色的；花朵合拢时，金色的花瓣被包住，草地就变成绿色的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23"/>
          <p:cNvGrpSpPr/>
          <p:nvPr/>
        </p:nvGrpSpPr>
        <p:grpSpPr>
          <a:xfrm>
            <a:off x="-152280" y="3733920"/>
            <a:ext cx="9067320" cy="2209680"/>
            <a:chOff x="-152280" y="3733920"/>
            <a:chExt cx="9067320" cy="2209680"/>
          </a:xfrm>
        </p:grpSpPr>
        <p:sp>
          <p:nvSpPr>
            <p:cNvPr id="51" name="Line 17"/>
            <p:cNvSpPr/>
            <p:nvPr/>
          </p:nvSpPr>
          <p:spPr>
            <a:xfrm>
              <a:off x="5040" y="4343400"/>
              <a:ext cx="8830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18"/>
            <p:cNvSpPr/>
            <p:nvPr/>
          </p:nvSpPr>
          <p:spPr>
            <a:xfrm>
              <a:off x="84240" y="4876920"/>
              <a:ext cx="8830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9"/>
            <p:cNvSpPr/>
            <p:nvPr/>
          </p:nvSpPr>
          <p:spPr>
            <a:xfrm>
              <a:off x="84240" y="5410440"/>
              <a:ext cx="8830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20"/>
            <p:cNvSpPr/>
            <p:nvPr/>
          </p:nvSpPr>
          <p:spPr>
            <a:xfrm>
              <a:off x="-152280" y="5943600"/>
              <a:ext cx="2365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21"/>
            <p:cNvSpPr/>
            <p:nvPr/>
          </p:nvSpPr>
          <p:spPr>
            <a:xfrm>
              <a:off x="6076800" y="3733920"/>
              <a:ext cx="26805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F:\新建文件夹\13.jpg"/>
          <p:cNvPicPr/>
          <p:nvPr/>
        </p:nvPicPr>
        <p:blipFill>
          <a:blip r:embed="rId1"/>
          <a:stretch/>
        </p:blipFill>
        <p:spPr>
          <a:xfrm>
            <a:off x="0" y="3276720"/>
            <a:ext cx="4876920" cy="3768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F:\新建文件夹\11.jpg"/>
          <p:cNvPicPr/>
          <p:nvPr/>
        </p:nvPicPr>
        <p:blipFill>
          <a:blip r:embed="rId2"/>
          <a:stretch/>
        </p:blipFill>
        <p:spPr>
          <a:xfrm>
            <a:off x="0" y="0"/>
            <a:ext cx="4572000" cy="3511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F:\新建文件夹\12.jpg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F:\新建文件夹\14.jpg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2"/>
          <p:cNvSpPr txBox="1"/>
          <p:nvPr/>
        </p:nvSpPr>
        <p:spPr>
          <a:xfrm>
            <a:off x="0" y="0"/>
            <a:ext cx="31240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拓展训练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743200" y="106668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说说在我们广阔的大自然里，还有哪些植物是充满神奇的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33520" y="24382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催眠花：非洲有一种木菊花，喜欢生长在荒山野岭之中。这种花色彩夺目，香气浓郁， 不但博得人们喜爱，就是野生动物也常常立 足欣赏。然而这种花具有强烈的催眠作用， 人们只要用舌头添一下花瓣，马上就会入睡，野生动物吃后，立即卧地而眠，即使是两吨多重的犀牛，只要吃了它，也会昏倒在地，呼呼大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2"/>
          <p:cNvSpPr txBox="1"/>
          <p:nvPr/>
        </p:nvSpPr>
        <p:spPr>
          <a:xfrm>
            <a:off x="0" y="304920"/>
            <a:ext cx="45720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积累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609480" y="1905120"/>
            <a:ext cx="815364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动手抄一抄，画一画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抄一抄自己喜欢的句子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画一画蒲公英张开、合拢时的样子和颜色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000" y="4581360"/>
            <a:ext cx="5661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好看的ppt背景图片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8180-BECA-4847-8E17-F0CB53FF33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2"/>
          <p:cNvSpPr txBox="1"/>
          <p:nvPr/>
        </p:nvSpPr>
        <p:spPr>
          <a:xfrm>
            <a:off x="380880" y="0"/>
            <a:ext cx="4114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课后延伸：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685800" y="274320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5400" spc="-1" strike="noStrike">
                <a:solidFill>
                  <a:srgbClr val="6666ff"/>
                </a:solidFill>
                <a:latin typeface="Times New Roman"/>
              </a:rPr>
              <a:t>仔细观察自己喜欢的事物，再动笔写一写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22:20:42Z</dcterms:created>
  <dc:creator/>
  <dc:description/>
  <cp:keywords>幻灯片之家 http:/www.eeppt.com</cp:keywords>
  <dc:language>en-US</dc:language>
  <cp:lastModifiedBy/>
  <dcterms:modified xsi:type="dcterms:W3CDTF">2015-07-18T14:42:12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