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01E-6D9B-4219-B915-05377E5E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D4E-2A6C-4DEC-BA27-A5CFF39D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BE1-48A1-430B-89D4-ACDBB35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23D-A09E-411A-BACD-E91B3BA7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27E2-8EA3-47B3-863B-5F563F4E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554-177B-41FF-8D94-381D990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CA0E-29C3-4EC7-BA51-58A41630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2237-6A50-4B92-BFC6-1DCF68B9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76B4-EDCA-4B1C-9070-8032F57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72E-744C-4841-9A53-E76707F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AE2-810A-48A1-9360-18136AA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456-9F71-46B4-AE63-25DA87FC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3D9D-B7C8-449F-B6E4-30FDEF3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DB90-FB00-423C-B4ED-D15E2E6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5CA-D7ED-4CD9-83CE-6975CAD7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E4B6-1EFE-4BB3-A633-6B20D217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D746-0D9D-4A99-A836-2855AAC8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33D-FCBB-4E42-9140-7EC2B9B6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171-86BE-47A4-BC91-DBCC85CA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A4D-EFE8-4154-A911-C48E3DF5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D32-F9EC-48A9-9A1D-A6A0F53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D73-4338-4F4E-B14D-B1F5EEF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726-F45C-4A7F-8220-2283A3E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763-8530-4DC2-A977-B9FD743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BEDE-FF4D-4996-A360-DB505E2F5AA0}" type="slidenum">
              <a:rPr b="1" lang="zh-TW" sz="800" spc="-1" strike="noStrike">
                <a:solidFill>
                  <a:srgbClr val="ffffff"/>
                </a:solidFill>
                <a:latin typeface="Tahoma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ffffff"/>
                </a:solidFill>
                <a:latin typeface="Arial Black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03DD-D744-4F66-B0BC-119D9E08D4CD}" type="slidenum">
              <a:rPr b="0" lang="zh-TW" sz="800" spc="-1" strike="noStrike">
                <a:solidFill>
                  <a:srgbClr val="ffffff"/>
                </a:solidFill>
                <a:latin typeface="Arial Black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77640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细隶书"/>
                <a:ea typeface="超世纪细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512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军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Impact"/>
                <a:ea typeface="PMingLiU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PMingLiU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2629080" y="645336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8BB-C724-4BD5-9EAC-05D87647B20F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PMingLiU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6:34:11Z</dcterms:created>
  <dc:creator>QC0506001</dc:creator>
  <dc:description/>
  <dc:language>en-US</dc:language>
  <cp:lastModifiedBy>jccook</cp:lastModifiedBy>
  <dcterms:modified xsi:type="dcterms:W3CDTF">2015-07-21T02:26:20Z</dcterms:modified>
  <cp:revision>5</cp:revision>
  <dc:subject/>
  <dc:title>FIGHTER PILOT F-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