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E9EB1-E4C7-4C1D-9302-4C91E7DE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2BB24-828C-4DF4-9087-F9D057A8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A84AA-C2F7-4922-9F24-0314F150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EDF85-215C-4DCB-A45E-F384097E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89F7D-B9AB-4FB8-8B40-23B0FBA7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B5DD1-3C7D-422D-885B-57215C83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A3055-27FA-4AD7-B984-0C2E0321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F1BD7-26D1-4DF9-8F1A-2A2B2B6F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FA132-929E-4D89-93BC-F64695D9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0D28C-93C0-4E46-8831-4516226C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D7B64-587F-4B25-BFA0-279145E1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91944-0FA7-4002-A791-709F6435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FC048-F128-46B6-AD2D-9282E018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4B79B-FAF0-48CF-ADE4-A8D3F57D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664D6-14B3-47C4-9443-96D974DB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A0EEA-0AF9-4C1A-B132-539634D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568E2-22B9-44F2-9227-48EFD28F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5DDEC-2B98-4E0C-819C-D5B03F95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261B2-7EDB-4785-AF2F-C21238F2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E87A1-05B5-4BA9-8CB5-84B0B280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F7197-E2D4-4114-B946-4DF9F41E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8CE76-7540-4942-89D8-9D9A19FC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ABF03-914B-484D-9C85-0A057626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EB4BA-69FB-4F08-847F-CBCE3D3F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8DA8C-D44A-4B48-A0D0-0528F30D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142B4-C173-492A-8C3A-850D3DC0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8E556-E48C-4C3A-B998-20CD0E7C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46E5A-CF3C-4BC3-800C-C4783C62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AFCA4-899C-40ED-B853-F8AC0F0E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1A690-889F-4CC5-8A5C-4A590D74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D3224-8C30-4076-BEA0-31D3891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D4034-7665-4021-88B5-4840EEE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F8C57-5834-4C46-9157-8A68B6C3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603C4-2F04-4D7B-9CD0-0F82E9FA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E5520-F3AA-427E-9F61-0097B185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F3456-19B3-4716-BA57-CD7AF7DF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FE1A2-3E0C-4C84-B088-6FE4253A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CEC44-4A83-4275-B0AE-3164A15C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F72A2-3B52-43FA-94FC-59DF2EFA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BE890-838B-474D-A0D0-9E39A1BE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AEB3C-43A7-4D27-956C-EC8A8D3D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C73FA-58A0-4152-83C4-85F6F10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10F64-15D9-4B59-817B-E32CA43D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59B28-8CF5-4E77-9DC2-3CC452E0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2CD54-3F96-460C-92AF-25AB3C65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04D7E-08B5-4C4D-9A8B-B55DC626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1B211-D597-4921-B5EB-317CFC7B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3AEEE-BFC8-4E82-BF5E-753BA941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39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" name="Rectangle 39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5" descr="traffic-lights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fld id="{384EEE2E-0246-45A4-9209-B4B530F752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5" descr="traffic-lights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fld id="{5203BA18-C523-441D-9C05-856D4B6A90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5" descr="traffic-lights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fld id="{2827DE1C-F335-4405-A781-1CAA49DC64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5" descr="traffic-lights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4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宋体"/>
              </a:rPr>
              <a:t>Page </a:t>
            </a:r>
            <a:fld id="{DD5A49FA-7BA1-498F-A201-B55B33B81F93}" type="slidenum">
              <a:rPr b="0" lang="en-US" sz="1400" spc="-1" strike="noStrike">
                <a:solidFill>
                  <a:srgbClr val="0000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117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交通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素材免费下载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-360" y="2421000"/>
            <a:ext cx="280836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  <a:ea typeface="宋体"/>
              </a:rPr>
              <a:t>Example of a Bullet Point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  <a:ea typeface="宋体"/>
              </a:rPr>
              <a:t>Example of a char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0" y="206064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  <a:ea typeface="宋体"/>
              </a:rPr>
              <a:t>Pictur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6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1" name="Picture 4" descr="St Malo 022"/>
          <p:cNvPicPr/>
          <p:nvPr/>
        </p:nvPicPr>
        <p:blipFill>
          <a:blip r:embed="rId1"/>
          <a:stretch/>
        </p:blipFill>
        <p:spPr>
          <a:xfrm>
            <a:off x="684360" y="3141720"/>
            <a:ext cx="2628720" cy="328464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222" name="Text Box 5"/>
          <p:cNvSpPr/>
          <p:nvPr/>
        </p:nvSpPr>
        <p:spPr>
          <a:xfrm>
            <a:off x="2627280" y="6453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宋体"/>
              </a:rPr>
              <a:t>使用规范说明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  <a:ea typeface="宋体"/>
              </a:rPr>
              <a:t>Examples of default styl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518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9933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1ccc81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1044720" y="5084640"/>
            <a:ext cx="2232000" cy="1368720"/>
          </a:xfrm>
          <a:prstGeom prst="rect">
            <a:avLst/>
          </a:prstGeom>
          <a:solidFill>
            <a:srgbClr val="dce4f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3564000" y="5084640"/>
            <a:ext cx="2232000" cy="1368720"/>
          </a:xfrm>
          <a:prstGeom prst="rect">
            <a:avLst/>
          </a:prstGeom>
          <a:solidFill>
            <a:srgbClr val="dce4f0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5:47:35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00:14Z</dcterms:modified>
  <cp:revision>1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