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075-4035-473E-B670-A1A08528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1C3-9BAA-4190-B9B6-B8B430D3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027-BC5E-4382-9DD6-600F8448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ACA-D779-4671-8884-566614F6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941-7C78-4230-B8EF-072EA680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4AB-E1C4-448B-BF8C-7778E87A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5BE-6EB8-4370-B445-F478A35A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71C-6EB1-4DE5-BE0D-0307D2FF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57D-FA9B-4AB9-BE9C-D3C0D4F5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138-E8DC-4A8E-B71E-F4F7B919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12C-DCEF-49A5-AB41-37FCF98C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7F7-D1CF-4035-AEC2-77DF7430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37B9-0EFD-4D89-B060-770AA3E85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033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5768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237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84640" y="1197000"/>
            <a:ext cx="28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敬畏自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与自然究竟是什么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为什么要“敬畏自然”？为什么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敬畏自然”就是敬畏自己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观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永远是自然机体上普通的一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然而，人却不自量力的宣称要“征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 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科技航天的空间，相对宇宙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常狭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类认识史是一部不断的纠错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矿坑可能成为人类自掘的陷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宇宙中存在着比人类更聪明的生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-362520" y="3048120"/>
            <a:ext cx="9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  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457200" y="2666880"/>
            <a:ext cx="457200" cy="2286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58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类的智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621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自然的智慧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2362320" y="205740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8077320" y="2133720"/>
            <a:ext cx="152280" cy="2361960"/>
          </a:xfrm>
          <a:custGeom>
            <a:avLst/>
            <a:gdLst>
              <a:gd name="textAreaLeft" fmla="*/ 0 w 152280"/>
              <a:gd name="textAreaRight" fmla="*/ 5508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867080" y="2209680"/>
            <a:ext cx="91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类不值得自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743200" y="4648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与伦比，人类本身就是大自然智慧的杰作，大自然用美的规律创造宇宙的一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结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是自然的一部分，人与自然是一体。理所当然，人类应该爱护自然。“敬畏自然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u=2795448172,3226855030&amp;gp=1[1]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99090701aaa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2860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唐山大地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7D2-8D25-4A78-8720-87ECF46CE85B}" type="slidenum">
              <a:t>16</a:t>
            </a:fld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69960" y="2819520"/>
            <a:ext cx="549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-178920" y="2895480"/>
            <a:ext cx="1155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敬 畏 自 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90720" y="2209680"/>
            <a:ext cx="380880" cy="4114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371600" y="2286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371600" y="2133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通过比喻和对比说明“征服自然”是错误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833400" y="3124080"/>
            <a:ext cx="1528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 敬 畏 自 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2209680" y="3124080"/>
            <a:ext cx="228600" cy="2210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514600" y="312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比较人类的智慧与大自然的智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51460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进一步阐述人类的智慧与大自然        的智慧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438280" y="510552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514600" y="4800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由智慧论述宇宙生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7391520" y="3124080"/>
            <a:ext cx="228600" cy="221004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7409880" y="2971800"/>
            <a:ext cx="91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自然和谐相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219320" y="5867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得出结论：人类应该“敬畏自然”，热爱自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059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458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-848880" y="304920"/>
            <a:ext cx="3106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022"/>
          <p:cNvPicPr/>
          <p:nvPr/>
        </p:nvPicPr>
        <p:blipFill>
          <a:blip r:embed="rId1"/>
          <a:stretch/>
        </p:blipFill>
        <p:spPr>
          <a:xfrm>
            <a:off x="228600" y="192240"/>
            <a:ext cx="8686800" cy="645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沙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458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Img222690631[1]"/>
          <p:cNvPicPr/>
          <p:nvPr/>
        </p:nvPicPr>
        <p:blipFill>
          <a:blip r:embed="rId1"/>
          <a:stretch/>
        </p:blipFill>
        <p:spPr>
          <a:xfrm>
            <a:off x="228600" y="223920"/>
            <a:ext cx="8610480" cy="646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dizhen4[1]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一读，写一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鹏       蓬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形见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尺       狼藉（    ）   美味佳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一读，写一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kun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鹏     蓬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ao1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形见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hu4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zhi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尺      狼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ji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美味佳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ao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释词语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不量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形见绌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精巧绝伦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味佳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释词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不量力：不衡量自己的能力。形容对自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估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太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相形见绌：互相比较之下，就显出一方的不足之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精巧绝伦：精细巧妙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美味佳肴：精美的菜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5:32:56Z</dcterms:created>
  <dc:creator/>
  <dc:description/>
  <cp:keywords>幻灯片之家 http:/www.eeppt.com</cp:keywords>
  <dc:language>en-US</dc:language>
  <cp:lastModifiedBy/>
  <dcterms:modified xsi:type="dcterms:W3CDTF">2015-07-03T13:32:39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