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将相和封面"/>
          <p:cNvPicPr/>
          <p:nvPr/>
        </p:nvPicPr>
        <p:blipFill>
          <a:blip r:embed="rId1"/>
          <a:stretch/>
        </p:blipFill>
        <p:spPr>
          <a:xfrm>
            <a:off x="-36360" y="-27000"/>
            <a:ext cx="935964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/>
          <p:nvPr/>
        </p:nvSpPr>
        <p:spPr>
          <a:xfrm>
            <a:off x="108000" y="65260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将相和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500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826920" y="836640"/>
            <a:ext cx="4131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 Narrow"/>
                <a:ea typeface="华文行楷"/>
              </a:rPr>
              <a:t>完璧归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611280" y="1341360"/>
            <a:ext cx="7848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333399"/>
                </a:solidFill>
                <a:latin typeface="Verdana"/>
              </a:rPr>
              <a:t>完壁归赵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这个故事的前因是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Verdana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Verdana"/>
              </a:rPr>
              <a:t>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_______________________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结果是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______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4416120" y="242100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秦王依仗强势，要骗取和氏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3323520" y="37162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和氏璧完好无损地被送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684360" y="4941720"/>
            <a:ext cx="24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到赵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8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0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2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"/>
                            </p:stCondLst>
                            <p:childTnLst>
                              <p:par>
                                <p:cTn id="3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826920" y="1652760"/>
            <a:ext cx="788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黑体"/>
              </a:rPr>
              <a:t>他理直气壮地说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黑体"/>
              </a:rPr>
              <a:t>我看您并不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黑体"/>
              </a:rPr>
              <a:t>交付十五个城，所以把和氏璧拿了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黑体"/>
              </a:rPr>
              <a:t>来。您要是强逼我，我的脑袋和璧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黑体"/>
              </a:rPr>
              <a:t>一块儿撞碎在这柱子上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4058640" y="977760"/>
            <a:ext cx="9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从下面的话可以看出蔺相如是怎样一个人？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749400" y="5661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勇敢机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550600" y="5661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答案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619280" y="163512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 Narrow"/>
                <a:ea typeface="黑体"/>
              </a:rPr>
              <a:t>理直气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2" name="chimes.wav"/>
      </p:stSnd>
    </p:sndAc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"/>
                            </p:stCondLst>
                            <p:childTnLst>
                              <p:par>
                                <p:cTn id="3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"/>
                            </p:stCondLst>
                            <p:childTnLst>
                              <p:par>
                                <p:cTn id="37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684360" y="9810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黑体"/>
              </a:rPr>
              <a:t>到了举行典礼那一天，蔺相如进宫见了秦王，大大方方地说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黑体"/>
              </a:rPr>
              <a:t>和氏璧已经送回赵国去了。您如果有诚意的话，先把十五个城叫给我国，我国马上把和氏璧送来，决不失信。不然，您杀了我也没用，天下的人都知道秦国是从来不讲信用的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黑体"/>
              </a:rPr>
              <a:t>秦王没有办法，只得客客气气地送蔺相如回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917000" y="56275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答案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373200" y="5627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不畏强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3348000" y="148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 Narrow"/>
                <a:ea typeface="黑体"/>
              </a:rPr>
              <a:t>大大方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1" name="chimes.wav"/>
      </p:stSnd>
    </p:sndAc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"/>
                            </p:stCondLst>
                            <p:childTnLst>
                              <p:par>
                                <p:cTn id="3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"/>
                            </p:stCondLst>
                            <p:childTnLst>
                              <p:par>
                                <p:cTn id="4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468360" y="836640"/>
            <a:ext cx="3232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 Narrow"/>
                <a:ea typeface="黑体"/>
              </a:rPr>
              <a:t>课堂练习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900000" y="1700280"/>
            <a:ext cx="727416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蔺相如之所以说这块璧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点儿小毛病，骗回和氏璧，是因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________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1967040" y="35002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蔺相如看出秦王的骗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57080" y="4475160"/>
            <a:ext cx="7775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用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之所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因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联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完璧归赵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个故事说一句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200622515502158262"/>
          <p:cNvPicPr/>
          <p:nvPr/>
        </p:nvPicPr>
        <p:blipFill>
          <a:blip r:embed="rId1"/>
          <a:stretch/>
        </p:blipFill>
        <p:spPr>
          <a:xfrm>
            <a:off x="152280" y="609480"/>
            <a:ext cx="8785440" cy="59421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4356000" y="765000"/>
            <a:ext cx="388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 Narrow"/>
                <a:ea typeface="华文行楷"/>
              </a:rPr>
              <a:t>渑池之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539640" y="1916280"/>
            <a:ext cx="8388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333399"/>
                </a:solidFill>
                <a:latin typeface="Verdana"/>
              </a:rPr>
              <a:t>渑池之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这个故事的前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是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_______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， 后果是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________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187280" y="3068640"/>
            <a:ext cx="71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秦王约赵王在渑池相会，想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5703840" y="4221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秦王吃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539640" y="422100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赵国便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468360" y="2205000"/>
            <a:ext cx="813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从</a:t>
            </a:r>
            <a:r>
              <a:rPr b="0" lang="zh-CN" sz="4000" spc="-1" strike="noStrike">
                <a:solidFill>
                  <a:srgbClr val="ff3300"/>
                </a:solidFill>
                <a:latin typeface="Verdana"/>
              </a:rPr>
              <a:t>“</a:t>
            </a: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渑池之会</a:t>
            </a:r>
            <a:r>
              <a:rPr b="0" lang="zh-CN" sz="4000" spc="-1" strike="noStrike">
                <a:solidFill>
                  <a:srgbClr val="ff3300"/>
                </a:solidFill>
                <a:latin typeface="Verdana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可以看出蔺相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是一个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Verdana"/>
              </a:rPr>
              <a:t>       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4295880" y="335772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勇敢、随机应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900000" y="1484280"/>
            <a:ext cx="748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</a:rPr>
              <a:t>思考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6000" spc="-1" strike="noStrike">
                <a:solidFill>
                  <a:srgbClr val="ff3300"/>
                </a:solidFill>
                <a:latin typeface="Verdana"/>
              </a:rPr>
              <a:t>渑池之会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6000" spc="-1" strike="noStrike">
                <a:solidFill>
                  <a:srgbClr val="000000"/>
                </a:solidFill>
                <a:latin typeface="Verdana"/>
              </a:rPr>
              <a:t>上秦赵两国是打了平手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</a:rPr>
              <a:t>还是分出了胜负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YW00044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104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539640" y="836640"/>
            <a:ext cx="388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 Narrow"/>
                <a:ea typeface="华文行楷"/>
              </a:rPr>
              <a:t>负荆请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826560" y="2131560"/>
            <a:ext cx="741708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．认识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个生字，会写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个生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．有感情地朗读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．了解课文内容，领悟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个故事之间的内在联系。感受人物形象，体会人物的爱国思想和他们各自的美好品质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WordArt 6"/>
          <p:cNvSpPr txBox="1"/>
          <p:nvPr/>
        </p:nvSpPr>
        <p:spPr>
          <a:xfrm>
            <a:off x="900000" y="1268280"/>
            <a:ext cx="2160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学习目标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600200" y="105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11280" y="1773360"/>
            <a:ext cx="770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333399"/>
                </a:solidFill>
                <a:latin typeface="Verdana"/>
              </a:rPr>
              <a:t>负荆请罪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这个故事的前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是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____________________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          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_______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，结果是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________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2366280" y="2924280"/>
            <a:ext cx="470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廉颇看到蔺相如职位比自己高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5076720" y="4076640"/>
            <a:ext cx="25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负荆请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539640" y="4149720"/>
            <a:ext cx="25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很不服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4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4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"/>
                            </p:stCondLst>
                            <p:childTnLst>
                              <p:par>
                                <p:cTn id="5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539640" y="836640"/>
            <a:ext cx="78487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蔺相如对廉颇的傲慢无礼是怎么做的？他为什么要这样做？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534680" y="3573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答案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39640" y="42148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           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蔺相如先是对廉颇避让。他避让廉颇并非害怕他，而是为了国家利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"/>
                            </p:stCondLst>
                            <p:childTnLst>
                              <p:par>
                                <p:cTn id="5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743120" y="206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826920" y="2133720"/>
            <a:ext cx="7632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Verdana"/>
              </a:rPr>
              <a:t>负荆请罪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可以看出蔺相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是一个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_____________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1855440" y="45086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识大体，胸怀宽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2484360" y="3284640"/>
            <a:ext cx="57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以国家利益为重，顾大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"/>
                            </p:stCondLst>
                            <p:childTnLst>
                              <p:par>
                                <p:cTn id="5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"/>
                            </p:stCondLst>
                            <p:childTnLst>
                              <p:par>
                                <p:cTn id="5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923480" y="1268280"/>
            <a:ext cx="514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廉颇为什么向蔺相如负荆请罪？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023840" y="372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611280" y="3284640"/>
            <a:ext cx="784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负荆请罪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可以看出廉颇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一个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______________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2635560" y="443700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勇于改过，以国利益为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"/>
                            </p:stCondLst>
                            <p:childTnLst>
                              <p:par>
                                <p:cTn id="5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923840" y="1125360"/>
            <a:ext cx="5259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完璧归赵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渑池之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与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负荆请罪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之间有什么联系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852200" y="3500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答案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900000" y="350028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          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三个故事各有情节，但又紧密联系。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渑池之会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是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完璧归赵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 的发展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完璧归赵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渑池之会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的结果是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负荆请罪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 的起因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"/>
                            </p:stCondLst>
                            <p:childTnLst>
                              <p:par>
                                <p:cTn id="58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900000" y="1125360"/>
            <a:ext cx="7705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从这几个小故事中可以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出蔺相如是一个怎样的人？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颇呢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826920" y="1557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蔺相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对事件能深思熟虑，随机应变，对秦王不顾生死，敢于斗争，对廉颇能顾全大局，忍辱退让，一切以国家利益为重。因为他为维护赵国利益一再立下功劳，先后被封为上大夫，上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826920" y="1341360"/>
            <a:ext cx="756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廉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能服从赵王的调遣带兵奔赴边界作好抵御秦兵的准备，使秦王不敢轻举妄动，虽然计较个人得失和蔺相如闹不团结，但知错就改，并负荆上蔺相如府上请罪，性格坦率。此后能和蔺相如一起同心协力保卫赵国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2209320" y="1341360"/>
            <a:ext cx="4267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</a:rPr>
              <a:t>作业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复述“负荆请罪”这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故事给家长听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404720" y="2133720"/>
            <a:ext cx="4462200" cy="40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璧               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怯               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缶               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卿　　　　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835280" y="3284640"/>
            <a:ext cx="16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qiè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836720" y="213372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bì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771640" y="2060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和氏璧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5219640" y="213372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nuò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443640" y="21337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许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3130560" y="328464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胆怯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10"/>
          <p:cNvSpPr txBox="1"/>
          <p:nvPr/>
        </p:nvSpPr>
        <p:spPr>
          <a:xfrm>
            <a:off x="826920" y="1125360"/>
            <a:ext cx="2808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方正舒体"/>
              </a:rPr>
              <a:t>生字学习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1835280" y="4437000"/>
            <a:ext cx="17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fǒu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435640" y="443376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jù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6408720" y="443376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拒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5364000" y="3284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sè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6443640" y="3284640"/>
            <a:ext cx="18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鼓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095640" y="436572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击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2"/>
          <p:cNvSpPr/>
          <p:nvPr/>
        </p:nvSpPr>
        <p:spPr>
          <a:xfrm>
            <a:off x="1692360" y="544500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qīng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3"/>
          <p:cNvSpPr/>
          <p:nvPr/>
        </p:nvSpPr>
        <p:spPr>
          <a:xfrm>
            <a:off x="3095640" y="544212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上卿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611280" y="206064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　  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司马迁（前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145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或前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135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）西汉史学家，文学家。字子长，夏阳（今陕西韩城西南）人。生于汉景帝中元五年（前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145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），一说生于汉武帝建元六年（前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135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），卒年不可考。元封三年（公元前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108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年）司马迁继承其父司马谈之职，任太史令，掌管天文历法及皇家图籍，因而得尽读史官所藏图书。因替投降匈奴的李陵辩护，获罪下狱，受腐刑。出狱后任中书令，继续发愤著书，终于完成了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史记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的撰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0" y="9810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相关链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2627280" y="134136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司马迁与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黑体"/>
              </a:rPr>
              <a:t>《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史记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"/>
                            </p:stCondLst>
                            <p:childTnLst>
                              <p:par>
                                <p:cTn id="6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539640" y="1303200"/>
            <a:ext cx="820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史记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最初没有固定书名，或称“太史公书”，或称“太史公记”，也省称“太史公”。“史记”本来是古代史书的通称，从三国开始，“史记”由通称逐渐成为“太史公书”的专名。全书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130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篇，包括十二本纪、八书、十表、三十世家、七十列传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个部分，共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52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万字。记载了从黄帝到汉武帝太初年间长达三千年的政治、经济和文化的历史，比较全面而深刻地反映了我国古代的社会面貌，对后世史学研究有深远影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史记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既是历史的“实录”，同时具有相当高的文学价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395280" y="141300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我国历史上的一个时期（前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475—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前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221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。当时，比较强的国家有七个，即秦、楚、齐、赵、燕、魏、韩，称为“战国七雄”。七雄并峙，战火频繁。秦国是最强的一个。秦国地处函谷关以西，其余六国在函谷关以东。赵国的东面是富强的齐国，西面是强大的秦国。赵国处在两大强国之间。“完璧归赵”的故事发生在秦国全力进攻楚国的时候。秦国不能集中更多兵力对付赵国，主要是用威胁的手段占赵国的便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3708360" y="8557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战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"/>
                            </p:stCondLst>
                            <p:childTnLst>
                              <p:par>
                                <p:cTn id="6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1042920" y="184464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官职，分别分为上、中、下三等，上大夫是最高一级的大夫。上卿是诸侯下面最高的官职。廉颇在赵惠文王十六年（前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283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年）的时候，因伐齐有功，已经被提升为上卿。蔺相如也做上卿，但由于是文官，上朝集会时，位置在廉颇的右边。秦汉以前以右为尊，所以课文中说蔺相如的职位比廉颇高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3132000" y="1052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大夫、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"/>
                            </p:stCondLst>
                            <p:childTnLst>
                              <p:par>
                                <p:cTn id="6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324000" y="144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     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和氏璧是一块宝玉的名称，有一段不平凡的来历。相传在春秋时期的楚国，有个叫卞和的人，在楚山中拾到一块玉璞（即未经过加工的美玉），把它奉献给了楚厉王。厉王就叫辨别玉的专家来鉴定，鉴定的结果说是石头。厉王大怒，认为卞和在欺骗戏弄自己，就以欺君之罪名，砍掉了卞和的左脚。不久，厉王死了，武王即位，卞和又把这块玉璞奉献给武王。武王也叫辨别玉的专家来鉴定，结果同样说是石头，武王又以欺君之罪砍掉卞和的右脚。武王死后，文王即位。卞和抱着玉璞到楚山下大哭，一直哭了三天三夜。眼泪哭干了，最后哭出了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3276720" y="9050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和氏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"/>
                            </p:stCondLst>
                            <p:childTnLst>
                              <p:par>
                                <p:cTn id="6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4"/>
          <p:cNvSpPr/>
          <p:nvPr/>
        </p:nvSpPr>
        <p:spPr>
          <a:xfrm>
            <a:off x="468360" y="1233360"/>
            <a:ext cx="799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文王听说后，就派人问他，说：“天下被砍掉脚的人很多，都没有这样痛哭，你为什么哭得这样悲伤呢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?”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卞和回答说：“我不是为我的脚被砍掉而悲伤、痛哭，我所悲伤的是有人竟把宝玉说成是石头，给忠贞的人扣上欺骗的罪名。”文王于是就派人对这块玉璞进行加工，果然是一块罕见的宝玉。于是就把这块宝玉命名为“和氏璧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由于这块宝玉的珍奇，加之来历的不平凡，因此，便成了世间所公认的至宝，价值连城。这也是秦王不惜以十五座城为诱饵来骗取“和氏璧”的原因所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4" descr="zbkk15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77080"/>
          </a:xfrm>
          <a:prstGeom prst="rect">
            <a:avLst/>
          </a:prstGeom>
          <a:ln w="0">
            <a:noFill/>
          </a:ln>
        </p:spPr>
      </p:pic>
      <p:sp>
        <p:nvSpPr>
          <p:cNvPr id="189" name="WordArt 21"/>
          <p:cNvSpPr txBox="1"/>
          <p:nvPr/>
        </p:nvSpPr>
        <p:spPr>
          <a:xfrm>
            <a:off x="2411280" y="3141720"/>
            <a:ext cx="40323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华文行楷"/>
              </a:rPr>
              <a:t>再见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/>
  </p:transition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3"/>
          <p:cNvGrpSpPr/>
          <p:nvPr/>
        </p:nvGrpSpPr>
        <p:grpSpPr>
          <a:xfrm>
            <a:off x="3276720" y="2133720"/>
            <a:ext cx="1224000" cy="1224000"/>
            <a:chOff x="3276720" y="2133720"/>
            <a:chExt cx="1224000" cy="1224000"/>
          </a:xfrm>
        </p:grpSpPr>
        <p:sp>
          <p:nvSpPr>
            <p:cNvPr id="59" name="Rectangle 4"/>
            <p:cNvSpPr/>
            <p:nvPr/>
          </p:nvSpPr>
          <p:spPr>
            <a:xfrm>
              <a:off x="3276720" y="213372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5"/>
            <p:cNvSpPr/>
            <p:nvPr/>
          </p:nvSpPr>
          <p:spPr>
            <a:xfrm flipH="1">
              <a:off x="3276720" y="274572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6"/>
            <p:cNvSpPr/>
            <p:nvPr/>
          </p:nvSpPr>
          <p:spPr>
            <a:xfrm>
              <a:off x="3889080" y="216396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7"/>
          <p:cNvGrpSpPr/>
          <p:nvPr/>
        </p:nvGrpSpPr>
        <p:grpSpPr>
          <a:xfrm>
            <a:off x="4500360" y="2133720"/>
            <a:ext cx="1224000" cy="1224000"/>
            <a:chOff x="4500360" y="2133720"/>
            <a:chExt cx="1224000" cy="1224000"/>
          </a:xfrm>
        </p:grpSpPr>
        <p:sp>
          <p:nvSpPr>
            <p:cNvPr id="63" name="Rectangle 8"/>
            <p:cNvSpPr/>
            <p:nvPr/>
          </p:nvSpPr>
          <p:spPr>
            <a:xfrm>
              <a:off x="4500720" y="2133720"/>
              <a:ext cx="122364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9"/>
            <p:cNvSpPr/>
            <p:nvPr/>
          </p:nvSpPr>
          <p:spPr>
            <a:xfrm flipH="1">
              <a:off x="4500360" y="2745720"/>
              <a:ext cx="122364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0"/>
            <p:cNvSpPr/>
            <p:nvPr/>
          </p:nvSpPr>
          <p:spPr>
            <a:xfrm>
              <a:off x="5112720" y="216396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1"/>
          <p:cNvGrpSpPr/>
          <p:nvPr/>
        </p:nvGrpSpPr>
        <p:grpSpPr>
          <a:xfrm>
            <a:off x="5724360" y="2133720"/>
            <a:ext cx="1224000" cy="1224000"/>
            <a:chOff x="5724360" y="2133720"/>
            <a:chExt cx="1224000" cy="1224000"/>
          </a:xfrm>
        </p:grpSpPr>
        <p:sp>
          <p:nvSpPr>
            <p:cNvPr id="67" name="Rectangle 12"/>
            <p:cNvSpPr/>
            <p:nvPr/>
          </p:nvSpPr>
          <p:spPr>
            <a:xfrm>
              <a:off x="5724360" y="213372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3"/>
            <p:cNvSpPr/>
            <p:nvPr/>
          </p:nvSpPr>
          <p:spPr>
            <a:xfrm flipH="1">
              <a:off x="5724360" y="274572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4"/>
            <p:cNvSpPr/>
            <p:nvPr/>
          </p:nvSpPr>
          <p:spPr>
            <a:xfrm>
              <a:off x="6336720" y="216396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5"/>
          <p:cNvGrpSpPr/>
          <p:nvPr/>
        </p:nvGrpSpPr>
        <p:grpSpPr>
          <a:xfrm>
            <a:off x="2050920" y="2133720"/>
            <a:ext cx="1224000" cy="1224000"/>
            <a:chOff x="2050920" y="2133720"/>
            <a:chExt cx="1224000" cy="1224000"/>
          </a:xfrm>
        </p:grpSpPr>
        <p:sp>
          <p:nvSpPr>
            <p:cNvPr id="71" name="Rectangle 16"/>
            <p:cNvSpPr/>
            <p:nvPr/>
          </p:nvSpPr>
          <p:spPr>
            <a:xfrm>
              <a:off x="2050920" y="213372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7"/>
            <p:cNvSpPr/>
            <p:nvPr/>
          </p:nvSpPr>
          <p:spPr>
            <a:xfrm flipH="1">
              <a:off x="2050920" y="274572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8"/>
            <p:cNvSpPr/>
            <p:nvPr/>
          </p:nvSpPr>
          <p:spPr>
            <a:xfrm>
              <a:off x="2663280" y="216396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Text Box 19"/>
          <p:cNvSpPr/>
          <p:nvPr/>
        </p:nvSpPr>
        <p:spPr>
          <a:xfrm>
            <a:off x="2050920" y="2168640"/>
            <a:ext cx="48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Arial"/>
                <a:ea typeface="楷体_GB2312"/>
              </a:rPr>
              <a:t>赵璧召诺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41"/>
          <p:cNvGrpSpPr/>
          <p:nvPr/>
        </p:nvGrpSpPr>
        <p:grpSpPr>
          <a:xfrm>
            <a:off x="2700360" y="3860640"/>
            <a:ext cx="1224000" cy="1224000"/>
            <a:chOff x="2700360" y="3860640"/>
            <a:chExt cx="1224000" cy="1224000"/>
          </a:xfrm>
        </p:grpSpPr>
        <p:sp>
          <p:nvSpPr>
            <p:cNvPr id="76" name="Rectangle 42"/>
            <p:cNvSpPr/>
            <p:nvPr/>
          </p:nvSpPr>
          <p:spPr>
            <a:xfrm>
              <a:off x="2700360" y="3860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43"/>
            <p:cNvSpPr/>
            <p:nvPr/>
          </p:nvSpPr>
          <p:spPr>
            <a:xfrm flipH="1">
              <a:off x="2700360" y="4472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44"/>
            <p:cNvSpPr/>
            <p:nvPr/>
          </p:nvSpPr>
          <p:spPr>
            <a:xfrm>
              <a:off x="3312720" y="389088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5"/>
          <p:cNvGrpSpPr/>
          <p:nvPr/>
        </p:nvGrpSpPr>
        <p:grpSpPr>
          <a:xfrm>
            <a:off x="1474920" y="3860640"/>
            <a:ext cx="1224000" cy="1224000"/>
            <a:chOff x="1474920" y="3860640"/>
            <a:chExt cx="1224000" cy="1224000"/>
          </a:xfrm>
        </p:grpSpPr>
        <p:sp>
          <p:nvSpPr>
            <p:cNvPr id="80" name="Rectangle 46"/>
            <p:cNvSpPr/>
            <p:nvPr/>
          </p:nvSpPr>
          <p:spPr>
            <a:xfrm>
              <a:off x="1474920" y="3860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47"/>
            <p:cNvSpPr/>
            <p:nvPr/>
          </p:nvSpPr>
          <p:spPr>
            <a:xfrm flipH="1">
              <a:off x="1474920" y="4472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48"/>
            <p:cNvSpPr/>
            <p:nvPr/>
          </p:nvSpPr>
          <p:spPr>
            <a:xfrm>
              <a:off x="2087280" y="389088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49"/>
          <p:cNvGrpSpPr/>
          <p:nvPr/>
        </p:nvGrpSpPr>
        <p:grpSpPr>
          <a:xfrm>
            <a:off x="5148360" y="3860640"/>
            <a:ext cx="1224000" cy="1224000"/>
            <a:chOff x="5148360" y="3860640"/>
            <a:chExt cx="1224000" cy="1224000"/>
          </a:xfrm>
        </p:grpSpPr>
        <p:sp>
          <p:nvSpPr>
            <p:cNvPr id="84" name="Rectangle 50"/>
            <p:cNvSpPr/>
            <p:nvPr/>
          </p:nvSpPr>
          <p:spPr>
            <a:xfrm>
              <a:off x="5148360" y="3860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51"/>
            <p:cNvSpPr/>
            <p:nvPr/>
          </p:nvSpPr>
          <p:spPr>
            <a:xfrm flipH="1">
              <a:off x="5148360" y="4472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52"/>
            <p:cNvSpPr/>
            <p:nvPr/>
          </p:nvSpPr>
          <p:spPr>
            <a:xfrm>
              <a:off x="5760720" y="389088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53"/>
          <p:cNvGrpSpPr/>
          <p:nvPr/>
        </p:nvGrpSpPr>
        <p:grpSpPr>
          <a:xfrm>
            <a:off x="3924360" y="3860640"/>
            <a:ext cx="1224000" cy="1224000"/>
            <a:chOff x="3924360" y="3860640"/>
            <a:chExt cx="1224000" cy="1224000"/>
          </a:xfrm>
        </p:grpSpPr>
        <p:sp>
          <p:nvSpPr>
            <p:cNvPr id="88" name="Rectangle 54"/>
            <p:cNvSpPr/>
            <p:nvPr/>
          </p:nvSpPr>
          <p:spPr>
            <a:xfrm>
              <a:off x="3924360" y="3860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5"/>
            <p:cNvSpPr/>
            <p:nvPr/>
          </p:nvSpPr>
          <p:spPr>
            <a:xfrm flipH="1">
              <a:off x="3924360" y="4472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56"/>
            <p:cNvSpPr/>
            <p:nvPr/>
          </p:nvSpPr>
          <p:spPr>
            <a:xfrm>
              <a:off x="4536720" y="389088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57"/>
          <p:cNvGrpSpPr/>
          <p:nvPr/>
        </p:nvGrpSpPr>
        <p:grpSpPr>
          <a:xfrm>
            <a:off x="6372360" y="3860640"/>
            <a:ext cx="1224000" cy="1224000"/>
            <a:chOff x="6372360" y="3860640"/>
            <a:chExt cx="1224000" cy="1224000"/>
          </a:xfrm>
        </p:grpSpPr>
        <p:sp>
          <p:nvSpPr>
            <p:cNvPr id="92" name="Rectangle 58"/>
            <p:cNvSpPr/>
            <p:nvPr/>
          </p:nvSpPr>
          <p:spPr>
            <a:xfrm>
              <a:off x="6372360" y="3860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59"/>
            <p:cNvSpPr/>
            <p:nvPr/>
          </p:nvSpPr>
          <p:spPr>
            <a:xfrm flipH="1">
              <a:off x="6372360" y="4472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60"/>
            <p:cNvSpPr/>
            <p:nvPr/>
          </p:nvSpPr>
          <p:spPr>
            <a:xfrm>
              <a:off x="6984720" y="389088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 Box 61"/>
          <p:cNvSpPr/>
          <p:nvPr/>
        </p:nvSpPr>
        <p:spPr>
          <a:xfrm>
            <a:off x="1546200" y="386064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Arial"/>
                <a:ea typeface="楷体_GB2312"/>
              </a:rPr>
              <a:t>怯瑟拒诸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395280" y="1268280"/>
            <a:ext cx="26640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无价之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绝口不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攻无不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战无不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同心协力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渑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340000" y="119700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形容物品特别珍贵，用多少钱也买不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268360" y="234468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因回避而不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2268360" y="299412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攻城夺地，没有拿不下来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2195640" y="357336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形容强大无比。每战必胜。攻无不克、战无不胜这两个成语多指善于打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2195640" y="5084640"/>
            <a:ext cx="59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协，合。团结一致，共同努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1476360" y="573408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地名，在今河南渑池县境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468360" y="1125360"/>
            <a:ext cx="360036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完璧归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负荆请罪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332000" y="119700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            </a:t>
            </a: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璧，古代玉器的一种，平圆形，中间有孔。本课的和氏璧，指的是用楚国人卞和发现的一块玉制成的璧。“完璧归赵”指把和氏璧完好无损地送回赵国。这个成语现在常用来比喻把东西完好无损地归还原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116000" y="429264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            </a:t>
            </a: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负，背着。荆，荆条，用来打人的东西。本课指廉颇光着上身，背着荆条，到蔺相如家请罪。这个成语现用来表示向人认错赔罪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900000" y="2060640"/>
            <a:ext cx="75596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速读课文，讨论交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①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书上画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别指谁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②本文主要讲了一个什么故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7"/>
          <p:cNvSpPr/>
          <p:nvPr/>
        </p:nvSpPr>
        <p:spPr>
          <a:xfrm>
            <a:off x="3419640" y="176544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5292720" y="981000"/>
            <a:ext cx="3851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指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相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指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意思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_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字可以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想出什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5797080" y="37162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同心协力，保卫赵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jiangxianghesc"/>
          <p:cNvPicPr/>
          <p:nvPr/>
        </p:nvPicPr>
        <p:blipFill>
          <a:blip r:embed="rId1"/>
          <a:stretch/>
        </p:blipFill>
        <p:spPr>
          <a:xfrm>
            <a:off x="179280" y="1052640"/>
            <a:ext cx="4824360" cy="5184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6732720" y="9079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廉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6659640" y="19954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蔺相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chimes.wav"/>
      </p:stSnd>
    </p:sndAc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826920" y="1125360"/>
            <a:ext cx="7345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课文主要讲了廉颇和蔺相如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到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不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再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和好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故事。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个故事发生在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时候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主要讲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个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894480" y="328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 Narrow"/>
                <a:ea typeface="黑体"/>
              </a:rPr>
              <a:t>战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828720" y="437184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 Narrow"/>
                <a:ea typeface="黑体"/>
              </a:rPr>
              <a:t>完璧归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419640" y="43718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 Narrow"/>
                <a:ea typeface="黑体"/>
              </a:rPr>
              <a:t>渑池之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236280" y="4363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 Narrow"/>
                <a:ea typeface="黑体"/>
              </a:rPr>
              <a:t>负荆请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" name="chimes.wav"/>
      </p:stSnd>
    </p:sndAc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6000"/>
                            </p:stCondLst>
                            <p:childTnLst>
                              <p:par>
                                <p:cTn id="3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cp:keywords>幻灯片之家 http:/www.eeppt.com</cp:keywords>
  <dc:language>en-US</dc:language>
  <cp:lastModifiedBy/>
  <dcterms:modified xsi:type="dcterms:W3CDTF">2015-07-20T06:38:58Z</dcterms:modified>
  <cp:revision>109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