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18DC-1D78-43A6-8C3C-C3BE7C71C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3171-4158-44EA-8A83-322C6C78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0611-E736-416A-94B9-520021CE1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6DB3-96D0-4B0C-AB1A-AD813F361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29D6-C385-4FD8-97DA-31A85E28E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AC8A-9ECF-4072-B841-764A945D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CD8E-3981-4B27-8969-9DBD7679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AD19-3F38-45F9-88B2-F6FAB57F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A366-6886-407D-8F5E-0FE20B65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7524-D7DC-4EA2-B4D2-1C48904D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CDB7-7975-4CE4-B946-7625E5BC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D244-1E49-4467-BB5D-60A386A2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7045-1C94-4533-861D-D6F4C4E2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F8D5-89D4-4F11-87D9-2C2C6FFC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99C78-2E95-4E8A-B689-E3588433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83AC-3ED5-47E8-BE0F-5D8D453C4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936E-A91E-4E31-BB0C-906BBCF1F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6576-E929-4055-B5B0-2354054B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5CFC-0FB7-4066-9F42-D9119560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4031-F8A0-43CC-8A99-31F5553F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67A6-058E-4AE1-B84A-37504FF2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1E85-5625-4994-B757-9098F376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3C9D-E162-4218-8B58-74154AD6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A95A-410B-4A21-B257-3EE068A8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F176-2017-4C6A-807F-1C427339175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4D77-9F20-4DD2-812A-A175236EEA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8C0F-5F87-4517-827D-44E196690F9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3DD3-72E0-4321-9D1A-9A7A0548DDD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16-9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5" name="矩形 1"/>
          <p:cNvSpPr/>
          <p:nvPr/>
        </p:nvSpPr>
        <p:spPr>
          <a:xfrm>
            <a:off x="3180960" y="1476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建筑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>幻灯片之家：www.eeppt.com;</dc:description>
  <cp:keywords>幻灯片之家：www.eeppt.com</cp:keywords>
  <dc:language>en-US</dc:language>
  <cp:lastModifiedBy/>
  <dcterms:modified xsi:type="dcterms:W3CDTF">2015-07-21T00:59:46Z</dcterms:modified>
  <cp:revision>5</cp:revision>
  <dc:subject/>
  <dc:title>幻灯片之家：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