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99F-3206-4902-9EA9-EDE62D1B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001-9BC2-4D0A-A83F-5D4DF785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628-AB5D-4E67-86F0-3B79565F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2D8-8425-4F6F-9480-4107C1A6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5BA-1BD9-4FD9-AF3F-A2C3DC78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8E4-0119-444A-A847-27A38534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332-4F06-4290-9445-A38345FD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951-2FB2-4A0F-BC62-9A51F682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7A2-A62F-4720-A15F-FFDFC954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311-9553-49BF-8B4D-596E2A0A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CF6-579C-42B7-8622-B1CD3FC9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E65-BF96-4A4A-A906-23E85B68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1FD4-82D9-4A32-A302-478B9FC6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4626-DF88-41CB-BC36-AC53AAB2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29A2-9C23-42AC-912C-4012C787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6031-AC61-4DE2-A446-0DD0775C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DE4B-8448-4E72-AB30-7003C917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015E-F775-4F16-BB5D-06FCF496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935E-05FF-4FA6-A376-9BF3BA19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E0A8-6EFC-486D-AD58-515C8CDF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3CF1-2EFD-4627-BFAD-94CE6E8E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FDF5-E325-4B04-9DA0-E30CA487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67B6-3C3C-40BE-BF72-A75BCE97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20FD-0F4E-418C-937C-88E9A0E3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>
            <a:alpha val="9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>
            <a:alpha val="9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2343-F3DB-4568-B65A-F2F3A0A61F7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>
            <a:alpha val="9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E4B0-C8BC-4497-9187-731259B23CC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ound2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10.png"/><Relationship Id="rId15" Type="http://schemas.openxmlformats.org/officeDocument/2006/relationships/image" Target="../media/image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hyperlink" Target="http://www.eeppt.com/sucai/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8"/>
          <p:cNvGrpSpPr/>
          <p:nvPr/>
        </p:nvGrpSpPr>
        <p:grpSpPr>
          <a:xfrm>
            <a:off x="428760" y="1285920"/>
            <a:ext cx="17073360" cy="71280"/>
            <a:chOff x="428760" y="1285920"/>
            <a:chExt cx="17073360" cy="71280"/>
          </a:xfrm>
        </p:grpSpPr>
        <p:sp>
          <p:nvSpPr>
            <p:cNvPr id="117" name="Line 8"/>
            <p:cNvSpPr/>
            <p:nvPr/>
          </p:nvSpPr>
          <p:spPr>
            <a:xfrm>
              <a:off x="428760" y="1285920"/>
              <a:ext cx="8739000" cy="71280"/>
            </a:xfrm>
            <a:prstGeom prst="line">
              <a:avLst/>
            </a:prstGeom>
            <a:ln w="316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9148680" y="1345680"/>
              <a:ext cx="8353440" cy="0"/>
            </a:xfrm>
            <a:prstGeom prst="line">
              <a:avLst/>
            </a:prstGeom>
            <a:ln w="12600">
              <a:solidFill>
                <a:srgbClr val="808080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2571480" y="907920"/>
            <a:ext cx="4217760" cy="4735440"/>
            <a:chOff x="2571480" y="907920"/>
            <a:chExt cx="4217760" cy="4735440"/>
          </a:xfrm>
        </p:grpSpPr>
        <p:sp>
          <p:nvSpPr>
            <p:cNvPr id="120" name="Rectangle 4">
              <a:hlinkClick r:id="rId1"/>
            </p:cNvPr>
            <p:cNvSpPr/>
            <p:nvPr/>
          </p:nvSpPr>
          <p:spPr>
            <a:xfrm rot="2974200">
              <a:off x="3027960" y="2138760"/>
              <a:ext cx="3304440" cy="2725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Picture 6" descr="image39"/>
            <p:cNvPicPr/>
            <p:nvPr/>
          </p:nvPicPr>
          <p:blipFill>
            <a:blip r:embed="rId3"/>
            <a:stretch/>
          </p:blipFill>
          <p:spPr>
            <a:xfrm>
              <a:off x="4572000" y="907920"/>
              <a:ext cx="371520" cy="6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矩形 1"/>
          <p:cNvSpPr/>
          <p:nvPr/>
        </p:nvSpPr>
        <p:spPr>
          <a:xfrm>
            <a:off x="2976840" y="52380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卡通简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64162E-006 L -0.44895 0.29596 E">
                                      <p:cBhvr>
                                        <p:cTn id="9" dur="11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880">
                                      <p:cBhvr>
                                        <p:cTn id="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4895 0.28555 L -0.44895 0.6289 E">
                                      <p:cBhvr>
                                        <p:cTn id="13" dur="6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0">
            <a:hlinkClick r:id="" action="ppaction://hlinkshowjump?jump=nextslide"/>
          </p:cNvPr>
          <p:cNvSpPr/>
          <p:nvPr/>
        </p:nvSpPr>
        <p:spPr>
          <a:xfrm>
            <a:off x="2519280" y="1484280"/>
            <a:ext cx="4105440" cy="388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18"/>
          <p:cNvSpPr/>
          <p:nvPr/>
        </p:nvSpPr>
        <p:spPr>
          <a:xfrm>
            <a:off x="2533680" y="4062240"/>
            <a:ext cx="4076640" cy="1297080"/>
          </a:xfrm>
          <a:custGeom>
            <a:avLst/>
            <a:gdLst>
              <a:gd name="textAreaLeft" fmla="*/ 0 w 4076640"/>
              <a:gd name="textAreaRight" fmla="*/ 4076640 w 407664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568" h="817">
                <a:moveTo>
                  <a:pt x="0" y="817"/>
                </a:moveTo>
                <a:lnTo>
                  <a:pt x="0" y="0"/>
                </a:lnTo>
                <a:lnTo>
                  <a:pt x="2568" y="267"/>
                </a:lnTo>
                <a:lnTo>
                  <a:pt x="2568" y="816"/>
                </a:lnTo>
                <a:lnTo>
                  <a:pt x="0" y="817"/>
                </a:lnTo>
                <a:close/>
              </a:path>
            </a:pathLst>
          </a:custGeom>
          <a:solidFill>
            <a:srgbClr val="673a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0"/>
          <p:cNvSpPr/>
          <p:nvPr/>
        </p:nvSpPr>
        <p:spPr>
          <a:xfrm>
            <a:off x="2533680" y="3571920"/>
            <a:ext cx="4076640" cy="1773360"/>
          </a:xfrm>
          <a:custGeom>
            <a:avLst/>
            <a:gdLst>
              <a:gd name="textAreaLeft" fmla="*/ 0 w 4076640"/>
              <a:gd name="textAreaRight" fmla="*/ 4076640 w 4076640"/>
              <a:gd name="textAreaTop" fmla="*/ 0 h 1773360"/>
              <a:gd name="textAreaBottom" fmla="*/ 1773720 h 1773360"/>
            </a:gdLst>
            <a:ahLst/>
            <a:rect l="textAreaLeft" t="textAreaTop" r="textAreaRight" b="textAreaBottom"/>
            <a:pathLst>
              <a:path w="2568" h="1117">
                <a:moveTo>
                  <a:pt x="0" y="1117"/>
                </a:moveTo>
                <a:lnTo>
                  <a:pt x="0" y="300"/>
                </a:lnTo>
                <a:lnTo>
                  <a:pt x="2568" y="0"/>
                </a:lnTo>
                <a:lnTo>
                  <a:pt x="2568" y="1116"/>
                </a:lnTo>
                <a:lnTo>
                  <a:pt x="0" y="1117"/>
                </a:lnTo>
                <a:close/>
              </a:path>
            </a:pathLst>
          </a:custGeom>
          <a:solidFill>
            <a:srgbClr val="673a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22"/>
          <p:cNvSpPr/>
          <p:nvPr/>
        </p:nvSpPr>
        <p:spPr>
          <a:xfrm>
            <a:off x="2532240" y="3146400"/>
            <a:ext cx="4076640" cy="2200320"/>
          </a:xfrm>
          <a:custGeom>
            <a:avLst/>
            <a:gdLst>
              <a:gd name="textAreaLeft" fmla="*/ 0 w 4076640"/>
              <a:gd name="textAreaRight" fmla="*/ 4076640 w 4076640"/>
              <a:gd name="textAreaTop" fmla="*/ 0 h 2200320"/>
              <a:gd name="textAreaBottom" fmla="*/ 2200680 h 2200320"/>
            </a:gdLst>
            <a:ahLst/>
            <a:rect l="textAreaLeft" t="textAreaTop" r="textAreaRight" b="textAreaBottom"/>
            <a:pathLst>
              <a:path w="2568" h="1386">
                <a:moveTo>
                  <a:pt x="0" y="1386"/>
                </a:moveTo>
                <a:lnTo>
                  <a:pt x="0" y="0"/>
                </a:lnTo>
                <a:lnTo>
                  <a:pt x="2568" y="269"/>
                </a:lnTo>
                <a:lnTo>
                  <a:pt x="2568" y="1385"/>
                </a:lnTo>
                <a:lnTo>
                  <a:pt x="0" y="1386"/>
                </a:lnTo>
                <a:close/>
              </a:path>
            </a:pathLst>
          </a:custGeom>
          <a:solidFill>
            <a:srgbClr val="673a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23"/>
          <p:cNvSpPr/>
          <p:nvPr/>
        </p:nvSpPr>
        <p:spPr>
          <a:xfrm>
            <a:off x="2532240" y="2247840"/>
            <a:ext cx="4078080" cy="3097440"/>
          </a:xfrm>
          <a:custGeom>
            <a:avLst/>
            <a:gdLst>
              <a:gd name="textAreaLeft" fmla="*/ 0 w 4078080"/>
              <a:gd name="textAreaRight" fmla="*/ 4078440 w 4078080"/>
              <a:gd name="textAreaTop" fmla="*/ 0 h 3097440"/>
              <a:gd name="textAreaBottom" fmla="*/ 3097800 h 3097440"/>
            </a:gdLst>
            <a:ahLst/>
            <a:rect l="textAreaLeft" t="textAreaTop" r="textAreaRight" b="textAreaBottom"/>
            <a:pathLst>
              <a:path w="2569" h="1951">
                <a:moveTo>
                  <a:pt x="0" y="1951"/>
                </a:moveTo>
                <a:lnTo>
                  <a:pt x="0" y="565"/>
                </a:lnTo>
                <a:lnTo>
                  <a:pt x="2569" y="0"/>
                </a:lnTo>
                <a:lnTo>
                  <a:pt x="2568" y="1950"/>
                </a:lnTo>
                <a:lnTo>
                  <a:pt x="0" y="1951"/>
                </a:lnTo>
                <a:close/>
              </a:path>
            </a:pathLst>
          </a:custGeom>
          <a:solidFill>
            <a:srgbClr val="673a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24"/>
          <p:cNvSpPr/>
          <p:nvPr/>
        </p:nvSpPr>
        <p:spPr>
          <a:xfrm>
            <a:off x="2532240" y="1708200"/>
            <a:ext cx="4078080" cy="3637080"/>
          </a:xfrm>
          <a:custGeom>
            <a:avLst/>
            <a:gdLst>
              <a:gd name="textAreaLeft" fmla="*/ 0 w 4078080"/>
              <a:gd name="textAreaRight" fmla="*/ 4078440 w 4078080"/>
              <a:gd name="textAreaTop" fmla="*/ 0 h 3637080"/>
              <a:gd name="textAreaBottom" fmla="*/ 3637080 h 3637080"/>
            </a:gdLst>
            <a:ahLst/>
            <a:rect l="textAreaLeft" t="textAreaTop" r="textAreaRight" b="textAreaBottom"/>
            <a:pathLst>
              <a:path w="2569" h="2291">
                <a:moveTo>
                  <a:pt x="0" y="2291"/>
                </a:moveTo>
                <a:lnTo>
                  <a:pt x="1" y="0"/>
                </a:lnTo>
                <a:lnTo>
                  <a:pt x="2569" y="340"/>
                </a:lnTo>
                <a:lnTo>
                  <a:pt x="2568" y="2290"/>
                </a:lnTo>
                <a:lnTo>
                  <a:pt x="0" y="2291"/>
                </a:lnTo>
                <a:close/>
              </a:path>
            </a:pathLst>
          </a:custGeom>
          <a:solidFill>
            <a:srgbClr val="673a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25"/>
          <p:cNvSpPr/>
          <p:nvPr/>
        </p:nvSpPr>
        <p:spPr>
          <a:xfrm>
            <a:off x="2521080" y="1500120"/>
            <a:ext cx="4079880" cy="3863880"/>
          </a:xfrm>
          <a:custGeom>
            <a:avLst/>
            <a:gdLst>
              <a:gd name="textAreaLeft" fmla="*/ 0 w 4079880"/>
              <a:gd name="textAreaRight" fmla="*/ 4080240 w 4079880"/>
              <a:gd name="textAreaTop" fmla="*/ 0 h 3863880"/>
              <a:gd name="textAreaBottom" fmla="*/ 3864240 h 3863880"/>
            </a:gdLst>
            <a:ahLst/>
            <a:rect l="textAreaLeft" t="textAreaTop" r="textAreaRight" b="textAreaBottom"/>
            <a:pathLst>
              <a:path w="2570" h="2434">
                <a:moveTo>
                  <a:pt x="1" y="2434"/>
                </a:moveTo>
                <a:lnTo>
                  <a:pt x="0" y="0"/>
                </a:lnTo>
                <a:lnTo>
                  <a:pt x="2570" y="2"/>
                </a:lnTo>
                <a:lnTo>
                  <a:pt x="2569" y="2433"/>
                </a:lnTo>
                <a:lnTo>
                  <a:pt x="1" y="2434"/>
                </a:lnTo>
                <a:close/>
              </a:path>
            </a:pathLst>
          </a:custGeom>
          <a:solidFill>
            <a:srgbClr val="673a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95280" y="1268280"/>
            <a:ext cx="8353440" cy="0"/>
          </a:xfrm>
          <a:prstGeom prst="line">
            <a:avLst/>
          </a:prstGeom>
          <a:ln w="38160">
            <a:solidFill>
              <a:srgbClr val="f2f2f2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8" descr="image39"/>
          <p:cNvPicPr/>
          <p:nvPr/>
        </p:nvPicPr>
        <p:blipFill>
          <a:blip r:embed="rId2"/>
          <a:stretch/>
        </p:blipFill>
        <p:spPr>
          <a:xfrm>
            <a:off x="4572000" y="907920"/>
            <a:ext cx="37152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Line 32"/>
          <p:cNvGrpSpPr/>
          <p:nvPr/>
        </p:nvGrpSpPr>
        <p:grpSpPr>
          <a:xfrm>
            <a:off x="420840" y="1030320"/>
            <a:ext cx="8510400" cy="169920"/>
            <a:chOff x="420840" y="1030320"/>
            <a:chExt cx="8510400" cy="169920"/>
          </a:xfrm>
        </p:grpSpPr>
        <p:pic>
          <p:nvPicPr>
            <p:cNvPr id="134" name="Line 32" descr=""/>
            <p:cNvPicPr/>
            <p:nvPr/>
          </p:nvPicPr>
          <p:blipFill>
            <a:blip r:embed="rId1"/>
            <a:stretch/>
          </p:blipFill>
          <p:spPr>
            <a:xfrm>
              <a:off x="420840" y="1030320"/>
              <a:ext cx="851040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4"/>
            <p:cNvSpPr/>
            <p:nvPr/>
          </p:nvSpPr>
          <p:spPr>
            <a:xfrm>
              <a:off x="499680" y="1116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组合 23"/>
          <p:cNvGrpSpPr/>
          <p:nvPr/>
        </p:nvGrpSpPr>
        <p:grpSpPr>
          <a:xfrm>
            <a:off x="-1265400" y="-3999600"/>
            <a:ext cx="10712880" cy="10899360"/>
            <a:chOff x="-1265400" y="-3999600"/>
            <a:chExt cx="10712880" cy="10899360"/>
          </a:xfrm>
        </p:grpSpPr>
        <p:sp>
          <p:nvSpPr>
            <p:cNvPr id="137" name="Rectangle 30"/>
            <p:cNvSpPr/>
            <p:nvPr/>
          </p:nvSpPr>
          <p:spPr>
            <a:xfrm rot="1439400">
              <a:off x="3044160" y="2143440"/>
              <a:ext cx="5100840" cy="3887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 rot="1439400">
              <a:off x="-652320" y="256320"/>
              <a:ext cx="4104720" cy="38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 rot="1439400">
              <a:off x="944640" y="-3332880"/>
              <a:ext cx="4104720" cy="38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30"/>
            <p:cNvSpPr/>
            <p:nvPr/>
          </p:nvSpPr>
          <p:spPr>
            <a:xfrm rot="1439400">
              <a:off x="4729680" y="-1648440"/>
              <a:ext cx="4104720" cy="38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Picture 28" descr="image39"/>
          <p:cNvPicPr/>
          <p:nvPr/>
        </p:nvPicPr>
        <p:blipFill>
          <a:blip r:embed="rId3"/>
          <a:stretch/>
        </p:blipFill>
        <p:spPr>
          <a:xfrm>
            <a:off x="3929040" y="642960"/>
            <a:ext cx="512640" cy="9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5" autoRev="1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46" dur="18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401"/>
                            </p:stCondLst>
                            <p:childTnLst>
                              <p:par>
                                <p:cTn id="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16667E-006 -4.10405E-006 L 0.00538 0.89457 E">
                                      <p:cBhvr>
                                        <p:cTn id="51" dur="8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" descr="BWS_012.png"/>
          <p:cNvPicPr/>
          <p:nvPr/>
        </p:nvPicPr>
        <p:blipFill>
          <a:blip r:embed="rId1"/>
          <a:stretch/>
        </p:blipFill>
        <p:spPr>
          <a:xfrm>
            <a:off x="-1722600" y="-720"/>
            <a:ext cx="1722600" cy="17226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" descr="BWS_051.png"/>
          <p:cNvPicPr/>
          <p:nvPr/>
        </p:nvPicPr>
        <p:blipFill>
          <a:blip r:embed="rId2"/>
          <a:stretch/>
        </p:blipFill>
        <p:spPr>
          <a:xfrm>
            <a:off x="-1722600" y="5134680"/>
            <a:ext cx="1722600" cy="17226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4" descr="BWS_053.png"/>
          <p:cNvPicPr/>
          <p:nvPr/>
        </p:nvPicPr>
        <p:blipFill>
          <a:blip r:embed="rId3"/>
          <a:stretch/>
        </p:blipFill>
        <p:spPr>
          <a:xfrm>
            <a:off x="3499560" y="6857280"/>
            <a:ext cx="1722600" cy="17226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5" descr="BWS_064.png"/>
          <p:cNvPicPr/>
          <p:nvPr/>
        </p:nvPicPr>
        <p:blipFill>
          <a:blip r:embed="rId4"/>
          <a:stretch/>
        </p:blipFill>
        <p:spPr>
          <a:xfrm>
            <a:off x="9357480" y="5357880"/>
            <a:ext cx="1722600" cy="17222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6" descr="BWS_065.png"/>
          <p:cNvPicPr/>
          <p:nvPr/>
        </p:nvPicPr>
        <p:blipFill>
          <a:blip r:embed="rId5"/>
          <a:stretch/>
        </p:blipFill>
        <p:spPr>
          <a:xfrm>
            <a:off x="-1722600" y="2571840"/>
            <a:ext cx="1722600" cy="17222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7" descr="BWS_001.png"/>
          <p:cNvPicPr/>
          <p:nvPr/>
        </p:nvPicPr>
        <p:blipFill>
          <a:blip r:embed="rId6"/>
          <a:stretch/>
        </p:blipFill>
        <p:spPr>
          <a:xfrm>
            <a:off x="523080" y="5226840"/>
            <a:ext cx="1630440" cy="16304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9" descr="BWS_006.png"/>
          <p:cNvPicPr/>
          <p:nvPr/>
        </p:nvPicPr>
        <p:blipFill>
          <a:blip r:embed="rId7"/>
          <a:stretch/>
        </p:blipFill>
        <p:spPr>
          <a:xfrm>
            <a:off x="9143280" y="2428920"/>
            <a:ext cx="1722600" cy="17222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0" descr="BWS_008.png"/>
          <p:cNvPicPr/>
          <p:nvPr/>
        </p:nvPicPr>
        <p:blipFill>
          <a:blip r:embed="rId8"/>
          <a:stretch/>
        </p:blipFill>
        <p:spPr>
          <a:xfrm>
            <a:off x="3857760" y="-1722600"/>
            <a:ext cx="1722240" cy="17226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1" descr="BWS_009.png"/>
          <p:cNvPicPr/>
          <p:nvPr/>
        </p:nvPicPr>
        <p:blipFill>
          <a:blip r:embed="rId9"/>
          <a:stretch/>
        </p:blipFill>
        <p:spPr>
          <a:xfrm>
            <a:off x="9143280" y="-720"/>
            <a:ext cx="1722600" cy="17226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2" descr="BWS_009.png"/>
          <p:cNvPicPr/>
          <p:nvPr/>
        </p:nvPicPr>
        <p:blipFill>
          <a:blip r:embed="rId10"/>
          <a:stretch/>
        </p:blipFill>
        <p:spPr>
          <a:xfrm>
            <a:off x="2679840" y="5226840"/>
            <a:ext cx="1630080" cy="16304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3" descr="BWS_064.png"/>
          <p:cNvPicPr/>
          <p:nvPr/>
        </p:nvPicPr>
        <p:blipFill>
          <a:blip r:embed="rId11"/>
          <a:stretch/>
        </p:blipFill>
        <p:spPr>
          <a:xfrm>
            <a:off x="4834080" y="5226840"/>
            <a:ext cx="1630080" cy="16304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4" descr="BWS_053.png"/>
          <p:cNvPicPr/>
          <p:nvPr/>
        </p:nvPicPr>
        <p:blipFill>
          <a:blip r:embed="rId12"/>
          <a:stretch/>
        </p:blipFill>
        <p:spPr>
          <a:xfrm>
            <a:off x="6989040" y="5226840"/>
            <a:ext cx="1630440" cy="16304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5" descr="BWS_051.png"/>
          <p:cNvPicPr/>
          <p:nvPr/>
        </p:nvPicPr>
        <p:blipFill>
          <a:blip r:embed="rId13"/>
          <a:stretch/>
        </p:blipFill>
        <p:spPr>
          <a:xfrm>
            <a:off x="356400" y="2642400"/>
            <a:ext cx="1722600" cy="17226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6" descr="BWS_065.png"/>
          <p:cNvPicPr/>
          <p:nvPr/>
        </p:nvPicPr>
        <p:blipFill>
          <a:blip r:embed="rId14"/>
          <a:stretch/>
        </p:blipFill>
        <p:spPr>
          <a:xfrm>
            <a:off x="428760" y="-720"/>
            <a:ext cx="1722240" cy="17226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7" descr="BWS_012.png"/>
          <p:cNvPicPr/>
          <p:nvPr/>
        </p:nvPicPr>
        <p:blipFill>
          <a:blip r:embed="rId15"/>
          <a:stretch/>
        </p:blipFill>
        <p:spPr>
          <a:xfrm>
            <a:off x="2595600" y="-720"/>
            <a:ext cx="1722240" cy="17226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8" descr="BWS_008.png"/>
          <p:cNvPicPr/>
          <p:nvPr/>
        </p:nvPicPr>
        <p:blipFill>
          <a:blip r:embed="rId16"/>
          <a:stretch/>
        </p:blipFill>
        <p:spPr>
          <a:xfrm>
            <a:off x="4761720" y="-720"/>
            <a:ext cx="1722600" cy="17226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9" descr="BWS_009.png"/>
          <p:cNvPicPr/>
          <p:nvPr/>
        </p:nvPicPr>
        <p:blipFill>
          <a:blip r:embed="rId17"/>
          <a:stretch/>
        </p:blipFill>
        <p:spPr>
          <a:xfrm>
            <a:off x="6928560" y="-720"/>
            <a:ext cx="1722600" cy="17226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20" descr="BWS_006.png"/>
          <p:cNvPicPr/>
          <p:nvPr/>
        </p:nvPicPr>
        <p:blipFill>
          <a:blip r:embed="rId18"/>
          <a:stretch/>
        </p:blipFill>
        <p:spPr>
          <a:xfrm>
            <a:off x="6928560" y="2785320"/>
            <a:ext cx="1722600" cy="17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remove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21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1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1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1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0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3" presetSubtype="54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7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7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7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7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7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7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52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7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7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7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52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7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7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52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7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7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9" descr="094"/>
          <p:cNvPicPr/>
          <p:nvPr/>
        </p:nvPicPr>
        <p:blipFill>
          <a:blip r:embed="rId1"/>
          <a:stretch/>
        </p:blipFill>
        <p:spPr>
          <a:xfrm>
            <a:off x="-2143080" y="5000760"/>
            <a:ext cx="2143080" cy="2136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1" descr="192"/>
          <p:cNvPicPr/>
          <p:nvPr/>
        </p:nvPicPr>
        <p:blipFill>
          <a:blip r:embed="rId2"/>
          <a:stretch/>
        </p:blipFill>
        <p:spPr>
          <a:xfrm>
            <a:off x="9144000" y="5429160"/>
            <a:ext cx="2604960" cy="2103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0" descr="174"/>
          <p:cNvPicPr/>
          <p:nvPr/>
        </p:nvPicPr>
        <p:blipFill>
          <a:blip r:embed="rId3"/>
          <a:stretch/>
        </p:blipFill>
        <p:spPr>
          <a:xfrm>
            <a:off x="9429840" y="5286240"/>
            <a:ext cx="2124000" cy="2143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6" descr="163"/>
          <p:cNvPicPr/>
          <p:nvPr/>
        </p:nvPicPr>
        <p:blipFill>
          <a:blip r:embed="rId4"/>
          <a:stretch/>
        </p:blipFill>
        <p:spPr>
          <a:xfrm>
            <a:off x="-2928960" y="5214960"/>
            <a:ext cx="26463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9" descr="094"/>
          <p:cNvPicPr/>
          <p:nvPr/>
        </p:nvPicPr>
        <p:blipFill>
          <a:blip r:embed="rId5"/>
          <a:stretch/>
        </p:blipFill>
        <p:spPr>
          <a:xfrm>
            <a:off x="7072200" y="4357800"/>
            <a:ext cx="1231920" cy="1228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1" descr="192"/>
          <p:cNvPicPr/>
          <p:nvPr/>
        </p:nvPicPr>
        <p:blipFill>
          <a:blip r:embed="rId6"/>
          <a:stretch/>
        </p:blipFill>
        <p:spPr>
          <a:xfrm>
            <a:off x="5143680" y="4357800"/>
            <a:ext cx="1485720" cy="1198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0" descr="174"/>
          <p:cNvPicPr/>
          <p:nvPr/>
        </p:nvPicPr>
        <p:blipFill>
          <a:blip r:embed="rId7"/>
          <a:stretch/>
        </p:blipFill>
        <p:spPr>
          <a:xfrm>
            <a:off x="857160" y="4500720"/>
            <a:ext cx="12114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6" descr="163"/>
          <p:cNvPicPr/>
          <p:nvPr/>
        </p:nvPicPr>
        <p:blipFill>
          <a:blip r:embed="rId8"/>
          <a:stretch/>
        </p:blipFill>
        <p:spPr>
          <a:xfrm>
            <a:off x="2786040" y="4572000"/>
            <a:ext cx="1521000" cy="11588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0"/>
          <p:cNvSpPr/>
          <p:nvPr/>
        </p:nvSpPr>
        <p:spPr>
          <a:xfrm>
            <a:off x="2392200" y="6305400"/>
            <a:ext cx="523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ppt素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35838E-007 L 0.59358 -0.47884 E">
                                      <p:cBhvr>
                                        <p:cTn id="176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6185E-006 L 0.66771 -0.70058 E">
                                      <p:cBhvr>
                                        <p:cTn id="178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9711E-006 L -0.66597 -0.1822 E">
                                      <p:cBhvr>
                                        <p:cTn id="180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56069E-006 L -0.6632 -0.35306 E">
                                      <p:cBhvr>
                                        <p:cTn id="182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16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500" fill="hold"/>
                                        <p:tgtEl>
                                          <p:spTgt spid="1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矩形 10"/>
          <p:cNvGrpSpPr/>
          <p:nvPr/>
        </p:nvGrpSpPr>
        <p:grpSpPr>
          <a:xfrm>
            <a:off x="549360" y="2687760"/>
            <a:ext cx="7405560" cy="1407960"/>
            <a:chOff x="549360" y="2687760"/>
            <a:chExt cx="7405560" cy="1407960"/>
          </a:xfrm>
        </p:grpSpPr>
        <p:pic>
          <p:nvPicPr>
            <p:cNvPr id="170" name="矩形 10" descr=""/>
            <p:cNvPicPr/>
            <p:nvPr/>
          </p:nvPicPr>
          <p:blipFill>
            <a:blip r:embed="rId1"/>
            <a:stretch/>
          </p:blipFill>
          <p:spPr>
            <a:xfrm>
              <a:off x="549360" y="2687760"/>
              <a:ext cx="74055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4"/>
            <p:cNvSpPr/>
            <p:nvPr/>
          </p:nvSpPr>
          <p:spPr>
            <a:xfrm>
              <a:off x="785880" y="2928960"/>
              <a:ext cx="69292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矩形 6"/>
          <p:cNvGrpSpPr/>
          <p:nvPr/>
        </p:nvGrpSpPr>
        <p:grpSpPr>
          <a:xfrm>
            <a:off x="2676600" y="2152800"/>
            <a:ext cx="3290760" cy="2577960"/>
            <a:chOff x="2676600" y="2152800"/>
            <a:chExt cx="3290760" cy="2577960"/>
          </a:xfrm>
        </p:grpSpPr>
        <p:pic>
          <p:nvPicPr>
            <p:cNvPr id="173" name="矩形 6" descr=""/>
            <p:cNvPicPr/>
            <p:nvPr/>
          </p:nvPicPr>
          <p:blipFill>
            <a:blip r:embed="rId2"/>
            <a:stretch/>
          </p:blipFill>
          <p:spPr>
            <a:xfrm>
              <a:off x="2676600" y="2152800"/>
              <a:ext cx="329076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7"/>
            <p:cNvSpPr/>
            <p:nvPr/>
          </p:nvSpPr>
          <p:spPr>
            <a:xfrm>
              <a:off x="3500640" y="2928960"/>
              <a:ext cx="16430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矩形 5"/>
          <p:cNvSpPr/>
          <p:nvPr/>
        </p:nvSpPr>
        <p:spPr>
          <a:xfrm>
            <a:off x="828720" y="2928960"/>
            <a:ext cx="3459240" cy="9288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矩形 9"/>
          <p:cNvSpPr/>
          <p:nvPr/>
        </p:nvSpPr>
        <p:spPr>
          <a:xfrm>
            <a:off x="4286160" y="2928960"/>
            <a:ext cx="3457800" cy="9288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矩形 13"/>
          <p:cNvGrpSpPr/>
          <p:nvPr/>
        </p:nvGrpSpPr>
        <p:grpSpPr>
          <a:xfrm>
            <a:off x="-36360" y="2152800"/>
            <a:ext cx="3286080" cy="2577960"/>
            <a:chOff x="-36360" y="2152800"/>
            <a:chExt cx="3286080" cy="2577960"/>
          </a:xfrm>
        </p:grpSpPr>
        <p:pic>
          <p:nvPicPr>
            <p:cNvPr id="178" name="矩形 13" descr=""/>
            <p:cNvPicPr/>
            <p:nvPr/>
          </p:nvPicPr>
          <p:blipFill>
            <a:blip r:embed="rId3"/>
            <a:stretch/>
          </p:blipFill>
          <p:spPr>
            <a:xfrm>
              <a:off x="-36360" y="2152800"/>
              <a:ext cx="328608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2"/>
            <p:cNvSpPr/>
            <p:nvPr/>
          </p:nvSpPr>
          <p:spPr>
            <a:xfrm>
              <a:off x="785880" y="2928960"/>
              <a:ext cx="16430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矩形 15"/>
          <p:cNvGrpSpPr/>
          <p:nvPr/>
        </p:nvGrpSpPr>
        <p:grpSpPr>
          <a:xfrm>
            <a:off x="-36360" y="-60480"/>
            <a:ext cx="3286080" cy="2577960"/>
            <a:chOff x="-36360" y="-60480"/>
            <a:chExt cx="3286080" cy="2577960"/>
          </a:xfrm>
        </p:grpSpPr>
        <p:pic>
          <p:nvPicPr>
            <p:cNvPr id="181" name="矩形 15" descr=""/>
            <p:cNvPicPr/>
            <p:nvPr/>
          </p:nvPicPr>
          <p:blipFill>
            <a:blip r:embed="rId4"/>
            <a:stretch/>
          </p:blipFill>
          <p:spPr>
            <a:xfrm>
              <a:off x="-36360" y="-60480"/>
              <a:ext cx="328608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5"/>
            <p:cNvSpPr/>
            <p:nvPr/>
          </p:nvSpPr>
          <p:spPr>
            <a:xfrm>
              <a:off x="785880" y="714240"/>
              <a:ext cx="16430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50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6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" dur="6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64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60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0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0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601"/>
                            </p:stCondLst>
                            <p:childTnLst>
                              <p:par>
                                <p:cTn id="28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87" dur="3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50" repeatCount="4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8601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1" descr="9511237_17920979.jpg"/>
          <p:cNvPicPr/>
          <p:nvPr/>
        </p:nvPicPr>
        <p:blipFill>
          <a:blip r:embed="rId1"/>
          <a:stretch/>
        </p:blipFill>
        <p:spPr>
          <a:xfrm>
            <a:off x="2928960" y="2286000"/>
            <a:ext cx="3871800" cy="29034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2" descr="9511278_17920979.jpg"/>
          <p:cNvPicPr/>
          <p:nvPr/>
        </p:nvPicPr>
        <p:blipFill>
          <a:blip r:embed="rId2"/>
          <a:stretch/>
        </p:blipFill>
        <p:spPr>
          <a:xfrm>
            <a:off x="2928960" y="2286000"/>
            <a:ext cx="3871800" cy="29034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3" descr="9511281_17920979.jpg"/>
          <p:cNvPicPr/>
          <p:nvPr/>
        </p:nvPicPr>
        <p:blipFill>
          <a:blip r:embed="rId3"/>
          <a:stretch/>
        </p:blipFill>
        <p:spPr>
          <a:xfrm>
            <a:off x="2928960" y="2286000"/>
            <a:ext cx="3871800" cy="290340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4" descr="9538553_15583525.jpg"/>
          <p:cNvPicPr/>
          <p:nvPr/>
        </p:nvPicPr>
        <p:blipFill>
          <a:blip r:embed="rId4"/>
          <a:stretch/>
        </p:blipFill>
        <p:spPr>
          <a:xfrm>
            <a:off x="2928960" y="2286000"/>
            <a:ext cx="3871800" cy="29034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5" descr="9538554_15583525.jpg"/>
          <p:cNvPicPr/>
          <p:nvPr/>
        </p:nvPicPr>
        <p:blipFill>
          <a:blip r:embed="rId5"/>
          <a:stretch/>
        </p:blipFill>
        <p:spPr>
          <a:xfrm>
            <a:off x="2928960" y="2286000"/>
            <a:ext cx="3871800" cy="29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3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3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9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7:33:09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29:54Z</dcterms:modified>
  <cp:revision>37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