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241FE-37BC-42C2-A907-B0608D2D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7F327-A1A2-4350-8841-2FD3209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A3BA-9152-4C26-A50C-86A15A7C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04B3A-F538-4BD4-AF8C-BB97220C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13240-617F-4F5F-AF37-0EF7407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7BB4-AEFA-45BE-8E5F-B653AC0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4314A-447E-400B-9901-709ED9B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4EA6-CEC1-42B5-8B6E-506E1AA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BDE2-5219-48BC-971F-6C6BA70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05B07-8E13-4AEE-A07E-A83A04D7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FEC0-E3E4-47CB-BD35-050AC1F1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BD03-0DD9-488B-811C-88C98DDD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4B7-BB9A-49B0-BCB0-AB1B7EAB5BC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4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4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image" Target="../media/image4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304,10,&#24187;&#28783;&#29255; 10" TargetMode="External"/><Relationship Id="rId4" Type="http://schemas.openxmlformats.org/officeDocument/2006/relationships/image" Target="../media/image2.png"/><Relationship Id="rId5" Type="http://schemas.openxmlformats.org/officeDocument/2006/relationships/hyperlink" Target="305,11,&#24187;&#28783;&#29255; 11" TargetMode="External"/><Relationship Id="rId6" Type="http://schemas.openxmlformats.org/officeDocument/2006/relationships/image" Target="../media/image10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eeppt.com/beijing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698120"/>
            <a:ext cx="5943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817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422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77400" y="2637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雷电颂》课件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通篇运用拟人兼呼告。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风，你咆哮吧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!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你们风，你们雷，你们电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电，你这宇宙中最犀利的剑呀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!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等，这些语句，热切地期望风雷电；而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你东君，你是什么个东君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词语，无比愤怒地对恶神进行斥责。这样，就直接最有力地表达了爱憎的感情。其次运用反复、排比等使整个独白具有诗的形式美，琅琅上口，铿锵有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AutoShape 4">
            <a:hlinkClick r:id="rId3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00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AutoShape 4">
            <a:hlinkClick r:id="rId2"/>
          </p:cNvPr>
          <p:cNvSpPr/>
          <p:nvPr/>
        </p:nvSpPr>
        <p:spPr>
          <a:xfrm>
            <a:off x="1116000" y="148428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者简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5">
            <a:hlinkClick r:id="rId4"/>
          </p:cNvPr>
          <p:cNvSpPr/>
          <p:nvPr/>
        </p:nvSpPr>
        <p:spPr>
          <a:xfrm>
            <a:off x="1116000" y="2333520"/>
            <a:ext cx="3168720" cy="576360"/>
          </a:xfrm>
          <a:custGeom>
            <a:avLst/>
            <a:gdLst>
              <a:gd name="textAreaLeft" fmla="*/ 36000 w 3168720"/>
              <a:gd name="textAreaRight" fmla="*/ 3132720 w 31687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7342" y="1350"/>
                </a:lnTo>
                <a:lnTo>
                  <a:pt x="1350" y="1350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7342" y="20250"/>
                </a:lnTo>
                <a:lnTo>
                  <a:pt x="117342" y="1350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2" y="20250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历史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屈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AutoShape 6">
            <a:hlinkClick r:id="rId6"/>
          </p:cNvPr>
          <p:cNvSpPr/>
          <p:nvPr/>
        </p:nvSpPr>
        <p:spPr>
          <a:xfrm>
            <a:off x="1116000" y="318276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屈原简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AutoShape 7">
            <a:hlinkClick r:id="rId8"/>
          </p:cNvPr>
          <p:cNvSpPr/>
          <p:nvPr/>
        </p:nvSpPr>
        <p:spPr>
          <a:xfrm>
            <a:off x="1116000" y="5732640"/>
            <a:ext cx="3166920" cy="57600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118699" h="21600">
                <a:moveTo>
                  <a:pt x="0" y="0"/>
                </a:moveTo>
                <a:lnTo>
                  <a:pt x="118699" y="0"/>
                </a:lnTo>
                <a:lnTo>
                  <a:pt x="118699" y="21600"/>
                </a:lnTo>
                <a:lnTo>
                  <a:pt x="0" y="21600"/>
                </a:lnTo>
                <a:close/>
              </a:path>
              <a:path fill="lightenLess" w="118699" h="21600">
                <a:moveTo>
                  <a:pt x="0" y="0"/>
                </a:moveTo>
                <a:lnTo>
                  <a:pt x="118699" y="0"/>
                </a:lnTo>
                <a:lnTo>
                  <a:pt x="117349" y="1350"/>
                </a:lnTo>
                <a:lnTo>
                  <a:pt x="1350" y="1350"/>
                </a:lnTo>
                <a:close/>
              </a:path>
              <a:path fill="darken" w="118699" h="21600">
                <a:moveTo>
                  <a:pt x="118699" y="0"/>
                </a:moveTo>
                <a:lnTo>
                  <a:pt x="118699" y="21600"/>
                </a:lnTo>
                <a:lnTo>
                  <a:pt x="117349" y="20250"/>
                </a:lnTo>
                <a:lnTo>
                  <a:pt x="117349" y="1350"/>
                </a:lnTo>
                <a:close/>
              </a:path>
              <a:path fill="darkenLess" w="118699" h="21600">
                <a:moveTo>
                  <a:pt x="1186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9" y="20250"/>
                </a:lnTo>
                <a:close/>
              </a:path>
              <a:path fill="lighten" w="1186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艺术特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AutoShape 8">
            <a:hlinkClick r:id="rId10"/>
          </p:cNvPr>
          <p:cNvSpPr/>
          <p:nvPr/>
        </p:nvSpPr>
        <p:spPr>
          <a:xfrm>
            <a:off x="1116000" y="488160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人物形象分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AutoShape 9">
            <a:hlinkClick r:id="rId12"/>
          </p:cNvPr>
          <p:cNvSpPr/>
          <p:nvPr/>
        </p:nvSpPr>
        <p:spPr>
          <a:xfrm>
            <a:off x="1116000" y="4032360"/>
            <a:ext cx="3166920" cy="57600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118699" h="21600">
                <a:moveTo>
                  <a:pt x="0" y="0"/>
                </a:moveTo>
                <a:lnTo>
                  <a:pt x="118699" y="0"/>
                </a:lnTo>
                <a:lnTo>
                  <a:pt x="118699" y="21600"/>
                </a:lnTo>
                <a:lnTo>
                  <a:pt x="0" y="21600"/>
                </a:lnTo>
                <a:close/>
              </a:path>
              <a:path fill="lightenLess" w="118699" h="21600">
                <a:moveTo>
                  <a:pt x="0" y="0"/>
                </a:moveTo>
                <a:lnTo>
                  <a:pt x="118699" y="0"/>
                </a:lnTo>
                <a:lnTo>
                  <a:pt x="117349" y="1350"/>
                </a:lnTo>
                <a:lnTo>
                  <a:pt x="1350" y="1350"/>
                </a:lnTo>
                <a:close/>
              </a:path>
              <a:path fill="darken" w="118699" h="21600">
                <a:moveTo>
                  <a:pt x="118699" y="0"/>
                </a:moveTo>
                <a:lnTo>
                  <a:pt x="118699" y="21600"/>
                </a:lnTo>
                <a:lnTo>
                  <a:pt x="117349" y="20250"/>
                </a:lnTo>
                <a:lnTo>
                  <a:pt x="117349" y="1350"/>
                </a:lnTo>
                <a:close/>
              </a:path>
              <a:path fill="darkenLess" w="118699" h="21600">
                <a:moveTo>
                  <a:pt x="1186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9" y="20250"/>
                </a:lnTo>
                <a:close/>
              </a:path>
              <a:path fill="lighten" w="1186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雷电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层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10" descr="国画《屈原》1"/>
          <p:cNvPicPr/>
          <p:nvPr/>
        </p:nvPicPr>
        <p:blipFill>
          <a:blip r:embed="rId14"/>
          <a:stretch/>
        </p:blipFill>
        <p:spPr>
          <a:xfrm>
            <a:off x="5508720" y="1015920"/>
            <a:ext cx="2730240" cy="56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2368440" y="26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作者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85800" y="1341000"/>
            <a:ext cx="4606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郭沫若（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892.11─1978.6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原名郭开桢，笔名沫若（取家乡沫水──大渡河，若水──雅河之意）。他是我国伟大的无产阶级文学家、历史学家、著名的社会活动家、古文字学家，是继鲁迅之后的又一文学大师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41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皖南事变后，他写下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裳棣之花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虎符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高渐离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孔雀胆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南冠草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六个历史剧。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他的代表作品之一，借古喻今，矛头直指国民党反动派，深刻地揭露了国民党反动派卖国投降政策，激励了人民的爱国斗志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4" descr="郭沫若2"/>
          <p:cNvPicPr/>
          <p:nvPr/>
        </p:nvPicPr>
        <p:blipFill>
          <a:blip r:embed="rId4"/>
          <a:stretch/>
        </p:blipFill>
        <p:spPr>
          <a:xfrm>
            <a:off x="611280" y="1413000"/>
            <a:ext cx="3514680" cy="46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AutoShape 6">
            <a:hlinkClick r:id="rId5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历史剧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屈原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写于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1942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月，时值抗日战争的相持阶段，半壁河山沦于敌手，蒋介石集团又消极抗日，积极反共，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全中国进步的人们都感受着愤怒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。于是，针对政治现实，郭沫若创作了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，用以鞭挞国民党反动派的黑暗统治，抒发人民的愤慨。作者曾说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我把这时代的愤怒复活在屈原的时代里去了。换句话说，我是借了屈原的时代来象征我们当前的时代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(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序俄文译本历史剧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〈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〉》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全剧分为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橘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受诬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招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被囚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雷电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五幕。课文节选的第五幕的第二场，是全剧的高潮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在当年国民党统治的中心──重庆上演，产生过巨大的影响。尤其是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雷电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一幕中的独白，激起过许多爱国者的共鸣。每次演出都被观众爆发出的雷鸣般的掌声所淹没。此剧最后被国民党当局禁演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AutoShape 6">
            <a:hlinkClick r:id="rId5"/>
          </p:cNvPr>
          <p:cNvSpPr/>
          <p:nvPr/>
        </p:nvSpPr>
        <p:spPr>
          <a:xfrm>
            <a:off x="810108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屈原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14080"/>
            <a:ext cx="4822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屈原（约前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340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－约前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278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），我国最早的大诗人。名平，字原；又自云名正则，字灵均。战国时楚国人。初辅佐怀王，做过左徒、三闾大夫。主张彰明法度，举贤任能，改革政治，联齐抗秦。后遭谗去职，迭遭放逐。至首都郢为秦兵攻破，遂投汨罗江而死。后世所见屈原作品，皆出自西汉刘向辑集的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楚辞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。这本书主要是屈原的作品，其中有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离骚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一篇，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九歌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十一篇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4" descr="尹瘦石作品《屈原》1941年"/>
          <p:cNvPicPr/>
          <p:nvPr/>
        </p:nvPicPr>
        <p:blipFill>
          <a:blip r:embed="rId3"/>
          <a:stretch/>
        </p:blipFill>
        <p:spPr>
          <a:xfrm>
            <a:off x="5757840" y="1052640"/>
            <a:ext cx="2846520" cy="558936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AutoShape 5">
            <a:hlinkClick r:id="rId4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雷电颂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的层次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47260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一层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风雷电的呼唤与歌颂，对光明的礼赞与向往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二层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借指斥神鬼偶象来愤怒诅咒昏庸腐朽的当权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Picture 4" descr="《屈原》剧照2"/>
          <p:cNvPicPr/>
          <p:nvPr/>
        </p:nvPicPr>
        <p:blipFill>
          <a:blip r:embed="rId4"/>
          <a:stretch/>
        </p:blipFill>
        <p:spPr>
          <a:xfrm>
            <a:off x="2344680" y="1163520"/>
            <a:ext cx="4454640" cy="34178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Text Box 6"/>
          <p:cNvSpPr/>
          <p:nvPr/>
        </p:nvSpPr>
        <p:spPr>
          <a:xfrm>
            <a:off x="7421040" y="1576440"/>
            <a:ext cx="606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屈原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剧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AutoShape 8">
            <a:hlinkClick r:id="rId5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人物形象分析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2465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屈原：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正义和光明的化身。痛恨黑暗，向往光明，蔑视鬼神，鞭挞一切污秽，誓与丑恶奸佞们战斗到底。对风雷电的呼唤和歌颂，表现了他横扫一切邪恶的顽强战斗精神。虽桎梏加身，但不屈不挠，浩然正气凛然不可侵犯，充分表现了忠于祖国，热爱人民的高尚情操和崇高理想。屈原是正义和光明的化身，是战斗不屈的战士的形象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国画《屈子行吟图》马振声"/>
          <p:cNvPicPr/>
          <p:nvPr/>
        </p:nvPicPr>
        <p:blipFill>
          <a:blip r:embed="rId3"/>
          <a:srcRect l="18142" t="0" r="6274" b="0"/>
          <a:stretch/>
        </p:blipFill>
        <p:spPr>
          <a:xfrm>
            <a:off x="468360" y="1484280"/>
            <a:ext cx="3600360" cy="47149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AutoShape 5">
            <a:hlinkClick r:id="rId4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艺术特色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663560"/>
            <a:ext cx="475308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ea typeface="华文行楷"/>
                <a:hlinkClick r:id="rId3"/>
              </a:rPr>
              <a:t>一、闪耀着浪漫主义的色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ea typeface="华文行楷"/>
                <a:hlinkClick r:id="rId5"/>
              </a:rPr>
              <a:t>二、运用多种修辞手法──充分表达感情，增强语句气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9" name="Picture 4" descr="《屈原》书影"/>
          <p:cNvPicPr/>
          <p:nvPr/>
        </p:nvPicPr>
        <p:blipFill>
          <a:blip r:embed="rId6"/>
          <a:srcRect l="0" t="3658" r="7812" b="0"/>
          <a:stretch/>
        </p:blipFill>
        <p:spPr>
          <a:xfrm>
            <a:off x="5762520" y="1484280"/>
            <a:ext cx="2986200" cy="43196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Text Box 5"/>
          <p:cNvSpPr/>
          <p:nvPr/>
        </p:nvSpPr>
        <p:spPr>
          <a:xfrm>
            <a:off x="585144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剧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AutoShape 6">
            <a:hlinkClick r:id="rId7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雷电颂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中，作者进行了大胆的艺术虚构，运用夸张的艺术手法，让屈原凭借暴风、怒雷、闪电的翅膀，展开美妙的幻想，飞往光明的境地；也借助了它们的力量，毁灭一切黑暗。这样，就使屈原形象显得更加神采飞扬。这段独白想象奇特，气势宏伟，表现了作者浪漫主义的激情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AutoShape 4">
            <a:hlinkClick r:id="rId3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31044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好看的ppt背景图片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ttp://www.eeppt.com/beijing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8:20:55Z</dcterms:created>
  <dc:creator/>
  <dc:description/>
  <cp:keywords>幻灯片之家 http:/www.eeppt.com</cp:keywords>
  <dc:language>en-US</dc:language>
  <cp:lastModifiedBy/>
  <dcterms:modified xsi:type="dcterms:W3CDTF">2015-07-04T07:32:4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