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D11-1A22-4DE9-8662-73C19C35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455-BD2F-48AE-B3B1-2B420D2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8D3-37E1-448E-8C02-B0C263E5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8AC-7644-42A0-8F5B-ACF43AEC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DEF-96D2-4DA3-9F89-4377383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220-4EDD-48EB-9407-FAEDE558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EAC-DBB2-4F10-9E36-DAF0CFE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FF3-B04F-4142-B9F4-610E4E19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B45-CF2E-4C0B-90BD-1F58003B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F67-04D2-4EAA-A14E-5764ACDD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EE4-25A5-4149-B29F-64CC47E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3436-47E8-475A-9BC3-5DC3B06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0833-1EDD-4FBA-969D-B08352398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百年"/>
          <p:cNvPicPr/>
          <p:nvPr/>
        </p:nvPicPr>
        <p:blipFill>
          <a:blip r:embed="rId2"/>
          <a:stretch/>
        </p:blipFill>
        <p:spPr>
          <a:xfrm>
            <a:off x="3048120" y="1143000"/>
            <a:ext cx="1015920" cy="482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见证题-6"/>
          <p:cNvPicPr/>
          <p:nvPr/>
        </p:nvPicPr>
        <p:blipFill>
          <a:blip r:embed="rId3"/>
          <a:stretch/>
        </p:blipFill>
        <p:spPr>
          <a:xfrm>
            <a:off x="4952880" y="1143000"/>
            <a:ext cx="1016280" cy="482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左"/>
          <p:cNvPicPr/>
          <p:nvPr/>
        </p:nvPicPr>
        <p:blipFill>
          <a:blip r:embed="rId4"/>
          <a:stretch/>
        </p:blipFill>
        <p:spPr>
          <a:xfrm>
            <a:off x="0" y="-1219320"/>
            <a:ext cx="4724280" cy="8077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右"/>
          <p:cNvPicPr/>
          <p:nvPr/>
        </p:nvPicPr>
        <p:blipFill>
          <a:blip r:embed="rId5"/>
          <a:stretch/>
        </p:blipFill>
        <p:spPr>
          <a:xfrm>
            <a:off x="4724280" y="-1219320"/>
            <a:ext cx="4419720" cy="807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头帘-4"/>
          <p:cNvPicPr/>
          <p:nvPr/>
        </p:nvPicPr>
        <p:blipFill>
          <a:blip r:embed="rId6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ao毛笔"/>
          <p:cNvPicPr/>
          <p:nvPr/>
        </p:nvPicPr>
        <p:blipFill>
          <a:blip r:embed="rId7"/>
          <a:stretch/>
        </p:blipFill>
        <p:spPr>
          <a:xfrm rot="5228400">
            <a:off x="3677400" y="-2799000"/>
            <a:ext cx="354168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12.mp3" descr=""/>
          <p:cNvPicPr/>
          <p:nvPr/>
        </p:nvPicPr>
        <p:blipFill>
          <a:blip r:embed="rId8"/>
          <a:stretch/>
        </p:blipFill>
        <p:spPr>
          <a:xfrm>
            <a:off x="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矩形 1"/>
          <p:cNvSpPr/>
          <p:nvPr/>
        </p:nvSpPr>
        <p:spPr>
          <a:xfrm>
            <a:off x="2540520" y="38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拉开帷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6 -1.11111E-006 E">
                                      <p:cBhvr>
                                        <p:cTn id="11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L 0.59167 0 E">
                                      <p:cBhvr>
                                        <p:cTn id="13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84 0.40324 C -0.15556 0.40972 -0.13785 0.40625 -0.12223 0.40509 C -0.11979 0.4037 -0.11736 0.39954 -0.11511 0.40116 C -0.11146 0.4037 -0.10799 0.41458 -0.10799 0.41481 C -0.11337 0.43449 -0.1224 0.45092 -0.13368 0.46597 C -0.13455 0.46852 -0.13507 0.47129 -0.13646 0.47361 C -0.13854 0.47708 -0.14375 0.4831 -0.14375 0.48333 C -0.13802 0.48565 -0.13629 0.49074 -0.13229 0.49653 C -0.13056 0.50486 -0.12848 0.51134 -0.12361 0.51736 C -0.12275 0.5243 -0.12223 0.53148 -0.12084 0.53842 C -0.12032 0.54051 -0.11806 0.54166 -0.11789 0.54398 C -0.11667 0.55903 -0.11962 0.55301 -0.12518 0.56111 C -0.12795 0.56528 -0.13004 0.56991 -0.13229 0.57454 C -0.13959 0.58866 -0.14236 0.60579 -0.14931 0.62037 C -0.14323 0.62245 -0.14202 0.62407 -0.13802 0.62986 C -0.13611 0.64097 -0.13351 0.64815 -0.13941 0.65833 C -0.1415 0.6618 -0.14653 0.66782 -0.14653 0.66805 C -0.14914 0.67523 -0.15313 0.6794 -0.15504 0.68704 C -0.14375 0.69213 -0.13525 0.69815 -0.12361 0.70023 C -0.11893 0.70671 -0.11424 0.70879 -0.10799 0.7118 C -0.11042 0.72014 -0.11111 0.72963 -0.11511 0.73657 C -0.11927 0.74398 -0.12448 0.75393 -0.12934 0.76111 C -0.13664 0.77199 -0.14479 0.77986 -0.15226 0.78981 C -0.15452 0.80185 -0.15139 0.79838 -0.14931 0.80879 C -0.14497 0.82986 -0.14879 0.81759 -0.14375 0.83171 C -0.14323 0.83541 -0.14323 0.83935 -0.14219 0.84305 C -0.13993 0.85092 -0.1375 0.84537 -0.13507 0.8412 C -0.13125 0.83449 -0.13004 0.82731 -0.12657 0.82037 C -0.125 0.8118 -0.12778 0.79236 -0.12084 0.80694 C -0.12275 0.82893 -0.12396 0.83264 -0.12657 0.84884 C -0.12709 0.85254 -0.12691 0.85671 -0.12795 0.86018 C -0.12934 0.86435 -0.13368 0.87176 -0.13368 0.87199 C -0.13316 0.88194 -0.13351 0.89213 -0.13229 0.90208 C -0.13177 0.90579 -0.12848 0.9081 -0.12795 0.9118 C -0.12587 0.925 -0.12414 0.93866 -0.12084 0.95162 C -0.12691 0.96018 -0.13386 0.96273 -0.1408 0.96875 C -0.13698 0.9794 -0.13889 0.98055 -0.13073 0.98588 C -0.12934 0.99028 -0.12813 0.99491 -0.12657 0.9993 C -0.12518 1.00324 -0.12344 1.00671 -0.12223 1.01065 C -0.11962 1.01921 -0.11979 1.02523 -0.11511 1.03171 C -0.11389 1.03958 -0.11216 1.04676 -0.11077 1.05463 C -0.10573 1.03727 -0.09375 1.0169 -0.08229 1.00694 C -0.07587 1.00116 -0.06841 0.99768 -0.06216 0.99166 C -0.05504 0.98472 -0.05104 0.97523 -0.04514 0.9669 C -0.04323 0.95926 -0.04132 0.95162 -0.03941 0.94398 C -0.03837 0.9044 -0.0375 0.86528 -0.03368 0.82592 C -0.03264 0.71782 -0.03993 0.71805 -0.02657 0.64884 C -0.02361 0.63379 -0.02361 0.61551 -0.01945 0.60116 C -0.01736 0.59398 -0.00938 0.58217 -0.00938 0.58241 C -0.00348 0.54236 0.01771 0.51296 0.03489 0.48125 C 0.03906 0.47361 0.04027 0.46273 0.0434 0.45463 C 0.04791 0.44329 0.05816 0.41481 0.06354 0.40509 C 0.06875 0.3956 0.07569 0.38842 0.08211 0.38032 C 0.08264 0.40185 0.08281 0.42361 0.0835 0.44514 C 0.08368 0.45278 0.08159 0.46157 0.08489 0.46782 C 0.08663 0.47106 0.08854 0.46134 0.09062 0.45833 C 0.10104 0.44352 0.11111 0.4294 0.12482 0.42037 C 0.13073 0.42291 0.13107 0.42106 0.13055 0.43356 C 0.13003 0.44421 0.12152 0.47754 0.11493 0.48704 C 0.11319 0.49606 0.11059 0.50347 0.10781 0.5118 C 0.1 0.53426 0.10625 0.52569 0.09913 0.53449 C 0.09635 0.54375 0.09427 0.54838 0.08923 0.55555 C 0.08646 0.56597 0.08298 0.57616 0.07916 0.58588 C 0.07864 0.58912 0.07777 0.59236 0.07777 0.5956 C 0.07777 0.60509 0.0776 0.61481 0.07916 0.62407 C 0.07951 0.62639 0.08194 0.62708 0.0835 0.62778 C 0.09114 0.63125 0.10156 0.63241 0.1092 0.63356 C 0.10711 0.64467 0.1033 0.65231 0.09635 0.65833 C 0.09323 0.66435 0.08906 0.66921 0.08628 0.67546 C 0.07812 0.69421 0.08854 0.67338 0.08055 0.68889 C 0.09479 0.69491 0.11406 0.69352 0.12777 0.69444 C 0.12639 0.70278 0.12517 0.71111 0.12343 0.71921 C 0.11961 0.73634 0.10364 0.7375 0.0934 0.74398 C 0.09201 0.74583 0.0908 0.74791 0.08923 0.74977 C 0.08784 0.75139 0.08541 0.75139 0.08489 0.7537 C 0.0835 0.75972 0.08698 0.76458 0.08923 0.76875 C 0.09149 0.77801 0.09427 0.7831 0.09913 0.78981 C 0.10104 0.79676 0.10173 0.8037 0.10347 0.81065 C 0.10295 0.81967 0.10347 0.8287 0.10208 0.8375 C 0.10086 0.8456 0.08628 0.87338 0.08211 0.8794 C 0.08507 0.89166 0.08958 0.89954 0.09496 0.90972 C 0.09687 0.91342 0.10069 0.92129 0.10069 0.92153 C 0.10312 0.93125 0.10503 0.93819 0.09913 0.94606 C 0.09635 0.95717 0.09948 0.94606 0.09496 0.95741 C 0.09253 0.96366 0.08784 0.97639 0.08784 0.97662 C 0.0868 0.98217 0.08472 0.98773 0.08489 0.99352 C 0.08524 1.00324 0.08732 1.01273 0.08923 1.02222 C 0.09288 1.04051 0.1158 1.03981 0.12639 1.0412 C 0.18333 1.03796 0.14496 1.04259 0.16632 1.03356 C 0.17448 1.02037 0.18368 1.0044 0.18784 0.98796 C 0.19218 0.9706 0.19826 0.9456 0.21059 0.93449 C 0.21163 0.93264 0.21284 0.93102 0.21354 0.92893 C 0.21475 0.92523 0.21632 0.91736 0.21632 0.91759 C 0.22205 0.93958 0.23021 0.94352 0.24774 0.94791 C 0.24965 0.94907 0.25139 0.95069 0.25347 0.95162 C 0.25573 0.95254 0.25833 0.95231 0.26059 0.9537 C 0.2618 0.9544 0.26232 0.95671 0.26354 0.95741 C 0.26632 0.95879 0.26927 0.95856 0.27205 0.95926 C 0.27847 0.96829 0.27361 0.96319 0.29062 0.96504 C 0.31892 0.96805 0.30139 0.96551 0.32205 0.96875 C 0.36458 0.98333 0.42205 0.97338 0.4592 0.97268 C 0.46649 0.97037 0.46961 0.96528 0.47639 0.96111 C 0.48107 0.95833 0.48576 0.95602 0.49062 0.9537 C 0.49392 0.95208 0.49739 0.95162 0.50069 0.94977 C 0.50833 0.9456 0.51996 0.93842 0.52777 0.93264 C 0.52986 0.93102 0.53125 0.92824 0.5335 0.92685 C 0.5375 0.92454 0.54201 0.92454 0.54635 0.92315 C 0.56215 0.90879 0.54705 0.92153 0.56493 0.90972 C 0.57031 0.90625 0.57586 0.89861 0.58055 0.89444 C 0.58646 0.88333 0.60104 0.88148 0.61059 0.8794 C 0.6158 0.87685 0.61336 0.87731 0.61771 0.87731 E">
                                      <p:cBhvr>
                                        <p:cTn id="17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OCL4WZ-33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头帘-4"/>
          <p:cNvPicPr/>
          <p:nvPr/>
        </p:nvPicPr>
        <p:blipFill>
          <a:blip r:embed="rId2"/>
          <a:stretch/>
        </p:blipFill>
        <p:spPr>
          <a:xfrm>
            <a:off x="0" y="0"/>
            <a:ext cx="9296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1T01:33:07Z</dcterms:modified>
  <cp:revision>1</cp:revision>
  <dc:subject/>
  <dc:title>幻灯片之家：www.eeppt.com;</dc:title>
</cp:coreProperties>
</file>