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D49-CF2A-4B78-8264-AEAC3A41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B84-341B-4D6B-B38F-1ACB5002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A59-76C2-4F54-BBAF-51C0A031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C09-C74F-442D-B6EB-29E147BE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BEF-50EC-4CB7-B3D8-22C92923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A8E-710D-403F-8F9B-D7201357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596-FE46-4931-B330-1BF40B50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181-51EB-496C-9FA7-CDBCB754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849-FDC4-4A73-8BD7-53CFF3E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867-D63B-4C1F-A81B-83A6C88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7EE-FD04-461B-B79B-6BB37592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046-0C27-4610-B69D-ECBE3BE0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FECE-7603-420F-87EF-393CE704D61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447B-44A4-495E-9330-4961C769B2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3" descr=""/>
          <p:cNvPicPr/>
          <p:nvPr/>
        </p:nvPicPr>
        <p:blipFill>
          <a:blip r:embed="rId2"/>
          <a:stretch/>
        </p:blipFill>
        <p:spPr>
          <a:xfrm>
            <a:off x="2629080" y="404640"/>
            <a:ext cx="617220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985680" y="981000"/>
            <a:ext cx="1524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6680" y="1705320"/>
            <a:ext cx="9118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81160" y="620640"/>
            <a:ext cx="64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21280" y="198900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玲玲的画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00080" y="714240"/>
            <a:ext cx="76201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　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jī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动脑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筋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33520" y="30492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好多事情并不像我们想象的那么糟。只要肯动脑筋，</a:t>
            </a:r>
            <a:r>
              <a:rPr b="1" lang="zh-CN" sz="8000" spc="-1" strike="noStrike">
                <a:solidFill>
                  <a:srgbClr val="a42b22"/>
                </a:solidFill>
                <a:latin typeface="Times New Roman"/>
              </a:rPr>
              <a:t>坏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往往能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变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成</a:t>
            </a:r>
            <a:r>
              <a:rPr b="1" lang="zh-CN" sz="8000" spc="-1" strike="noStrike">
                <a:solidFill>
                  <a:srgbClr val="a42b22"/>
                </a:solidFill>
                <a:latin typeface="Times New Roman"/>
              </a:rPr>
              <a:t>好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5"/>
          <p:cNvSpPr/>
          <p:nvPr/>
        </p:nvSpPr>
        <p:spPr>
          <a:xfrm>
            <a:off x="140328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4495680" y="0"/>
            <a:ext cx="4496040" cy="4495680"/>
          </a:xfrm>
          <a:prstGeom prst="cloudCallout">
            <a:avLst>
              <a:gd name="adj1" fmla="val -51129"/>
              <a:gd name="adj2" fmla="val 1214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玲玲————说：“我的画弄脏了，另画一张也来不及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Object 4" descr=""/>
          <p:cNvPicPr/>
          <p:nvPr/>
        </p:nvPicPr>
        <p:blipFill>
          <a:blip r:embed="rId2"/>
          <a:stretch/>
        </p:blipFill>
        <p:spPr>
          <a:xfrm>
            <a:off x="15840" y="115920"/>
            <a:ext cx="44355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ject 2" descr=""/>
          <p:cNvPicPr/>
          <p:nvPr/>
        </p:nvPicPr>
        <p:blipFill>
          <a:blip r:embed="rId2"/>
          <a:stretch/>
        </p:blipFill>
        <p:spPr>
          <a:xfrm>
            <a:off x="250920" y="344520"/>
            <a:ext cx="4190760" cy="6172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867280" y="1066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876920" y="457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玲玲想了想，拿起笔，在弄脏的地方画了一只小花狗。小狗懒洋洋的趴在楼梯上。玲玲满意地笑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6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6477120" cy="3898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762120" y="44197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在第二天的评奖会上，玲玲的画得了一等奖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357120" y="785880"/>
            <a:ext cx="84582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　玲玲的画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肯　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　楼　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叭　玲　狗　糟　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Object 0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:\刘玉静上缴学校课件\PIC_77~1.JPG"/>
          <p:cNvPicPr/>
          <p:nvPr/>
        </p:nvPicPr>
        <p:blipFill>
          <a:blip r:embed="rId3"/>
          <a:stretch/>
        </p:blipFill>
        <p:spPr>
          <a:xfrm>
            <a:off x="457200" y="0"/>
            <a:ext cx="8153280" cy="6719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914400" y="228600"/>
            <a:ext cx="769608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líng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ling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玲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玲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95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572-FC90-4123-A58E-6A1EB8C971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143000" y="380880"/>
            <a:ext cx="655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xiáng       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端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详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571760" y="714240"/>
            <a:ext cx="6476760" cy="11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fú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　　  　　　　　   这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幅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609480"/>
            <a:ext cx="8458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jiǎn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评  奖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451640" y="55404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838080" y="304920"/>
            <a:ext cx="769644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cuī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催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70160" y="17316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09480" y="533520"/>
            <a:ext cx="7925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zān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弄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43000" y="990720"/>
            <a:ext cx="6959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0000"/>
                </a:solidFill>
                <a:latin typeface="Times New Roman"/>
              </a:rPr>
              <a:t>bā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Times New Roman"/>
              </a:rPr>
              <a:t>叭</a:t>
            </a:r>
            <a:r>
              <a:rPr b="0" lang="zh-CN" sz="13000" spc="-1" strike="noStrike">
                <a:solidFill>
                  <a:srgbClr val="000000"/>
                </a:solidFill>
                <a:latin typeface="Times New Roman"/>
              </a:rPr>
              <a:t>的一下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6:38:53Z</dcterms:created>
  <dc:creator/>
  <dc:description/>
  <cp:keywords>幻灯片之家 http:/www.eeppt.com</cp:keywords>
  <dc:language>en-US</dc:language>
  <cp:lastModifiedBy/>
  <dcterms:modified xsi:type="dcterms:W3CDTF">2015-07-04T06:02:40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