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B99-7BC0-456B-A447-E48BE4BA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DEC-602C-471D-8056-B447CC6C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A64-12F8-4749-A011-48449BA3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B67-C417-4D54-80D2-CA54C2A7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5400-E72C-48CD-A0DA-8BE2B4E0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D264-5214-49F2-ACCE-32B3CAF7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B2C4-F4C4-451F-A4EE-A0B211D1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3207-3D5C-43D2-8E97-2425A9F7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0305-AACA-49E3-81EB-CA3AF3CF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ECA9-73F0-4745-BED3-2D5DF59A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410A-5B2C-451D-A687-031B308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6FD-E5C5-4C3D-A916-F384EB70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8585-5D50-464F-8ECA-3F84048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ACB6-54AB-4FCC-9D21-4F3A7C5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340E-843D-4530-9B44-627DA1FD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A56F-42EE-46AE-A22A-DA5DBAF6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B060-E8DB-4A62-8B66-14D46FA8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69F-06F8-46C8-93BF-286951B4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1E9-867D-4383-A3E0-127913AE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416-68B1-444A-A7B1-097C1094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B4D-F304-40D1-A674-337CD140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B7D-C06B-4ECA-BFC2-C0A43F3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9B9-6496-4B18-B2E0-EA74CFB3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8D5-D702-4E7A-A9D4-C0EDCFCF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AEDF-8791-42D6-8DCB-822FACCEB3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216C-8430-4F96-BF0E-91F2D16935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B1FF-B533-4038-96EA-2FA09AABE6B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74B2-7151-46DE-995E-9BC9C157CB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26480" y="228600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55309"/>
                </a:solidFill>
                <a:latin typeface="微软雅黑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790560" y="3181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856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133720" y="159084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828800" y="1471680"/>
            <a:ext cx="685800" cy="685800"/>
          </a:xfrm>
          <a:prstGeom prst="diamond">
            <a:avLst/>
          </a:prstGeom>
          <a:solidFill>
            <a:srgbClr val="74a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666880" y="1646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992240" y="1569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133720" y="242892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a5644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828800" y="2309760"/>
            <a:ext cx="685800" cy="685800"/>
          </a:xfrm>
          <a:prstGeom prst="diamond">
            <a:avLst/>
          </a:prstGeom>
          <a:solidFill>
            <a:srgbClr val="a5644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666880" y="24843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992240" y="2408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2133720" y="32670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1828800" y="3147840"/>
            <a:ext cx="685800" cy="685800"/>
          </a:xfrm>
          <a:prstGeom prst="diamond">
            <a:avLst/>
          </a:prstGeom>
          <a:solidFill>
            <a:srgbClr val="f0a22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666880" y="3322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992240" y="32464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6"/>
          <p:cNvSpPr/>
          <p:nvPr/>
        </p:nvSpPr>
        <p:spPr>
          <a:xfrm>
            <a:off x="2131920" y="4148280"/>
            <a:ext cx="4953240" cy="457200"/>
          </a:xfrm>
          <a:prstGeom prst="roundRect">
            <a:avLst>
              <a:gd name="adj" fmla="val 16667"/>
            </a:avLst>
          </a:prstGeom>
          <a:solidFill>
            <a:srgbClr val="ffc42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1827360" y="4029120"/>
            <a:ext cx="685800" cy="685800"/>
          </a:xfrm>
          <a:prstGeom prst="diamond">
            <a:avLst/>
          </a:prstGeom>
          <a:solidFill>
            <a:srgbClr val="ffc42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665440" y="4203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990800" y="4127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76320" y="4900680"/>
            <a:ext cx="4697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4670280" y="2286000"/>
            <a:ext cx="3353040" cy="2286000"/>
          </a:xfrm>
          <a:prstGeom prst="roundRect">
            <a:avLst>
              <a:gd name="adj" fmla="val 10343"/>
            </a:avLst>
          </a:prstGeom>
          <a:solidFill>
            <a:srgbClr val="ffffff"/>
          </a:solidFill>
          <a:ln w="507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143000" y="2286000"/>
            <a:ext cx="3352680" cy="2286000"/>
          </a:xfrm>
          <a:prstGeom prst="roundRect">
            <a:avLst>
              <a:gd name="adj" fmla="val 10343"/>
            </a:avLst>
          </a:prstGeom>
          <a:solidFill>
            <a:srgbClr val="ffffff"/>
          </a:solidFill>
          <a:ln w="50760">
            <a:solidFill>
              <a:srgbClr val="ffc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3733920" y="1447920"/>
            <a:ext cx="790560" cy="1976400"/>
            <a:chOff x="3733920" y="1447920"/>
            <a:chExt cx="790560" cy="1976400"/>
          </a:xfrm>
        </p:grpSpPr>
        <p:sp>
          <p:nvSpPr>
            <p:cNvPr id="108" name="Freeform 6"/>
            <p:cNvSpPr/>
            <p:nvPr/>
          </p:nvSpPr>
          <p:spPr>
            <a:xfrm>
              <a:off x="392616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c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373392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c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371600" y="251460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410080" y="2514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0"/>
          <p:cNvGrpSpPr/>
          <p:nvPr/>
        </p:nvGrpSpPr>
        <p:grpSpPr>
          <a:xfrm>
            <a:off x="4648320" y="1447920"/>
            <a:ext cx="790560" cy="1976400"/>
            <a:chOff x="4648320" y="1447920"/>
            <a:chExt cx="790560" cy="1976400"/>
          </a:xfrm>
        </p:grpSpPr>
        <p:sp>
          <p:nvSpPr>
            <p:cNvPr id="113" name="Freeform 11"/>
            <p:cNvSpPr/>
            <p:nvPr/>
          </p:nvSpPr>
          <p:spPr>
            <a:xfrm>
              <a:off x="484056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464832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4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7" name="AutoShape 5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8" name="AutoShape 6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sp>
        <p:nvSpPr>
          <p:cNvPr id="119" name="AutoShape 7"/>
          <p:cNvSpPr/>
          <p:nvPr/>
        </p:nvSpPr>
        <p:spPr>
          <a:xfrm>
            <a:off x="6194520" y="1987560"/>
            <a:ext cx="2012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ff"/>
              </a:gs>
              <a:gs pos="50000">
                <a:srgbClr val="2287a9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274920" y="1971720"/>
            <a:ext cx="19623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ff"/>
              </a:gs>
              <a:gs pos="50000">
                <a:srgbClr val="2287a9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5446800" y="1255680"/>
            <a:ext cx="20527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6c8c"/>
              </a:gs>
              <a:gs pos="50000">
                <a:srgbClr val="87485d"/>
              </a:gs>
              <a:gs pos="100000">
                <a:srgbClr val="cc6c8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10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3" name="AutoShape 11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AutoShape 12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5" name="AutoShape 13"/>
          <p:cNvCxnSpPr/>
          <p:nvPr/>
        </p:nvCxnSpPr>
        <p:spPr>
          <a:xfrm>
            <a:off x="6792480" y="1101240"/>
            <a:ext cx="252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</a:ln>
        </p:spPr>
      </p:cxnSp>
      <p:cxnSp>
        <p:nvCxnSpPr>
          <p:cNvPr id="126" name="AutoShape 14"/>
          <p:cNvCxnSpPr/>
          <p:nvPr/>
        </p:nvCxnSpPr>
        <p:spPr>
          <a:xfrm>
            <a:off x="6792480" y="1101240"/>
            <a:ext cx="252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</a:ln>
        </p:spPr>
      </p:cxnSp>
      <p:sp>
        <p:nvSpPr>
          <p:cNvPr id="127" name="AutoShape 15"/>
          <p:cNvSpPr/>
          <p:nvPr/>
        </p:nvSpPr>
        <p:spPr>
          <a:xfrm>
            <a:off x="884160" y="304632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0" y="0"/>
                </a:moveTo>
                <a:arcTo wR="2310" hR="2310" stAng="16200000" swAng="-5400000"/>
                <a:lnTo>
                  <a:pt x="0" y="25024"/>
                </a:lnTo>
                <a:arcTo wR="2310" hR="2310" stAng="10800000" swAng="-5400000"/>
                <a:lnTo>
                  <a:pt x="19290" y="27334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2373480" y="3036960"/>
            <a:ext cx="1374480" cy="1739880"/>
          </a:xfrm>
          <a:custGeom>
            <a:avLst/>
            <a:gdLst>
              <a:gd name="textAreaLeft" fmla="*/ 42840 w 1374480"/>
              <a:gd name="textAreaRight" fmla="*/ 1331640 w 137448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41">
                <a:moveTo>
                  <a:pt x="2310" y="0"/>
                </a:moveTo>
                <a:arcTo wR="2310" hR="2310" stAng="16200000" swAng="-5400000"/>
                <a:lnTo>
                  <a:pt x="0" y="25031"/>
                </a:lnTo>
                <a:arcTo wR="2310" hR="2310" stAng="10800000" swAng="-5400000"/>
                <a:lnTo>
                  <a:pt x="19290" y="27341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3871800" y="303696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0" y="0"/>
                </a:moveTo>
                <a:arcTo wR="2310" hR="2310" stAng="16200000" swAng="-5400000"/>
                <a:lnTo>
                  <a:pt x="0" y="25024"/>
                </a:lnTo>
                <a:arcTo wR="2310" hR="2310" stAng="10800000" swAng="-5400000"/>
                <a:lnTo>
                  <a:pt x="19290" y="27334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5361120" y="302724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0" y="0"/>
                </a:moveTo>
                <a:arcTo wR="2310" hR="2310" stAng="16200000" swAng="-5400000"/>
                <a:lnTo>
                  <a:pt x="0" y="25059"/>
                </a:lnTo>
                <a:arcTo wR="2310" hR="2310" stAng="10800000" swAng="-5400000"/>
                <a:lnTo>
                  <a:pt x="19290" y="27369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6850080" y="303696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0" y="0"/>
                </a:moveTo>
                <a:arcTo wR="2310" hR="2310" stAng="16200000" swAng="-5400000"/>
                <a:lnTo>
                  <a:pt x="0" y="25059"/>
                </a:lnTo>
                <a:arcTo wR="2310" hR="2310" stAng="10800000" swAng="-5400000"/>
                <a:lnTo>
                  <a:pt x="19290" y="27369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2354400" y="299880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3862440" y="299880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/>
          <p:cNvSpPr/>
          <p:nvPr/>
        </p:nvSpPr>
        <p:spPr>
          <a:xfrm>
            <a:off x="5330880" y="299880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6819840" y="299880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/>
          <p:cNvSpPr/>
          <p:nvPr/>
        </p:nvSpPr>
        <p:spPr>
          <a:xfrm>
            <a:off x="865080" y="2998800"/>
            <a:ext cx="14083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5"/>
          <p:cNvSpPr/>
          <p:nvPr/>
        </p:nvSpPr>
        <p:spPr>
          <a:xfrm>
            <a:off x="1990800" y="2720880"/>
            <a:ext cx="5952960" cy="38160"/>
          </a:xfrm>
          <a:custGeom>
            <a:avLst/>
            <a:gdLst>
              <a:gd name="textAreaLeft" fmla="*/ 0 w 5952960"/>
              <a:gd name="textAreaRight" fmla="*/ 5953320 w 5952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26"/>
          <p:cNvCxnSpPr>
            <a:stCxn id="136" idx="0"/>
            <a:endCxn id="137" idx="5"/>
          </p:cNvCxnSpPr>
          <p:nvPr/>
        </p:nvCxnSpPr>
        <p:spPr>
          <a:xfrm flipV="1">
            <a:off x="1569600" y="2720880"/>
            <a:ext cx="421560" cy="2782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39" name="AutoShape 27"/>
          <p:cNvCxnSpPr>
            <a:stCxn id="132" idx="0"/>
            <a:endCxn id="137" idx="6"/>
          </p:cNvCxnSpPr>
          <p:nvPr/>
        </p:nvCxnSpPr>
        <p:spPr>
          <a:xfrm flipV="1">
            <a:off x="3058920" y="2739240"/>
            <a:ext cx="4179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0" name="AutoShape 28"/>
          <p:cNvCxnSpPr>
            <a:stCxn id="133" idx="0"/>
            <a:endCxn id="137" idx="7"/>
          </p:cNvCxnSpPr>
          <p:nvPr/>
        </p:nvCxnSpPr>
        <p:spPr>
          <a:xfrm flipV="1">
            <a:off x="4567320" y="2739240"/>
            <a:ext cx="4053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1" name="AutoShape 29"/>
          <p:cNvCxnSpPr>
            <a:stCxn id="134" idx="0"/>
            <a:endCxn id="137" idx="8"/>
          </p:cNvCxnSpPr>
          <p:nvPr/>
        </p:nvCxnSpPr>
        <p:spPr>
          <a:xfrm flipV="1">
            <a:off x="6035760" y="2758680"/>
            <a:ext cx="403920" cy="2404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2" name="AutoShape 30"/>
          <p:cNvCxnSpPr>
            <a:stCxn id="135" idx="0"/>
            <a:endCxn id="137" idx="9"/>
          </p:cNvCxnSpPr>
          <p:nvPr/>
        </p:nvCxnSpPr>
        <p:spPr>
          <a:xfrm flipV="1">
            <a:off x="7524720" y="2739240"/>
            <a:ext cx="4197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3" name="AutoShape 31"/>
          <p:cNvCxnSpPr>
            <a:stCxn id="137" idx="10"/>
            <a:endCxn id="121" idx="2"/>
          </p:cNvCxnSpPr>
          <p:nvPr/>
        </p:nvCxnSpPr>
        <p:spPr>
          <a:xfrm flipV="1">
            <a:off x="4971960" y="1666440"/>
            <a:ext cx="1502640" cy="107352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4" name="AutoShape 32"/>
          <p:cNvCxnSpPr>
            <a:stCxn id="120" idx="3"/>
            <a:endCxn id="119" idx="1"/>
          </p:cNvCxnSpPr>
          <p:nvPr/>
        </p:nvCxnSpPr>
        <p:spPr>
          <a:xfrm>
            <a:off x="5236920" y="2178000"/>
            <a:ext cx="957960" cy="16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625760" y="171360"/>
            <a:ext cx="6160680" cy="5329080"/>
            <a:chOff x="1625760" y="171360"/>
            <a:chExt cx="6160680" cy="5329080"/>
          </a:xfrm>
        </p:grpSpPr>
        <p:sp>
          <p:nvSpPr>
            <p:cNvPr id="147" name="AutoShape 4"/>
            <p:cNvSpPr/>
            <p:nvPr/>
          </p:nvSpPr>
          <p:spPr>
            <a:xfrm>
              <a:off x="4035960" y="315972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3522600" y="362592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e5530"/>
                </a:gs>
                <a:gs pos="100000">
                  <a:srgbClr val="1fb7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Automation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Network 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"/>
            <p:cNvSpPr/>
            <p:nvPr/>
          </p:nvSpPr>
          <p:spPr>
            <a:xfrm>
              <a:off x="1625760" y="228348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4035960" y="1751400"/>
              <a:ext cx="1875960" cy="18745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8"/>
            <p:cNvSpPr/>
            <p:nvPr/>
          </p:nvSpPr>
          <p:spPr>
            <a:xfrm>
              <a:off x="2039040" y="2283480"/>
              <a:ext cx="18759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9"/>
            <p:cNvSpPr/>
            <p:nvPr/>
          </p:nvSpPr>
          <p:spPr>
            <a:xfrm>
              <a:off x="3522600" y="228348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M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"/>
            <p:cNvSpPr/>
            <p:nvPr/>
          </p:nvSpPr>
          <p:spPr>
            <a:xfrm>
              <a:off x="5172480" y="204588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I System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I Develop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912280" y="204588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2"/>
            <p:cNvSpPr/>
            <p:nvPr/>
          </p:nvSpPr>
          <p:spPr>
            <a:xfrm>
              <a:off x="3667680" y="75240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7618"/>
                </a:gs>
                <a:gs pos="100000">
                  <a:srgbClr val="99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3"/>
            <p:cNvSpPr/>
            <p:nvPr/>
          </p:nvSpPr>
          <p:spPr>
            <a:xfrm>
              <a:off x="3667680" y="17136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99ff33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2746440" y="1042920"/>
            <a:ext cx="4600440" cy="922320"/>
          </a:xfrm>
          <a:prstGeom prst="rect">
            <a:avLst/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973240" y="1965240"/>
            <a:ext cx="4600800" cy="944640"/>
          </a:xfrm>
          <a:prstGeom prst="rect">
            <a:avLst/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753000" y="2903400"/>
            <a:ext cx="4600440" cy="917640"/>
          </a:xfrm>
          <a:prstGeom prst="rect">
            <a:avLst/>
          </a:prstGeom>
          <a:gradFill rotWithShape="0">
            <a:gsLst>
              <a:gs pos="0">
                <a:srgbClr val="004f6b"/>
              </a:gs>
              <a:gs pos="100000">
                <a:srgbClr val="00a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680000" y="3821040"/>
            <a:ext cx="3962520" cy="1524240"/>
          </a:xfrm>
          <a:prstGeom prst="rect">
            <a:avLst/>
          </a:prstGeom>
          <a:gradFill rotWithShape="0">
            <a:gsLst>
              <a:gs pos="0">
                <a:srgbClr val="004c67"/>
              </a:gs>
              <a:gs pos="100000">
                <a:srgbClr val="00a4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425520" y="5357880"/>
            <a:ext cx="82170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168560" y="3833640"/>
            <a:ext cx="6786360" cy="180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562040" y="2909880"/>
            <a:ext cx="5803920" cy="144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2028960" y="1967040"/>
            <a:ext cx="4765680" cy="144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0"/>
          <p:cNvSpPr/>
          <p:nvPr/>
        </p:nvSpPr>
        <p:spPr>
          <a:xfrm>
            <a:off x="1168560" y="3821040"/>
            <a:ext cx="3687480" cy="549360"/>
          </a:xfrm>
          <a:custGeom>
            <a:avLst/>
            <a:gdLst>
              <a:gd name="textAreaLeft" fmla="*/ 0 w 3687480"/>
              <a:gd name="textAreaRight" fmla="*/ 3687840 w 368748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208" h="303">
                <a:moveTo>
                  <a:pt x="0" y="298"/>
                </a:moveTo>
                <a:lnTo>
                  <a:pt x="1979" y="302"/>
                </a:lnTo>
                <a:lnTo>
                  <a:pt x="2207" y="0"/>
                </a:lnTo>
                <a:lnTo>
                  <a:pt x="690" y="28"/>
                </a:lnTo>
                <a:lnTo>
                  <a:pt x="0" y="298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"/>
          <p:cNvSpPr/>
          <p:nvPr/>
        </p:nvSpPr>
        <p:spPr>
          <a:xfrm>
            <a:off x="3906720" y="2894040"/>
            <a:ext cx="863640" cy="1330200"/>
          </a:xfrm>
          <a:custGeom>
            <a:avLst/>
            <a:gdLst>
              <a:gd name="textAreaLeft" fmla="*/ 0 w 863640"/>
              <a:gd name="textAreaRight" fmla="*/ 864000 w 86364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516" h="732">
                <a:moveTo>
                  <a:pt x="0" y="201"/>
                </a:moveTo>
                <a:lnTo>
                  <a:pt x="294" y="731"/>
                </a:lnTo>
                <a:lnTo>
                  <a:pt x="515" y="444"/>
                </a:lnTo>
                <a:lnTo>
                  <a:pt x="156" y="0"/>
                </a:lnTo>
                <a:lnTo>
                  <a:pt x="0" y="20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"/>
          <p:cNvSpPr/>
          <p:nvPr/>
        </p:nvSpPr>
        <p:spPr>
          <a:xfrm>
            <a:off x="1695600" y="2903400"/>
            <a:ext cx="2471760" cy="35892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481" h="197">
                <a:moveTo>
                  <a:pt x="0" y="196"/>
                </a:moveTo>
                <a:lnTo>
                  <a:pt x="1329" y="196"/>
                </a:lnTo>
                <a:lnTo>
                  <a:pt x="1480" y="0"/>
                </a:lnTo>
                <a:lnTo>
                  <a:pt x="367" y="3"/>
                </a:lnTo>
                <a:lnTo>
                  <a:pt x="0" y="196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3"/>
          <p:cNvSpPr/>
          <p:nvPr/>
        </p:nvSpPr>
        <p:spPr>
          <a:xfrm>
            <a:off x="1235160" y="3252960"/>
            <a:ext cx="3181320" cy="96336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906" h="530">
                <a:moveTo>
                  <a:pt x="0" y="529"/>
                </a:moveTo>
                <a:lnTo>
                  <a:pt x="1905" y="529"/>
                </a:lnTo>
                <a:lnTo>
                  <a:pt x="1606" y="0"/>
                </a:lnTo>
                <a:lnTo>
                  <a:pt x="282" y="0"/>
                </a:lnTo>
                <a:lnTo>
                  <a:pt x="0" y="529"/>
                </a:lnTo>
              </a:path>
            </a:pathLst>
          </a:cu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4"/>
          <p:cNvSpPr/>
          <p:nvPr/>
        </p:nvSpPr>
        <p:spPr>
          <a:xfrm>
            <a:off x="2246400" y="1973160"/>
            <a:ext cx="1220760" cy="1875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734" h="104">
                <a:moveTo>
                  <a:pt x="0" y="100"/>
                </a:moveTo>
                <a:lnTo>
                  <a:pt x="652" y="103"/>
                </a:lnTo>
                <a:lnTo>
                  <a:pt x="733" y="0"/>
                </a:lnTo>
                <a:lnTo>
                  <a:pt x="180" y="0"/>
                </a:lnTo>
                <a:lnTo>
                  <a:pt x="0" y="100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1760400" y="2155680"/>
            <a:ext cx="2068560" cy="979560"/>
          </a:xfrm>
          <a:custGeom>
            <a:avLst/>
            <a:gdLst>
              <a:gd name="textAreaLeft" fmla="*/ 0 w 2068560"/>
              <a:gd name="textAreaRight" fmla="*/ 2068920 w 20685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239" h="538">
                <a:moveTo>
                  <a:pt x="0" y="537"/>
                </a:moveTo>
                <a:lnTo>
                  <a:pt x="1238" y="537"/>
                </a:lnTo>
                <a:lnTo>
                  <a:pt x="950" y="0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6"/>
          <p:cNvSpPr/>
          <p:nvPr/>
        </p:nvSpPr>
        <p:spPr>
          <a:xfrm>
            <a:off x="2301840" y="1042920"/>
            <a:ext cx="982800" cy="978120"/>
          </a:xfrm>
          <a:custGeom>
            <a:avLst/>
            <a:gdLst>
              <a:gd name="textAreaLeft" fmla="*/ 0 w 982800"/>
              <a:gd name="textAreaRight" fmla="*/ 983160 w 98280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587" h="537">
                <a:moveTo>
                  <a:pt x="0" y="533"/>
                </a:moveTo>
                <a:lnTo>
                  <a:pt x="586" y="536"/>
                </a:lnTo>
                <a:lnTo>
                  <a:pt x="283" y="0"/>
                </a:lnTo>
                <a:lnTo>
                  <a:pt x="0" y="533"/>
                </a:lnTo>
              </a:path>
            </a:pathLst>
          </a:cu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7"/>
          <p:cNvSpPr/>
          <p:nvPr/>
        </p:nvSpPr>
        <p:spPr>
          <a:xfrm>
            <a:off x="3336840" y="1965240"/>
            <a:ext cx="733680" cy="1162080"/>
          </a:xfrm>
          <a:custGeom>
            <a:avLst/>
            <a:gdLst>
              <a:gd name="textAreaLeft" fmla="*/ 0 w 733680"/>
              <a:gd name="textAreaRight" fmla="*/ 734040 w 73368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39" h="638">
                <a:moveTo>
                  <a:pt x="289" y="637"/>
                </a:moveTo>
                <a:lnTo>
                  <a:pt x="438" y="441"/>
                </a:lnTo>
                <a:lnTo>
                  <a:pt x="79" y="0"/>
                </a:lnTo>
                <a:lnTo>
                  <a:pt x="0" y="96"/>
                </a:lnTo>
                <a:lnTo>
                  <a:pt x="289" y="637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8"/>
          <p:cNvSpPr/>
          <p:nvPr/>
        </p:nvSpPr>
        <p:spPr>
          <a:xfrm>
            <a:off x="692280" y="4365720"/>
            <a:ext cx="4268520" cy="979560"/>
          </a:xfrm>
          <a:custGeom>
            <a:avLst/>
            <a:gdLst>
              <a:gd name="textAreaLeft" fmla="*/ 0 w 4268520"/>
              <a:gd name="textAreaRight" fmla="*/ 4268880 w 426852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557" h="538">
                <a:moveTo>
                  <a:pt x="0" y="537"/>
                </a:moveTo>
                <a:lnTo>
                  <a:pt x="2556" y="536"/>
                </a:lnTo>
                <a:lnTo>
                  <a:pt x="2262" y="1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9"/>
          <p:cNvSpPr/>
          <p:nvPr/>
        </p:nvSpPr>
        <p:spPr>
          <a:xfrm>
            <a:off x="4459320" y="3830760"/>
            <a:ext cx="1020600" cy="151920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612" h="836">
                <a:moveTo>
                  <a:pt x="302" y="835"/>
                </a:moveTo>
                <a:lnTo>
                  <a:pt x="611" y="476"/>
                </a:lnTo>
                <a:lnTo>
                  <a:pt x="226" y="0"/>
                </a:lnTo>
                <a:lnTo>
                  <a:pt x="0" y="302"/>
                </a:lnTo>
                <a:lnTo>
                  <a:pt x="302" y="835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0"/>
          <p:cNvSpPr/>
          <p:nvPr/>
        </p:nvSpPr>
        <p:spPr>
          <a:xfrm>
            <a:off x="2770200" y="1042920"/>
            <a:ext cx="604800" cy="973080"/>
          </a:xfrm>
          <a:custGeom>
            <a:avLst/>
            <a:gdLst>
              <a:gd name="textAreaLeft" fmla="*/ 0 w 604800"/>
              <a:gd name="textAreaRight" fmla="*/ 604800 w 60480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64" h="535">
                <a:moveTo>
                  <a:pt x="296" y="534"/>
                </a:moveTo>
                <a:lnTo>
                  <a:pt x="363" y="445"/>
                </a:lnTo>
                <a:lnTo>
                  <a:pt x="0" y="0"/>
                </a:lnTo>
                <a:lnTo>
                  <a:pt x="296" y="534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760400" y="4651200"/>
            <a:ext cx="2919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hannel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695600" y="3605040"/>
            <a:ext cx="2792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Value Chai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2362320" y="1654200"/>
            <a:ext cx="133488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695600" y="2479680"/>
            <a:ext cx="2249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5299200" y="4013280"/>
            <a:ext cx="27194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소액 투자로 다소의 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온라인상에서 고객의 행동을 학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4749840" y="3008160"/>
            <a:ext cx="2719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비용 절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공급업체와의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Win-Win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관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005360" y="2065320"/>
            <a:ext cx="37875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가치 창출 활동에 집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제품 및 서비스의 재구성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(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예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: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개별화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최초 진입자의 이익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,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시장 지배 사업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3375000" y="1360440"/>
            <a:ext cx="2719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핵심역량 및 경쟁력의 확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 flipV="1">
            <a:off x="425520" y="1042920"/>
            <a:ext cx="2041560" cy="4314960"/>
          </a:xfrm>
          <a:prstGeom prst="line">
            <a:avLst/>
          </a:prstGeom>
          <a:ln w="9360">
            <a:solidFill>
              <a:srgbClr val="5f5f5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451-107D-498B-B156-8CA3C3B6A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5:47:00Z</dcterms:created>
  <dc:creator/>
  <dc:description/>
  <dc:language>en-US</dc:language>
  <cp:lastModifiedBy>ABC</cp:lastModifiedBy>
  <dcterms:modified xsi:type="dcterms:W3CDTF">2015-07-21T03:56:58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