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D5C-D623-4F73-831C-240E24E4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DDD-30BD-4D9D-A099-81DECB6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791-78B2-4310-8565-FC9A2147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5F8-61A9-4C51-AB8C-5E0E3142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B6F-61A1-41D2-86EA-D8A98340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926-6C24-4581-9A4E-452D986E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586-235D-499F-A5D2-51CF3508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0FD-380B-4ADF-936F-1AAF7FDB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C12-2BA6-47E2-9757-3E9F6221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0D5-42F8-4AB1-A8FD-9BE8363E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B6B-8071-49D0-B7A0-89263AA1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9E7-4137-473E-AAA8-CE1288E4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006B-E8AD-4E65-9D5B-E3FF66117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a2da23740760ef6dfacc67480cf21b27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052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小柳树和小枣树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68360" y="3500280"/>
            <a:ext cx="3743280" cy="2737080"/>
          </a:xfrm>
          <a:prstGeom prst="wedgeRectCallout">
            <a:avLst>
              <a:gd name="adj1" fmla="val 83842"/>
              <a:gd name="adj2" fmla="val 2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你虽然不会结枣子，可是一到春天，你就发芽长叶，比我绿得早；到了秋天，你比我落叶晚。再说，你长得也比我快，等你长大了，人们在树阴下乘凉，那多好啊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6524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5148360" y="836640"/>
            <a:ext cx="34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小柳树的腰细细的，树枝绿绿的，真好看</a:t>
            </a:r>
            <a:r>
              <a:rPr b="0" lang="zh-CN" sz="2400" spc="-1" strike="noStrike">
                <a:solidFill>
                  <a:srgbClr val="0066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148360" y="2060640"/>
            <a:ext cx="33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春天，小柳树发芽儿了。过了几天，小柳树的芽儿变成小叶子，她穿上一身浅绿色的衣服，真美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292720" y="43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这时候，小柳树的叶子已经长得又细又长了。她在微风里得意地跳起舞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303120" y="189000"/>
            <a:ext cx="46720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85F-0025-4A74-8CFE-877B6E9372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267702453194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未标题-2"/>
          <p:cNvPicPr/>
          <p:nvPr/>
        </p:nvPicPr>
        <p:blipFill>
          <a:blip r:embed="rId2"/>
          <a:stretch/>
        </p:blipFill>
        <p:spPr>
          <a:xfrm>
            <a:off x="5867280" y="476280"/>
            <a:ext cx="3154320" cy="5689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042920" y="1197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24000" y="620640"/>
            <a:ext cx="28796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小柳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小柳树的腰细细的，树枝绿绿的，真好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春天，小柳树发芽儿了。过了几天，小柳树的芽儿变成小叶子，她穿上一身浅绿色的衣服，真美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又过了好些日子，小柳树的叶子已经长得又细又长了。她在微风里得意地跳起舞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276720" y="692280"/>
            <a:ext cx="2447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小枣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树枝弯弯曲曲的，一点儿也不好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枣树还是光秃秃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枣树才长出了小小的叶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D8B-AFFB-44E9-8BDA-20039B3C92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W020070712334842180335"/>
          <p:cNvPicPr/>
          <p:nvPr/>
        </p:nvPicPr>
        <p:blipFill>
          <a:blip r:embed="rId2"/>
          <a:stretch/>
        </p:blipFill>
        <p:spPr>
          <a:xfrm>
            <a:off x="0" y="341280"/>
            <a:ext cx="8964720" cy="6337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2340000" y="620640"/>
            <a:ext cx="2592360" cy="1656000"/>
          </a:xfrm>
          <a:prstGeom prst="wedgeRoundRectCallout">
            <a:avLst>
              <a:gd name="adj1" fmla="val -66597"/>
              <a:gd name="adj2" fmla="val 1321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喂，小枣树，你的树枝多难看哪！你看我，多漂亮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2124000" y="5373720"/>
            <a:ext cx="3384720" cy="1295280"/>
          </a:xfrm>
          <a:prstGeom prst="wedgeRoundRectCallout">
            <a:avLst>
              <a:gd name="adj1" fmla="val -57365"/>
              <a:gd name="adj2" fmla="val -105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喂，小枣树，你怎么不长叶子呀？你看我，多漂亮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1ObX08rswcsy_HaIu4AZdM686"/>
          <p:cNvPicPr/>
          <p:nvPr/>
        </p:nvPicPr>
        <p:blipFill>
          <a:blip r:embed="rId2"/>
          <a:stretch/>
        </p:blipFill>
        <p:spPr>
          <a:xfrm>
            <a:off x="212400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5:42:08Z</dcterms:created>
  <dc:creator/>
  <dc:description/>
  <cp:keywords>幻灯片之家 http:/www.eeppt.com</cp:keywords>
  <dc:language>en-US</dc:language>
  <cp:lastModifiedBy/>
  <dcterms:modified xsi:type="dcterms:W3CDTF">2015-07-18T14:35:43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