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7E4-DD36-40B1-ABC2-92604196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CF9-A60D-429A-A603-2BE6E7B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AE9-282C-4425-8E32-D98185C8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928-251E-4093-8D50-3C5254CB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E75-40C8-471C-902C-3758C9AD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738-81D7-4728-84D7-E44896A8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800-E48C-4B7B-A06B-9C4B542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431-E5BE-45FD-B274-F32A7692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6C0-DB26-496B-9A0E-34A0CD62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28C-E47A-4F81-8DDE-A7D9636F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BD6-30B3-4342-940E-A62A6755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0C6-26F4-47B1-B8A2-2EE21751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1811-AFD8-4F6C-82D1-5F7D92A84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ic_25463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7640" y="658800"/>
            <a:ext cx="520884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00"/>
              </a:solidFill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20440" y="285264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麦哨》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生字、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4920" y="1384200"/>
            <a:ext cx="8458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湖畔   兜肚   麦穗儿   裹着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嚼嚼   肺腑   撩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80880" y="43876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剥（    ）开   吮（    ）吸直沁（    ）肺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828800" y="43876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6324480" y="43876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438280" y="50734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5105520" y="8380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838080" y="8380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2362320" y="8380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ō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7238880" y="8380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228600" y="2590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2362320" y="2666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  f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4495680" y="26668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i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  <a:ea typeface="黑体"/>
              </a:rPr>
              <a:t>多音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28"/>
          <p:cNvSpPr/>
          <p:nvPr/>
        </p:nvSpPr>
        <p:spPr>
          <a:xfrm>
            <a:off x="228600" y="14479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29"/>
          <p:cNvSpPr/>
          <p:nvPr/>
        </p:nvSpPr>
        <p:spPr>
          <a:xfrm>
            <a:off x="990720" y="12193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30"/>
          <p:cNvSpPr/>
          <p:nvPr/>
        </p:nvSpPr>
        <p:spPr>
          <a:xfrm>
            <a:off x="1447920" y="838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附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31"/>
          <p:cNvSpPr/>
          <p:nvPr/>
        </p:nvSpPr>
        <p:spPr>
          <a:xfrm>
            <a:off x="1447920" y="2133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总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32"/>
          <p:cNvSpPr/>
          <p:nvPr/>
        </p:nvSpPr>
        <p:spPr>
          <a:xfrm>
            <a:off x="4495680" y="15238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33"/>
          <p:cNvSpPr/>
          <p:nvPr/>
        </p:nvSpPr>
        <p:spPr>
          <a:xfrm>
            <a:off x="5257800" y="129528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34"/>
          <p:cNvSpPr/>
          <p:nvPr/>
        </p:nvSpPr>
        <p:spPr>
          <a:xfrm>
            <a:off x="5715000" y="9144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呼应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35"/>
          <p:cNvSpPr/>
          <p:nvPr/>
        </p:nvSpPr>
        <p:spPr>
          <a:xfrm>
            <a:off x="5715000" y="22096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ī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应该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36"/>
          <p:cNvSpPr/>
          <p:nvPr/>
        </p:nvSpPr>
        <p:spPr>
          <a:xfrm>
            <a:off x="228600" y="3886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37"/>
          <p:cNvSpPr/>
          <p:nvPr/>
        </p:nvSpPr>
        <p:spPr>
          <a:xfrm>
            <a:off x="990720" y="3657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38"/>
          <p:cNvSpPr/>
          <p:nvPr/>
        </p:nvSpPr>
        <p:spPr>
          <a:xfrm>
            <a:off x="1447920" y="3276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欢乐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39"/>
          <p:cNvSpPr/>
          <p:nvPr/>
        </p:nvSpPr>
        <p:spPr>
          <a:xfrm>
            <a:off x="1447920" y="4572000"/>
            <a:ext cx="31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yu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乐谱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40"/>
          <p:cNvSpPr/>
          <p:nvPr/>
        </p:nvSpPr>
        <p:spPr>
          <a:xfrm>
            <a:off x="4495680" y="39625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41"/>
          <p:cNvSpPr/>
          <p:nvPr/>
        </p:nvSpPr>
        <p:spPr>
          <a:xfrm>
            <a:off x="5257800" y="3733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42"/>
          <p:cNvSpPr/>
          <p:nvPr/>
        </p:nvSpPr>
        <p:spPr>
          <a:xfrm>
            <a:off x="5715000" y="3352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似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43"/>
          <p:cNvSpPr/>
          <p:nvPr/>
        </p:nvSpPr>
        <p:spPr>
          <a:xfrm>
            <a:off x="5715000" y="4648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黑体"/>
              </a:rPr>
              <a:t>相似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3810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8380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文描写的乡村孩子的生活是怎样的？从中感受到了什么？从哪些地方感受到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33520" y="3200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乡村孩子淳朴可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3520" y="3962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孩子的活动丰富多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33520" y="4800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乡间景色美丽亲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孩子的情感热烈活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85800" y="3200400"/>
            <a:ext cx="8001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380880" y="16765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那一张张</a:t>
            </a:r>
            <a:r>
              <a:rPr b="0" lang="zh-CN" sz="48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红扑扑的脸蛋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，蒙上了一层晶莹的细汗，犹如一朵朵沾</a:t>
            </a:r>
            <a:r>
              <a:rPr b="0" lang="zh-CN" sz="48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满露珠的月季花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8720" y="5518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380880" y="609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金黄的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油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花谢了，结出了密密的嫩荚；黑白相间的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蚕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花谢了，长出了小指头似的豆荚；雪白的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萝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花谢了，结出了一蓬蓬的种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85800" y="4800600"/>
            <a:ext cx="792468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是一个排比句，观察细致，蕴涵着一种丰收的喜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2B3-CEDB-4C30-8B05-45E30E3C2C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80880" y="5335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草地柔软而有弹性，比城里体育馆的垫子还要强，这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简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是一个天然的运动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09480" y="3048120"/>
            <a:ext cx="83059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直：完全如此。这里运用对比、比喻的手法形象地写出了草地的茂密、柔软，写出了作者由衷的赞叹。阅读时，要读出赞叹的语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pic_254639-1"/>
          <p:cNvPicPr/>
          <p:nvPr/>
        </p:nvPicPr>
        <p:blipFill>
          <a:blip r:embed="rId2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250920" y="33336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把你最喜欢的、感受最深的部分读给大家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6:36:00Z</dcterms:created>
  <dc:creator/>
  <dc:description/>
  <cp:keywords>幻灯片之家 http:/www.eeppt.com</cp:keywords>
  <dc:language>en-US</dc:language>
  <cp:lastModifiedBy/>
  <dcterms:modified xsi:type="dcterms:W3CDTF">2015-07-03T11:37:33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