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4DF-281E-4752-9444-6B90F0FE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7B20-32E3-439D-87DF-CE018F51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152C-F6A2-4B66-893F-3A8E0131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98B-ADB2-4B97-87C7-D01630931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9DC-43C9-4470-9DC6-2E573199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481-8C94-4394-B69A-9F52A050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8C2D-6B98-408B-8069-0E19F62B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9E3-6E37-4381-B9C4-824D06A3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157-20CC-488F-90C2-6FA8E03C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EC3F-EB64-46A9-8A70-129A6A8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E1D-6945-4F73-BB7F-D9768414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C8AE-428A-4B89-833F-5AC5A143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35E7-9F3A-4C31-86F9-DAE48B2F92F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2DC6-8C96-47CB-954D-352840ED5D0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2840" y="2665080"/>
            <a:ext cx="77724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3840" y="1138320"/>
            <a:ext cx="82342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Click to ed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ster subtitle 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88040" y="22212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美食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49280" y="68112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59660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f62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228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228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228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228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SzPct val="25000"/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228"/>
              </a:buClr>
              <a:buSzPct val="25000"/>
              <a:buFont typeface="Arial"/>
              <a:buChar char="•"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6453360"/>
            <a:ext cx="43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7400" y="374400"/>
            <a:ext cx="701676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17400" y="1137960"/>
            <a:ext cx="701676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053-3D24-4029-AF31-B8CE4FA4F2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9280" y="83340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48920" y="15444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48920" y="2172960"/>
            <a:ext cx="404028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f6128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f6128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f6128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36800" y="15444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36800" y="2172960"/>
            <a:ext cx="404172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f6128"/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f6128"/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6128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4f6128"/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6453360"/>
            <a:ext cx="439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3:40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